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C79-49F2-441D-B96C-2E581B25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6A6-B4B3-47E6-B015-E698B76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26A-E493-42F5-BCF1-EA6ED277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12F-E3C3-46D1-8BD1-BDFB3F51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FBA-657D-4F36-B939-3E28835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D0D-D363-4CC6-991F-AFDA7A64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342-7489-4205-BCAA-2E9D80A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342-27E8-4F68-94CF-ECD567D8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4DE-8BF7-4969-A375-B001397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694-D7F6-4338-8E04-3D66594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A12-B48B-454B-A765-E32E3A4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3DE-54D9-45CA-960B-7CE6682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0E4-C326-4E8F-9999-9224FF123F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991280" cy="40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БОУ школа №605 с углублённым изучением немецкого языка</a:t>
            </a: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возникновения и развития зеркального произво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5373360"/>
            <a:ext cx="33940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и: Дубина А. и Кузнецова М., 11 «А»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еребряное зеркал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е осадка сереб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2AgNO3 + 2KOH = Ag2O + 2KNO3 + H2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ворение отфильтрованного осадка в аммиачной воде с образованием гидроксида диамминсеребра(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g2O + 4NH3 + H2O = 2[Ag(NH3)2] (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становление серебра формальдегидом (серебро осаждается на погруженное в раствор стекло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2[Ag(NH3)2](OH) + HCHO = 2Ag + HCOONH4 + 3NH3 + H2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641240" cy="16621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2"/>
          <a:stretch/>
        </p:blipFill>
        <p:spPr>
          <a:xfrm>
            <a:off x="0" y="1052640"/>
            <a:ext cx="1971720" cy="2749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3"/>
          <a:stretch/>
        </p:blipFill>
        <p:spPr>
          <a:xfrm>
            <a:off x="6516720" y="2276640"/>
            <a:ext cx="2535120" cy="2565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92000" y="1403280"/>
            <a:ext cx="5948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 претерпевавшее изменения производство зеркал продолжает развив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4"/>
          <a:stretch/>
        </p:blipFill>
        <p:spPr>
          <a:xfrm>
            <a:off x="3065400" y="3370320"/>
            <a:ext cx="2106720" cy="2106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5"/>
          <a:stretch/>
        </p:blipFill>
        <p:spPr>
          <a:xfrm>
            <a:off x="108000" y="4437000"/>
            <a:ext cx="2749680" cy="2149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6"/>
          <a:stretch/>
        </p:blipFill>
        <p:spPr>
          <a:xfrm>
            <a:off x="5318280" y="5016600"/>
            <a:ext cx="2828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altpp.ru/izobretenie-izmenivshie-istoriyu-chelovechestva/zerkalo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www.c-cafe.ru/days/bio/21/liebig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www.alhimik.ru/show/show6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yandex.ru/images/?uinfo=sw-1366-sh-768-ww-1366-wh-660-pd-1-wp-16x9_1366x7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Физика.Справочник для старшеклассников и поступающих в вузы», О.Ф.Кабардин (Москва,  «Аст-Пресс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9640" y="242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 историю возникновения и развития зеркального произв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учения литературных источников и Интернет-ресурсов по данной теме; выявление связей в данной теме между историей, химией и другими на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зерка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952640" y="184932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это работа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Физика в школе изображение в плоском зеркале - рисунки из синволов"/>
          <p:cNvPicPr/>
          <p:nvPr/>
        </p:nvPicPr>
        <p:blipFill>
          <a:blip r:embed="rId1"/>
          <a:stretch/>
        </p:blipFill>
        <p:spPr>
          <a:xfrm>
            <a:off x="1116000" y="141300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0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уда начинались зерк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07920" y="1336680"/>
            <a:ext cx="2895840" cy="285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500720" y="3855960"/>
            <a:ext cx="4289400" cy="288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5811840" y="1197000"/>
            <a:ext cx="2944800" cy="2206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017720" y="41911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е зерка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ражение в в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211640" y="2762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сидиан – вулканическое стек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179880" y="636120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ир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аллические зерк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311120"/>
            <a:ext cx="83628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+ шлифовать и полировать металл намного легче, чем камен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 Не передавали цветное , чёткое изображени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 «Их поверхность без должного ухода скоро покрывалась пленкой оксидов, мутнела и утрачивала зеркальные свойств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образование оксидов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de-DE" sz="3700" spc="-1" strike="noStrike">
                <a:solidFill>
                  <a:srgbClr val="000000"/>
                </a:solidFill>
                <a:latin typeface="Calibri"/>
              </a:rPr>
              <a:t>Cu + O2=CuO2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изготов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еркал использова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u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мутне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- ржаве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- темне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реагиру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кислородо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352600" cy="2219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300720" y="622476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т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193920" y="4022640"/>
            <a:ext cx="2938680" cy="2202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598920" y="6232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2374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клянные зерк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5651640" y="3319560"/>
            <a:ext cx="29779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454800" y="571680"/>
            <a:ext cx="2517840" cy="1895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6875640" y="24922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имское зерк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>
            <a:off x="468360" y="3494160"/>
            <a:ext cx="2571840" cy="2965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4"/>
          <a:stretch/>
        </p:blipFill>
        <p:spPr>
          <a:xfrm>
            <a:off x="3052800" y="3816360"/>
            <a:ext cx="295272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"/>
          <p:cNvPicPr/>
          <p:nvPr/>
        </p:nvPicPr>
        <p:blipFill>
          <a:blip r:embed="rId5"/>
          <a:stretch/>
        </p:blipFill>
        <p:spPr>
          <a:xfrm>
            <a:off x="324000" y="3067200"/>
            <a:ext cx="853920" cy="853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6"/>
          <a:srcRect l="20082" t="11048" r="20297" b="20643"/>
          <a:stretch/>
        </p:blipFill>
        <p:spPr>
          <a:xfrm>
            <a:off x="3052800" y="3070080"/>
            <a:ext cx="995400" cy="95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108000" y="84132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дея нанесения на стекло металла появилась ещё в Древнем Риме, если не раньше. С течением времени технологии совершенствовались, претерпевали изме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843280" y="630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з чего изготавливались фламандские зерк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6119640" y="306720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теклянный ш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нециански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тутно-оловянная амальгама широко применялась для изготовления блестящей поверхности зеркал. Ядовитые пары ртути делали зеркала опасными для здоровья и жизни человека.  По этой же причине непродолжительна была жизнь мастера-стекольщ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6227640" y="2300400"/>
            <a:ext cx="3009960" cy="2004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2"/>
          <a:stretch/>
        </p:blipFill>
        <p:spPr>
          <a:xfrm>
            <a:off x="468360" y="2160720"/>
            <a:ext cx="3130560" cy="2347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3"/>
          <a:stretch/>
        </p:blipFill>
        <p:spPr>
          <a:xfrm>
            <a:off x="3059280" y="2039760"/>
            <a:ext cx="3297240" cy="2221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4"/>
          <a:stretch/>
        </p:blipFill>
        <p:spPr>
          <a:xfrm>
            <a:off x="179280" y="1587600"/>
            <a:ext cx="1211400" cy="1346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5"/>
          <a:srcRect l="13227" t="11539" r="13227" b="13807"/>
          <a:stretch/>
        </p:blipFill>
        <p:spPr>
          <a:xfrm>
            <a:off x="3024360" y="1587600"/>
            <a:ext cx="1684080" cy="1425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6262560" y="1808280"/>
            <a:ext cx="262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Листовое стек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еребряное зеркал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1640" y="1557360"/>
            <a:ext cx="4032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мецкий учёный Юстус Либих (1803-1873) предложил реакцию «серебряного зеркала» в 1858 году, до сих пор используемую в зеркальном производст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6576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20:27:59Z</dcterms:created>
  <dc:creator>папа</dc:creator>
  <dc:description/>
  <dc:language>en-US</dc:language>
  <cp:lastModifiedBy>Масяня</cp:lastModifiedBy>
  <dcterms:modified xsi:type="dcterms:W3CDTF">2014-12-03T13:01:40Z</dcterms:modified>
  <cp:revision>18</cp:revision>
  <dc:subject/>
  <dc:title>ГБОУ школа №605 с углублённым изучением немецкого языка  История возникновения и развития зеркального производства</dc:title>
</cp:coreProperties>
</file>