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A899-2734-4565-877A-41C7E7DC7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E14E-8337-4866-9997-F63AEEEC58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B227-D2BE-4144-81D5-022FFBC7EF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DD1-3BA9-47A8-94C2-ACE8B46EB6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A8D-F840-4855-9C80-C27CFB351A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B11-4DB7-4256-A432-DE90EDA5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985-BC57-4B8E-9896-501F889E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7D0-8171-471C-83CD-4F8B9B32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BD8-A5C8-4CED-91A2-DA0F6DFD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68A8-4803-41E0-8354-73FC481E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E8C-E925-4B6A-AA24-BD77F1DA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EC2D-76F0-4A30-BAE9-CA2921F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2CBD-0143-4537-AFF1-7B66E8E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159-3DC5-4D1E-9645-56DBE195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9165-7243-45D1-ADC8-C6A03E00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CEDA-0179-42BA-8FA1-87ADB4AA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85C-DC3A-4FC4-8829-8AB9D72A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149B-0D61-4B5E-A7FF-25EF0A8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E19-F526-4216-89B8-1959C58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05E5-1616-4D03-B20A-2AE883C1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3E63-6FF9-4641-8454-1A1DA2A1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7DF8-908E-4CC7-A28E-3ABF837E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C8ED-804C-4CA3-805A-FC87CFE9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07DA-4013-4B77-9158-809A595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AE78-36B2-40D9-8B17-489C79B9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1544-79D5-4351-90F0-2DB9B042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3120-B13C-494C-9218-451A591D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931-BE48-456C-8AC9-203DC24E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91D8-2CA8-46C0-BCF8-DAABBFF4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3A98-3508-49C1-9233-F9CA92F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C792-4CAA-4C3E-AC72-BBC0916D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F6F5-B8A3-4602-8A64-B2D19589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D5D2-D5C9-4217-983B-AF219D99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6AE5-EB2C-41E2-B10D-2F710FB9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64E1-1B91-4375-BB6B-88BAC99F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16AD-55E5-4FDD-8E15-D1056A82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7C5F-E590-4B57-A899-5A2F6BD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5893-D008-4BB0-A6A4-A3D993C1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CC0-1670-484D-AD9E-5C4CEE74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DF01-7AD5-43AE-85E2-073F5723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D951-21CD-4FD9-B90D-65E9F6DC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A3CC-A05E-42D9-9548-25742F4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B114-746D-4EDD-B1CE-F71166D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49B1-5E15-4E01-9819-BC6D308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38A9-D8E1-468F-A1D3-3624B23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67E3-0EAC-478F-BDEC-6F70D9F8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E995-1D02-4D39-8118-C4366A25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D93E-0374-434A-A8E9-EAA4D3AD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FD7F8-18E3-4024-A82D-49FFD8A1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AAB-C4DA-4B45-B943-C7A53C38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E5FA8-204C-4475-9CD1-FFC805C8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48B2-B79D-4A4B-A2CC-7D6153EF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0098-8DB1-4A24-A9D4-77E87929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23E3-DB13-4CA0-AF48-7D96363D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AE51-75A8-4FDD-9F1F-EE4B1864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086A-A94A-47DE-AF91-101AD628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DAD7-07E4-4AF2-93D9-709C9C0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FF88-4171-471B-9EA8-3873E5F3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2F11-7442-42D8-9C6C-97FB6FA2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F9308-0AB3-4FDC-A36C-FE50AC08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FF6-A3B4-441A-8D94-58F44FF0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0595-0111-4D1D-8C23-F4677EEA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E3C4-0498-4FBD-8751-8D96C1D5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3B160-FB12-44D0-9211-B2E51AB7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06082-A859-4B96-AA55-6DC0CA45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3A8C0-2E92-4B37-9984-70A4C5DA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4D50F-1BC4-485D-B9D9-0688E01B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4B99-93A7-49E6-A88E-E8FD1EE4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E422-31BC-4FA0-89C9-AD372650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BCAD-78F2-40EE-B2FF-9F22EFA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BE83-CFD5-4BB1-BE01-B8A7AC6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A23-3520-494B-BB0B-0BBAEE4F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D563B-FD97-4C5B-B792-9FA86DB9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2C5C1-6C52-40F6-9832-73F59185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3D8A-FA95-4D45-8017-53D1A721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0E7-F96F-4A0D-A58C-019BF732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1B3-DBE2-4B8C-A301-7F53BA2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01E7-4F82-4FBA-99C0-0D5ED1DF36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5459-FC93-481D-BD9B-69A27E866DF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B61-E692-4B7F-A1F5-85A9395AEE9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64BC-4B82-44AD-ADF4-578FEC35DFB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635C-46E7-432B-9B14-AE1267C3609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010-C70F-4371-A94C-419ED7AF6D1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6480" y="3517920"/>
            <a:ext cx="9156960" cy="920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1718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узьминова Елена Викторов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БОУ СОШ № 1 ст. Ленинградск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F:\фото1\л1.jpg"/>
          <p:cNvPicPr/>
          <p:nvPr/>
        </p:nvPicPr>
        <p:blipFill>
          <a:blip r:embed="rId2"/>
          <a:stretch/>
        </p:blipFill>
        <p:spPr>
          <a:xfrm>
            <a:off x="5956200" y="476280"/>
            <a:ext cx="23036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42920" y="1214280"/>
          <a:ext cx="8858160" cy="5426280"/>
        </p:xfrm>
        <a:graphic>
          <a:graphicData uri="http://schemas.openxmlformats.org/drawingml/2006/table">
            <a:tbl>
              <a:tblPr/>
              <a:tblGrid>
                <a:gridCol w="2601720"/>
                <a:gridCol w="2249640"/>
                <a:gridCol w="400680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26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умений работать с информацией, развитие коммуникативных способностей и исследовательских ум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ходе занятий с использованием интерактивного комплек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ИКТ можно использовать на всех этапах процесса обучения: при объяснении нового материала, закреплении, повторении, контроле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Аппаратные средства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ltimedia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позволяют создать и использовать в учебном процессе компьютерные имитации, микромиры и на их базе дидактические и развивающие игры, вызывающие особый интерес у дет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Заголовок 1"/>
          <p:cNvSpPr/>
          <p:nvPr/>
        </p:nvSpPr>
        <p:spPr>
          <a:xfrm>
            <a:off x="0" y="142920"/>
            <a:ext cx="9001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Информационно-коммуникационные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уровневое обучени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42920" y="1579680"/>
          <a:ext cx="8786880" cy="4681440"/>
        </p:xfrm>
        <a:graphic>
          <a:graphicData uri="http://schemas.openxmlformats.org/drawingml/2006/table">
            <a:tbl>
              <a:tblPr/>
              <a:tblGrid>
                <a:gridCol w="2786040"/>
                <a:gridCol w="3143160"/>
                <a:gridCol w="285768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83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интеллектуального потенциала, повышение самооценки и самореализации лич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фференцированном контро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ффективное управление и организация учебного процес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42920" y="1214280"/>
          <a:ext cx="8858160" cy="5486400"/>
        </p:xfrm>
        <a:graphic>
          <a:graphicData uri="http://schemas.openxmlformats.org/drawingml/2006/table">
            <a:tbl>
              <a:tblPr/>
              <a:tblGrid>
                <a:gridCol w="2571840"/>
                <a:gridCol w="2286000"/>
                <a:gridCol w="400032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87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критического мышления, опыта и инструментария учебной и исследовательск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проблемно-диалогических уроках в 5-11 классах, во внеуроч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витие авторской позиции ребенка в проблемной ситуации: преодоление посильных трудност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Педагог – организатор самостоятельного учебного познания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Заголовок 1"/>
          <p:cNvSpPr/>
          <p:nvPr/>
        </p:nvSpPr>
        <p:spPr>
          <a:xfrm>
            <a:off x="0" y="142920"/>
            <a:ext cx="9001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Проблемное обу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85840" y="928800"/>
          <a:ext cx="8858160" cy="5852880"/>
        </p:xfrm>
        <a:graphic>
          <a:graphicData uri="http://schemas.openxmlformats.org/drawingml/2006/table">
            <a:tbl>
              <a:tblPr/>
              <a:tblGrid>
                <a:gridCol w="2500200"/>
                <a:gridCol w="2357640"/>
                <a:gridCol w="400032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1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критического мышления, формирование коммуникативной и дискуссионной куль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6-11 классах на нетрадиционных уроках, во внеурочной деятельности, когда учащиеся обладают значительной степенью зрелости и самостоятель-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Дискуссия стимулирует инициативность учащихся, развитие рефлексивного мыш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Взаимодействие в дискуссии строится на содержательно направленной самоорганизации участ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Высокоэффективна для закрепления сведений, творческого осмысления изученного материала и формирования ценностных ориентац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Заголовок 1"/>
          <p:cNvSpPr/>
          <p:nvPr/>
        </p:nvSpPr>
        <p:spPr>
          <a:xfrm>
            <a:off x="0" y="142920"/>
            <a:ext cx="9001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ебат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42920" y="1214280"/>
          <a:ext cx="8858160" cy="5486400"/>
        </p:xfrm>
        <a:graphic>
          <a:graphicData uri="http://schemas.openxmlformats.org/drawingml/2006/table">
            <a:tbl>
              <a:tblPr/>
              <a:tblGrid>
                <a:gridCol w="2071800"/>
                <a:gridCol w="2428560"/>
                <a:gridCol w="435780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212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е принятию реш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нетрадиционных урок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Деловые и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ы создают потенциально более высокую возможность переноса знаний и опыта деятельности из учебной ситуации в реальну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озволяет учащимся самим решать трудные проблемы, а не просто быть наблюдателя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Деловые игры обеспечивают учебную среду, незамедлительно реагирующую на действия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Заголовок 1"/>
          <p:cNvSpPr/>
          <p:nvPr/>
        </p:nvSpPr>
        <p:spPr>
          <a:xfrm>
            <a:off x="0" y="142920"/>
            <a:ext cx="9001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учебной деловой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3812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Тип урока - на основе дидактической задачи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1981080" y="5973840"/>
            <a:ext cx="472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80880" y="2041560"/>
            <a:ext cx="3048120" cy="703800"/>
          </a:xfrm>
          <a:prstGeom prst="rect">
            <a:avLst/>
          </a:prstGeom>
          <a:solidFill>
            <a:srgbClr val="fdf7c7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ораторное заня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14760" y="1500120"/>
            <a:ext cx="714240" cy="50004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5181480" y="2041560"/>
            <a:ext cx="3429000" cy="398880"/>
          </a:xfrm>
          <a:prstGeom prst="rect">
            <a:avLst/>
          </a:prstGeom>
          <a:solidFill>
            <a:srgbClr val="fdf7c7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нарское заня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3428640" y="1571760"/>
            <a:ext cx="428760" cy="228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24000" y="3933720"/>
            <a:ext cx="3276360" cy="398880"/>
          </a:xfrm>
          <a:prstGeom prst="rect">
            <a:avLst/>
          </a:prstGeom>
          <a:solidFill>
            <a:srgbClr val="fdf7c7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ое заня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4929120" y="1500120"/>
            <a:ext cx="642960" cy="5000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859280" y="3860640"/>
            <a:ext cx="4038480" cy="39888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ьная ле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4572000" y="1500120"/>
            <a:ext cx="571680" cy="2286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2" descr="MP00640_"/>
          <p:cNvPicPr/>
          <p:nvPr/>
        </p:nvPicPr>
        <p:blipFill>
          <a:blip r:embed="rId1"/>
          <a:stretch/>
        </p:blipFill>
        <p:spPr>
          <a:xfrm>
            <a:off x="7380360" y="189000"/>
            <a:ext cx="1600200" cy="159372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24"/>
          <p:cNvSpPr/>
          <p:nvPr/>
        </p:nvSpPr>
        <p:spPr>
          <a:xfrm>
            <a:off x="4071960" y="1571760"/>
            <a:ext cx="214200" cy="3071520"/>
          </a:xfrm>
          <a:prstGeom prst="downArrow">
            <a:avLst>
              <a:gd name="adj1" fmla="val 50000"/>
              <a:gd name="adj2" fmla="val 523591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026"/>
          <p:cNvSpPr/>
          <p:nvPr/>
        </p:nvSpPr>
        <p:spPr>
          <a:xfrm>
            <a:off x="2050920" y="4724280"/>
            <a:ext cx="4038840" cy="703800"/>
          </a:xfrm>
          <a:prstGeom prst="rect">
            <a:avLst/>
          </a:prstGeom>
          <a:solidFill>
            <a:srgbClr val="fdf7c7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новационный (проблемно- диалогический ур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" y="152280"/>
            <a:ext cx="8786880" cy="17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Лабораторное занятие:</a:t>
            </a:r>
            <a:br>
              <a:rPr sz="3600"/>
            </a:br>
            <a:r>
              <a:rPr b="0" lang="ru-RU" sz="2500" spc="-1" strike="noStrike">
                <a:solidFill>
                  <a:srgbClr val="ffffff"/>
                </a:solidFill>
                <a:latin typeface="Franklin Gothic Book"/>
              </a:rPr>
              <a:t>1.по учебникам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Franklin Gothic Book"/>
              </a:rPr>
              <a:t>2. по документам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539640" y="5300640"/>
            <a:ext cx="8229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4)Подведение итогов: формулирование общего вывода, оценивание школь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611280" y="3357720"/>
            <a:ext cx="8229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2)Самостоятельная работа учащихся с источниками. Учитель- консультант и координ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533520" y="2117880"/>
            <a:ext cx="8305560" cy="100872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1)Организационный: тема занятия, мотивация, постановка проблемы, формы работы, инструктивные карточки, познавательн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533520" y="4267080"/>
            <a:ext cx="8229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3)Коллективное обсуждение результатов: творческие отчеты групп, выступления представителей, обобщающая бес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1"/>
          <p:cNvSpPr/>
          <p:nvPr/>
        </p:nvSpPr>
        <p:spPr>
          <a:xfrm flipV="1" rot="5400000">
            <a:off x="21240" y="4049280"/>
            <a:ext cx="777960" cy="249120"/>
          </a:xfrm>
          <a:custGeom>
            <a:avLst/>
            <a:gdLst>
              <a:gd name="textAreaLeft" fmla="*/ 144360 w 777960"/>
              <a:gd name="textAreaRight" fmla="*/ 567360 w 77796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27" hR="21600" stAng="10800000" swAng="5400000"/>
                <a:lnTo>
                  <a:pt x="11740" y="0"/>
                </a:lnTo>
                <a:arcTo wR="8027" hR="21600" stAng="-5400000" swAng="2785630"/>
                <a:lnTo>
                  <a:pt x="21141" y="14400"/>
                </a:lnTo>
                <a:lnTo>
                  <a:pt x="17911" y="21600"/>
                </a:lnTo>
                <a:lnTo>
                  <a:pt x="13762" y="14400"/>
                </a:lnTo>
                <a:lnTo>
                  <a:pt x="15595" y="14400"/>
                </a:lnTo>
                <a:arcTo wR="8027" hR="21600" stAng="-2614370" swAng="-2482711"/>
                <a:lnTo>
                  <a:pt x="9884" y="586"/>
                </a:lnTo>
                <a:arcTo wR="8027" hR="21600" stAng="-5702919" swAng="-5097081"/>
                <a:close/>
              </a:path>
              <a:path fill="darkenLess" w="21600" h="21600">
                <a:moveTo>
                  <a:pt x="0" y="21600"/>
                </a:moveTo>
                <a:arcTo wR="8027" hR="21600" stAng="10800000" swAng="5400000"/>
                <a:lnTo>
                  <a:pt x="8027" y="0"/>
                </a:lnTo>
                <a:arcTo wR="8027" hR="21600" stAng="-5400000" swAng="302919"/>
                <a:lnTo>
                  <a:pt x="9884" y="586"/>
                </a:lnTo>
                <a:arcTo wR="8027" hR="21600" stAng="-5702919" swAng="-5097081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V="1" rot="5400000">
            <a:off x="-16560" y="3130200"/>
            <a:ext cx="777960" cy="249120"/>
          </a:xfrm>
          <a:custGeom>
            <a:avLst/>
            <a:gdLst>
              <a:gd name="textAreaLeft" fmla="*/ 144360 w 777960"/>
              <a:gd name="textAreaRight" fmla="*/ 567360 w 77796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27" hR="21600" stAng="10800000" swAng="5400000"/>
                <a:lnTo>
                  <a:pt x="11740" y="0"/>
                </a:lnTo>
                <a:arcTo wR="8027" hR="21600" stAng="-5400000" swAng="2785630"/>
                <a:lnTo>
                  <a:pt x="21141" y="14400"/>
                </a:lnTo>
                <a:lnTo>
                  <a:pt x="17911" y="21600"/>
                </a:lnTo>
                <a:lnTo>
                  <a:pt x="13762" y="14400"/>
                </a:lnTo>
                <a:lnTo>
                  <a:pt x="15595" y="14400"/>
                </a:lnTo>
                <a:arcTo wR="8027" hR="21600" stAng="-2614370" swAng="-2482711"/>
                <a:lnTo>
                  <a:pt x="9884" y="586"/>
                </a:lnTo>
                <a:arcTo wR="8027" hR="21600" stAng="-5702919" swAng="-5097081"/>
                <a:close/>
              </a:path>
              <a:path fill="darkenLess" w="21600" h="21600">
                <a:moveTo>
                  <a:pt x="0" y="21600"/>
                </a:moveTo>
                <a:arcTo wR="8027" hR="21600" stAng="10800000" swAng="5400000"/>
                <a:lnTo>
                  <a:pt x="8027" y="0"/>
                </a:lnTo>
                <a:arcTo wR="8027" hR="21600" stAng="-5400000" swAng="302919"/>
                <a:lnTo>
                  <a:pt x="9884" y="586"/>
                </a:lnTo>
                <a:arcTo wR="8027" hR="21600" stAng="-5702919" swAng="-5097081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 flipV="1" rot="5400000">
            <a:off x="21240" y="5049360"/>
            <a:ext cx="777960" cy="249120"/>
          </a:xfrm>
          <a:custGeom>
            <a:avLst/>
            <a:gdLst>
              <a:gd name="textAreaLeft" fmla="*/ 144360 w 777960"/>
              <a:gd name="textAreaRight" fmla="*/ 567360 w 77796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27" hR="21600" stAng="10800000" swAng="5400000"/>
                <a:lnTo>
                  <a:pt x="11740" y="0"/>
                </a:lnTo>
                <a:arcTo wR="8027" hR="21600" stAng="-5400000" swAng="2785630"/>
                <a:lnTo>
                  <a:pt x="21141" y="14400"/>
                </a:lnTo>
                <a:lnTo>
                  <a:pt x="17911" y="21600"/>
                </a:lnTo>
                <a:lnTo>
                  <a:pt x="13762" y="14400"/>
                </a:lnTo>
                <a:lnTo>
                  <a:pt x="15595" y="14400"/>
                </a:lnTo>
                <a:arcTo wR="8027" hR="21600" stAng="-2614370" swAng="-2482711"/>
                <a:lnTo>
                  <a:pt x="9884" y="586"/>
                </a:lnTo>
                <a:arcTo wR="8027" hR="21600" stAng="-5702919" swAng="-5097081"/>
                <a:close/>
              </a:path>
              <a:path fill="darkenLess" w="21600" h="21600">
                <a:moveTo>
                  <a:pt x="0" y="21600"/>
                </a:moveTo>
                <a:arcTo wR="8027" hR="21600" stAng="10800000" swAng="5400000"/>
                <a:lnTo>
                  <a:pt x="8027" y="0"/>
                </a:lnTo>
                <a:arcTo wR="8027" hR="21600" stAng="-5400000" swAng="302919"/>
                <a:lnTo>
                  <a:pt x="9884" y="586"/>
                </a:lnTo>
                <a:arcTo wR="8027" hR="21600" stAng="-5702919" swAng="-5097081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715240" cy="17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Семинарское занятие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00040" y="3357720"/>
            <a:ext cx="8229600" cy="13737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2c"/>
                </a:solidFill>
                <a:latin typeface="Arial"/>
              </a:rPr>
              <a:t>Семинары, сочетающие обобщение с изучением нового материала (Иван Грозный и его врем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533520" y="2117880"/>
            <a:ext cx="8305560" cy="9471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2c"/>
                </a:solidFill>
                <a:latin typeface="Arial"/>
              </a:rPr>
              <a:t>Тематические семинары - изучение нового материала (Кавказская война1817-1864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00040" y="5000760"/>
            <a:ext cx="8215200" cy="13737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2c"/>
                </a:solidFill>
                <a:latin typeface="Arial"/>
              </a:rPr>
              <a:t>Семинары, посвященные обобщению и систематизации исторических знаний (Россия и мир в конце </a:t>
            </a:r>
            <a:r>
              <a:rPr b="0" lang="en-US" sz="2800" spc="-1" strike="noStrike">
                <a:solidFill>
                  <a:srgbClr val="2c2c2c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2c2c2c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 flipV="1" rot="5400000">
            <a:off x="-49680" y="3121560"/>
            <a:ext cx="777600" cy="249480"/>
          </a:xfrm>
          <a:custGeom>
            <a:avLst/>
            <a:gdLst>
              <a:gd name="textAreaLeft" fmla="*/ 144360 w 777600"/>
              <a:gd name="textAreaRight" fmla="*/ 567360 w 777600"/>
              <a:gd name="textAreaTop" fmla="*/ 33120 h 249480"/>
              <a:gd name="textAreaBottom" fmla="*/ 216360 h 2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27" hR="21600" stAng="10800000" swAng="5400000"/>
                <a:lnTo>
                  <a:pt x="11740" y="0"/>
                </a:lnTo>
                <a:arcTo wR="8027" hR="21600" stAng="-5400000" swAng="2785630"/>
                <a:lnTo>
                  <a:pt x="21141" y="14400"/>
                </a:lnTo>
                <a:lnTo>
                  <a:pt x="17911" y="21600"/>
                </a:lnTo>
                <a:lnTo>
                  <a:pt x="13762" y="14400"/>
                </a:lnTo>
                <a:lnTo>
                  <a:pt x="15595" y="14400"/>
                </a:lnTo>
                <a:arcTo wR="8027" hR="21600" stAng="-2614370" swAng="-2482711"/>
                <a:lnTo>
                  <a:pt x="9884" y="586"/>
                </a:lnTo>
                <a:arcTo wR="8027" hR="21600" stAng="-5702919" swAng="-5097081"/>
                <a:close/>
              </a:path>
              <a:path fill="darkenLess" w="21600" h="21600">
                <a:moveTo>
                  <a:pt x="0" y="21600"/>
                </a:moveTo>
                <a:arcTo wR="8027" hR="21600" stAng="10800000" swAng="5400000"/>
                <a:lnTo>
                  <a:pt x="8027" y="0"/>
                </a:lnTo>
                <a:arcTo wR="8027" hR="21600" stAng="-5400000" swAng="302919"/>
                <a:lnTo>
                  <a:pt x="9884" y="586"/>
                </a:lnTo>
                <a:arcTo wR="8027" hR="21600" stAng="-5702919" swAng="-5097081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1"/>
          <p:cNvSpPr/>
          <p:nvPr/>
        </p:nvSpPr>
        <p:spPr>
          <a:xfrm flipV="1" rot="5400000">
            <a:off x="-50040" y="4835160"/>
            <a:ext cx="777960" cy="249480"/>
          </a:xfrm>
          <a:custGeom>
            <a:avLst/>
            <a:gdLst>
              <a:gd name="textAreaLeft" fmla="*/ 144360 w 777960"/>
              <a:gd name="textAreaRight" fmla="*/ 567360 w 777960"/>
              <a:gd name="textAreaTop" fmla="*/ 33120 h 249480"/>
              <a:gd name="textAreaBottom" fmla="*/ 216360 h 2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27" hR="21600" stAng="10800000" swAng="5400000"/>
                <a:lnTo>
                  <a:pt x="11740" y="0"/>
                </a:lnTo>
                <a:arcTo wR="8027" hR="21600" stAng="-5400000" swAng="2785630"/>
                <a:lnTo>
                  <a:pt x="21141" y="14400"/>
                </a:lnTo>
                <a:lnTo>
                  <a:pt x="17911" y="21600"/>
                </a:lnTo>
                <a:lnTo>
                  <a:pt x="13762" y="14400"/>
                </a:lnTo>
                <a:lnTo>
                  <a:pt x="15595" y="14400"/>
                </a:lnTo>
                <a:arcTo wR="8027" hR="21600" stAng="-2614370" swAng="-2482711"/>
                <a:lnTo>
                  <a:pt x="9884" y="586"/>
                </a:lnTo>
                <a:arcTo wR="8027" hR="21600" stAng="-5702919" swAng="-5097081"/>
                <a:close/>
              </a:path>
              <a:path fill="darkenLess" w="21600" h="21600">
                <a:moveTo>
                  <a:pt x="0" y="21600"/>
                </a:moveTo>
                <a:arcTo wR="8027" hR="21600" stAng="10800000" swAng="5400000"/>
                <a:lnTo>
                  <a:pt x="8027" y="0"/>
                </a:lnTo>
                <a:arcTo wR="8027" hR="21600" stAng="-5400000" swAng="302919"/>
                <a:lnTo>
                  <a:pt x="9884" y="586"/>
                </a:lnTo>
                <a:arcTo wR="8027" hR="21600" stAng="-5702919" swAng="-5097081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01000" cy="17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Практическое занятие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00040" y="3357720"/>
            <a:ext cx="8229600" cy="5205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2c"/>
                </a:solidFill>
                <a:latin typeface="Arial"/>
              </a:rPr>
              <a:t>2. По решению познавательных зада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500040" y="2000160"/>
            <a:ext cx="8305920" cy="5205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2c"/>
                </a:solidFill>
                <a:latin typeface="Arial"/>
              </a:rPr>
              <a:t>1. По развитию познавательных ум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571680" y="4929120"/>
            <a:ext cx="8229600" cy="9471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2c"/>
                </a:solidFill>
                <a:latin typeface="Arial"/>
              </a:rPr>
              <a:t>3. По проверке результатов творческо-поисков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11"/>
          <p:cNvSpPr/>
          <p:nvPr/>
        </p:nvSpPr>
        <p:spPr>
          <a:xfrm flipV="1" rot="5400000">
            <a:off x="-303840" y="2804040"/>
            <a:ext cx="1285920" cy="249480"/>
          </a:xfrm>
          <a:custGeom>
            <a:avLst/>
            <a:gdLst>
              <a:gd name="textAreaLeft" fmla="*/ 271440 w 1285920"/>
              <a:gd name="textAreaRight" fmla="*/ 948600 w 1285920"/>
              <a:gd name="textAreaTop" fmla="*/ 33120 h 249480"/>
              <a:gd name="textAreaBottom" fmla="*/ 216360 h 2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23" hR="21600" stAng="10800000" swAng="5400000"/>
                <a:lnTo>
                  <a:pt x="11369" y="0"/>
                </a:lnTo>
                <a:arcTo wR="9123" hR="21600" stAng="-5400000" swAng="3003970"/>
                <a:lnTo>
                  <a:pt x="21078" y="14400"/>
                </a:lnTo>
                <a:lnTo>
                  <a:pt x="19368" y="21600"/>
                </a:lnTo>
                <a:lnTo>
                  <a:pt x="16614" y="14400"/>
                </a:lnTo>
                <a:lnTo>
                  <a:pt x="17723" y="14400"/>
                </a:lnTo>
                <a:arcTo wR="9123" hR="21600" stAng="-2396030" swAng="-2824033"/>
                <a:lnTo>
                  <a:pt x="10246" y="164"/>
                </a:lnTo>
                <a:arcTo wR="9123" hR="21600" stAng="-5579936" swAng="-5220064"/>
                <a:close/>
              </a:path>
              <a:path fill="darkenLess" w="21600" h="21600">
                <a:moveTo>
                  <a:pt x="0" y="21600"/>
                </a:moveTo>
                <a:arcTo wR="9123" hR="21600" stAng="10800000" swAng="5400000"/>
                <a:lnTo>
                  <a:pt x="9123" y="0"/>
                </a:lnTo>
                <a:arcTo wR="9123" hR="21600" stAng="-5400000" swAng="179936"/>
                <a:lnTo>
                  <a:pt x="10246" y="164"/>
                </a:lnTo>
                <a:arcTo wR="9123" hR="21600" stAng="-5579936" swAng="-5220064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 flipV="1" rot="5400000">
            <a:off x="-339480" y="4482000"/>
            <a:ext cx="1500120" cy="249120"/>
          </a:xfrm>
          <a:custGeom>
            <a:avLst/>
            <a:gdLst>
              <a:gd name="textAreaLeft" fmla="*/ 325080 w 1500120"/>
              <a:gd name="textAreaRight" fmla="*/ 1109160 w 150012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62" hR="21600" stAng="10800000" swAng="5400000"/>
                <a:lnTo>
                  <a:pt x="11288" y="0"/>
                </a:lnTo>
                <a:arcTo wR="9362" hR="21600" stAng="-5400000" swAng="3047715"/>
                <a:lnTo>
                  <a:pt x="21065" y="14400"/>
                </a:lnTo>
                <a:lnTo>
                  <a:pt x="19687" y="21600"/>
                </a:lnTo>
                <a:lnTo>
                  <a:pt x="17239" y="14400"/>
                </a:lnTo>
                <a:lnTo>
                  <a:pt x="18189" y="14400"/>
                </a:lnTo>
                <a:arcTo wR="9362" hR="21600" stAng="-2352285" swAng="-2893735"/>
                <a:lnTo>
                  <a:pt x="10325" y="115"/>
                </a:lnTo>
                <a:arcTo wR="9362" hR="21600" stAng="-5553980" swAng="-5246020"/>
                <a:close/>
              </a:path>
              <a:path fill="darkenLess" w="21600" h="21600">
                <a:moveTo>
                  <a:pt x="0" y="21600"/>
                </a:moveTo>
                <a:arcTo wR="9362" hR="21600" stAng="10800000" swAng="5400000"/>
                <a:lnTo>
                  <a:pt x="9362" y="0"/>
                </a:lnTo>
                <a:arcTo wR="9362" hR="21600" stAng="-5400000" swAng="153980"/>
                <a:lnTo>
                  <a:pt x="10325" y="115"/>
                </a:lnTo>
                <a:arcTo wR="9362" hR="21600" stAng="-5553980" swAng="-5246020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7120" y="438120"/>
            <a:ext cx="7786800" cy="982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Типология познавательных заданий: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981080" y="5973840"/>
            <a:ext cx="472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0880" y="2041560"/>
            <a:ext cx="3048120" cy="216864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С выбором отв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с альтернативными ответ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 ограничениями на отв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 flipH="1">
            <a:off x="2928960" y="1428840"/>
            <a:ext cx="642960" cy="571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5181480" y="2041560"/>
            <a:ext cx="3429000" cy="100872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онологические задачи. Тест последова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 flipH="1">
            <a:off x="3571920" y="1500120"/>
            <a:ext cx="357120" cy="3000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500040" y="4572000"/>
            <a:ext cx="3276720" cy="100872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ковый словарь темы. Календарь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9"/>
          <p:cNvSpPr/>
          <p:nvPr/>
        </p:nvSpPr>
        <p:spPr>
          <a:xfrm>
            <a:off x="5072040" y="1428840"/>
            <a:ext cx="357120" cy="571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929120" y="3857760"/>
            <a:ext cx="4038840" cy="64260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инный план. Историческая к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4714920" y="1500120"/>
            <a:ext cx="471600" cy="2279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2" descr="MP00640_"/>
          <p:cNvPicPr/>
          <p:nvPr/>
        </p:nvPicPr>
        <p:blipFill>
          <a:blip r:embed="rId1"/>
          <a:stretch/>
        </p:blipFill>
        <p:spPr>
          <a:xfrm>
            <a:off x="7380360" y="189000"/>
            <a:ext cx="1600200" cy="15937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4"/>
          <p:cNvSpPr/>
          <p:nvPr/>
        </p:nvSpPr>
        <p:spPr>
          <a:xfrm>
            <a:off x="4500720" y="5000760"/>
            <a:ext cx="4038480" cy="64260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есный портрет исторических дея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1643040" y="5929200"/>
            <a:ext cx="4805280" cy="64260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, сравнительно- обобщающая таблица, логическая сх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429080" y="1500120"/>
            <a:ext cx="357120" cy="342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 flipH="1">
            <a:off x="4071960" y="1571760"/>
            <a:ext cx="71280" cy="4357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Стратегическая цель российского образования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12" descr="MP00640_"/>
          <p:cNvPicPr/>
          <p:nvPr/>
        </p:nvPicPr>
        <p:blipFill>
          <a:blip r:embed="rId1"/>
          <a:stretch/>
        </p:blipFill>
        <p:spPr>
          <a:xfrm>
            <a:off x="3500280" y="1857240"/>
            <a:ext cx="1600200" cy="1594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2"/>
          <p:cNvSpPr/>
          <p:nvPr/>
        </p:nvSpPr>
        <p:spPr>
          <a:xfrm>
            <a:off x="428760" y="3652920"/>
            <a:ext cx="848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оспитание успешного поко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раждан страны, владеющих адекватными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ниями, навыками и компетенция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идеалах демократии и правового государ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оответствии с национальными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щечеловеческими ценностными установ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Franklin Gothic Book"/>
              </a:rPr>
              <a:t>Школьная лекция: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1" name="Picture 13" descr="L33"/>
          <p:cNvPicPr/>
          <p:nvPr/>
        </p:nvPicPr>
        <p:blipFill>
          <a:blip r:embed="rId1"/>
          <a:stretch/>
        </p:blipFill>
        <p:spPr>
          <a:xfrm>
            <a:off x="2857680" y="252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1981080" y="5973840"/>
            <a:ext cx="472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80880" y="2041560"/>
            <a:ext cx="3048120" cy="581400"/>
          </a:xfrm>
          <a:prstGeom prst="rect">
            <a:avLst/>
          </a:prstGeom>
          <a:solidFill>
            <a:srgbClr val="fdf7c7"/>
          </a:solidFill>
          <a:ln w="76320">
            <a:solidFill>
              <a:srgbClr val="2b03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 flipH="1">
            <a:off x="2195280" y="1341360"/>
            <a:ext cx="1600200" cy="579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81480" y="2041560"/>
            <a:ext cx="3429000" cy="719280"/>
          </a:xfrm>
          <a:prstGeom prst="rect">
            <a:avLst/>
          </a:prstGeom>
          <a:solidFill>
            <a:srgbClr val="fdf7c7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 flipH="1">
            <a:off x="1116000" y="2637000"/>
            <a:ext cx="557280" cy="19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95280" y="4581360"/>
            <a:ext cx="1440000" cy="432000"/>
          </a:xfrm>
          <a:prstGeom prst="rect">
            <a:avLst/>
          </a:prstGeom>
          <a:solidFill>
            <a:srgbClr val="fdf7c7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4572000" y="1371600"/>
            <a:ext cx="1600200" cy="579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2214720" y="4643280"/>
            <a:ext cx="2663640" cy="398880"/>
          </a:xfrm>
          <a:prstGeom prst="rect">
            <a:avLst/>
          </a:prstGeom>
          <a:solidFill>
            <a:srgbClr val="fdf7c7"/>
          </a:solidFill>
          <a:ln w="76320">
            <a:solidFill>
              <a:srgbClr val="2994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ите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1"/>
          <p:cNvSpPr/>
          <p:nvPr/>
        </p:nvSpPr>
        <p:spPr>
          <a:xfrm>
            <a:off x="1835280" y="2637000"/>
            <a:ext cx="1736640" cy="1935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12" descr="MP00640_"/>
          <p:cNvPicPr/>
          <p:nvPr/>
        </p:nvPicPr>
        <p:blipFill>
          <a:blip r:embed="rId2"/>
          <a:stretch/>
        </p:blipFill>
        <p:spPr>
          <a:xfrm>
            <a:off x="7380360" y="189000"/>
            <a:ext cx="160020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27244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Учитель не солист, а – дирижёр!  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343320" cy="5043600"/>
          </a:xfrm>
          <a:prstGeom prst="rect">
            <a:avLst/>
          </a:prstGeom>
          <a:solidFill>
            <a:srgbClr val="45c984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ур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роверка д/з уче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Объявление темы учит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Объяснение темы учит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Закрепление знаний уче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4" descr="L33"/>
          <p:cNvPicPr/>
          <p:nvPr/>
        </p:nvPicPr>
        <p:blipFill>
          <a:blip r:embed="rId1"/>
          <a:stretch/>
        </p:blipFill>
        <p:spPr>
          <a:xfrm>
            <a:off x="3780000" y="170028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5334120" y="1600200"/>
            <a:ext cx="3666960" cy="5114880"/>
          </a:xfrm>
          <a:prstGeom prst="rect">
            <a:avLst/>
          </a:prstGeom>
          <a:solidFill>
            <a:srgbClr val="a116e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новационный    (Проблемно-диалогический ур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Создание проблемной ситуации учителем и формулирование  проблемы уче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Актуализация учениками своих зн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оиск решения проблемы уче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Выражение решения применение знаний уче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3643200" y="2928600"/>
            <a:ext cx="1690920" cy="60012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3657600" y="4724280"/>
            <a:ext cx="1676520" cy="22860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3581280" y="2743200"/>
            <a:ext cx="1752840" cy="129528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3657600" y="5638680"/>
            <a:ext cx="1628640" cy="21924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Подготовка проблемно-диалогического урока истории </a:t>
            </a:r>
            <a:br>
              <a:rPr sz="3300"/>
            </a:b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Как отобрать минимум содержания?</a:t>
            </a:r>
            <a:r>
              <a:rPr b="1" i="1" lang="ru-RU" sz="2000" spc="-1" strike="noStrike">
                <a:solidFill>
                  <a:srgbClr val="ff0000"/>
                </a:solidFill>
                <a:latin typeface="Franklin Gothic Book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14200" y="1928880"/>
            <a:ext cx="4000680" cy="36432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Берем перечень информационных единиц минимум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c2c2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либо государственный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стандарт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(+ здравый смыс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-либо текст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программы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(обновленн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-либо учебник: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хронологическая таблица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в начале каждой главы (выделенные жирным шрифтом даты, имена, понят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4643280" y="3214800"/>
            <a:ext cx="4357800" cy="131364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Читаем параграф урока и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отмечаем абзацы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, в которых упоминаются выделенные нами информационные един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4643280" y="1785960"/>
            <a:ext cx="4357800" cy="131364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Выделяем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в перечне информационных единиц те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факты и понятия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, которые вводятся в теме нового ур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4643280" y="4643280"/>
            <a:ext cx="4324680" cy="131364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Планируем работу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на уроке, прежде всего,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с выделенным абзацами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, так, чтобы их прочитал и осмыслил кажд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357120" y="6072120"/>
            <a:ext cx="5257800" cy="39888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Добавляем «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макси»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для своего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11"/>
          <p:cNvSpPr/>
          <p:nvPr/>
        </p:nvSpPr>
        <p:spPr>
          <a:xfrm flipV="1" rot="5400000">
            <a:off x="3910680" y="3089880"/>
            <a:ext cx="1071360" cy="320760"/>
          </a:xfrm>
          <a:custGeom>
            <a:avLst/>
            <a:gdLst>
              <a:gd name="textAreaLeft" fmla="*/ 203400 w 1071360"/>
              <a:gd name="textAreaRight" fmla="*/ 783000 w 1071360"/>
              <a:gd name="textAreaTop" fmla="*/ 42840 h 320760"/>
              <a:gd name="textAreaBottom" fmla="*/ 2779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10" hR="21600" stAng="10800000" swAng="5400000"/>
                <a:lnTo>
                  <a:pt x="11678" y="0"/>
                </a:lnTo>
                <a:arcTo wR="8210" hR="21600" stAng="-5400000" swAng="2201878"/>
                <a:lnTo>
                  <a:pt x="20704" y="11787"/>
                </a:lnTo>
                <a:lnTo>
                  <a:pt x="18154" y="21600"/>
                </a:lnTo>
                <a:lnTo>
                  <a:pt x="13812" y="11787"/>
                </a:lnTo>
                <a:lnTo>
                  <a:pt x="15524" y="11787"/>
                </a:lnTo>
                <a:arcTo wR="8210" hR="21600" stAng="-3198122" swAng="-1920167"/>
                <a:lnTo>
                  <a:pt x="9944" y="487"/>
                </a:lnTo>
                <a:arcTo wR="8210" hR="21600" stAng="-5681712" swAng="-5118288"/>
                <a:close/>
              </a:path>
              <a:path fill="darkenLess" w="21600" h="21600">
                <a:moveTo>
                  <a:pt x="0" y="21600"/>
                </a:moveTo>
                <a:arcTo wR="8210" hR="21600" stAng="10800000" swAng="5400000"/>
                <a:lnTo>
                  <a:pt x="8210" y="0"/>
                </a:lnTo>
                <a:arcTo wR="8210" hR="21600" stAng="-5400000" swAng="281712"/>
                <a:lnTo>
                  <a:pt x="9944" y="487"/>
                </a:lnTo>
                <a:arcTo wR="8210" hR="21600" stAng="-5681712" swAng="-5118288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 flipV="1" rot="5400000">
            <a:off x="3839400" y="4446360"/>
            <a:ext cx="1214280" cy="320760"/>
          </a:xfrm>
          <a:custGeom>
            <a:avLst/>
            <a:gdLst>
              <a:gd name="textAreaLeft" fmla="*/ 239040 w 1214280"/>
              <a:gd name="textAreaRight" fmla="*/ 890280 w 1214280"/>
              <a:gd name="textAreaTop" fmla="*/ 42840 h 320760"/>
              <a:gd name="textAreaBottom" fmla="*/ 2779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15" hR="21600" stAng="10800000" swAng="5400000"/>
                <a:lnTo>
                  <a:pt x="11576" y="0"/>
                </a:lnTo>
                <a:arcTo wR="8515" hR="21600" stAng="-5400000" swAng="2262167"/>
                <a:lnTo>
                  <a:pt x="20671" y="11787"/>
                </a:lnTo>
                <a:lnTo>
                  <a:pt x="18560" y="21600"/>
                </a:lnTo>
                <a:lnTo>
                  <a:pt x="14590" y="11787"/>
                </a:lnTo>
                <a:lnTo>
                  <a:pt x="16100" y="11787"/>
                </a:lnTo>
                <a:arcTo wR="8515" hR="21600" stAng="-3137833" swAng="-2014974"/>
                <a:lnTo>
                  <a:pt x="10045" y="352"/>
                </a:lnTo>
                <a:arcTo wR="8515" hR="21600" stAng="-5647193" swAng="-5152807"/>
                <a:close/>
              </a:path>
              <a:path fill="darkenLess" w="21600" h="21600">
                <a:moveTo>
                  <a:pt x="0" y="21600"/>
                </a:moveTo>
                <a:arcTo wR="8515" hR="21600" stAng="10800000" swAng="5400000"/>
                <a:lnTo>
                  <a:pt x="8515" y="0"/>
                </a:lnTo>
                <a:arcTo wR="8515" hR="21600" stAng="-5400000" swAng="247193"/>
                <a:lnTo>
                  <a:pt x="10045" y="352"/>
                </a:lnTo>
                <a:arcTo wR="8515" hR="21600" stAng="-5647193" swAng="-5152807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3714840" y="1643040"/>
            <a:ext cx="941400" cy="244440"/>
          </a:xfrm>
          <a:custGeom>
            <a:avLst/>
            <a:gdLst>
              <a:gd name="textAreaLeft" fmla="*/ 186120 w 941400"/>
              <a:gd name="textAreaRight" fmla="*/ 690480 w 941400"/>
              <a:gd name="textAreaTop" fmla="*/ 32760 h 244440"/>
              <a:gd name="textAreaBottom" fmla="*/ 211680 h 24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3" hR="21600" stAng="10800000" swAng="5400000"/>
                <a:lnTo>
                  <a:pt x="11562" y="0"/>
                </a:lnTo>
                <a:arcTo wR="8553" hR="21600" stAng="-5400000" swAng="2894249"/>
                <a:lnTo>
                  <a:pt x="21111" y="14400"/>
                </a:lnTo>
                <a:lnTo>
                  <a:pt x="18610" y="21600"/>
                </a:lnTo>
                <a:lnTo>
                  <a:pt x="15130" y="14400"/>
                </a:lnTo>
                <a:lnTo>
                  <a:pt x="16616" y="14400"/>
                </a:lnTo>
                <a:arcTo wR="8553" hR="21600" stAng="-2505751" swAng="-2651412"/>
                <a:lnTo>
                  <a:pt x="10057" y="337"/>
                </a:lnTo>
                <a:arcTo wR="8553" hR="21600" stAng="-5642837" swAng="-5157163"/>
                <a:close/>
              </a:path>
              <a:path fill="darkenLess" w="21600" h="21600">
                <a:moveTo>
                  <a:pt x="0" y="21600"/>
                </a:moveTo>
                <a:arcTo wR="8553" hR="21600" stAng="10800000" swAng="5400000"/>
                <a:lnTo>
                  <a:pt x="8553" y="0"/>
                </a:lnTo>
                <a:arcTo wR="8553" hR="21600" stAng="-5400000" swAng="242837"/>
                <a:lnTo>
                  <a:pt x="10057" y="337"/>
                </a:lnTo>
                <a:arcTo wR="8553" hR="21600" stAng="-5642837" swAng="-5157163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 flipV="1" rot="8735400">
            <a:off x="3690720" y="5634720"/>
            <a:ext cx="971280" cy="217440"/>
          </a:xfrm>
          <a:custGeom>
            <a:avLst/>
            <a:gdLst>
              <a:gd name="textAreaLeft" fmla="*/ 199080 w 971280"/>
              <a:gd name="textAreaRight" fmla="*/ 714600 w 97128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63" hR="21600" stAng="10800000" swAng="5400000"/>
                <a:lnTo>
                  <a:pt x="11458" y="0"/>
                </a:lnTo>
                <a:arcTo wR="8863" hR="21600" stAng="-5400000" swAng="2329120"/>
                <a:lnTo>
                  <a:pt x="20633" y="11787"/>
                </a:lnTo>
                <a:lnTo>
                  <a:pt x="19023" y="21600"/>
                </a:lnTo>
                <a:lnTo>
                  <a:pt x="15478" y="11787"/>
                </a:lnTo>
                <a:lnTo>
                  <a:pt x="16758" y="11787"/>
                </a:lnTo>
                <a:arcTo wR="8863" hR="21600" stAng="-3070880" swAng="-2120624"/>
                <a:lnTo>
                  <a:pt x="10160" y="233"/>
                </a:lnTo>
                <a:arcTo wR="8863" hR="21600" stAng="-5608497" swAng="-5191503"/>
                <a:close/>
              </a:path>
              <a:path fill="darkenLess" w="21600" h="21600">
                <a:moveTo>
                  <a:pt x="0" y="21600"/>
                </a:moveTo>
                <a:arcTo wR="8863" hR="21600" stAng="10800000" swAng="5400000"/>
                <a:lnTo>
                  <a:pt x="8863" y="0"/>
                </a:lnTo>
                <a:arcTo wR="8863" hR="21600" stAng="-5400000" swAng="208497"/>
                <a:lnTo>
                  <a:pt x="10160" y="233"/>
                </a:lnTo>
                <a:arcTo wR="8863" hR="21600" stAng="-5608497" swAng="-5191503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Подготовка проблемно-диалогического урока истории</a:t>
            </a:r>
            <a:br>
              <a:rPr sz="3300"/>
            </a:b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Как поставить развивающие цели?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80880" y="1859040"/>
            <a:ext cx="3962520" cy="438804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Исходя из содержания темы, своего опыта, или заданий к тексту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выбрать линии развития,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по которым строить урок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c2c"/>
                </a:solidFill>
                <a:latin typeface="Arial"/>
              </a:rPr>
              <a:t>1-2. Картина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c2c"/>
                </a:solidFill>
                <a:latin typeface="Arial"/>
              </a:rPr>
              <a:t>3.Историческое мыш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c2c"/>
                </a:solidFill>
                <a:latin typeface="Arial"/>
              </a:rPr>
              <a:t>4.Нравственное самоопре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c2c"/>
                </a:solidFill>
                <a:latin typeface="Arial"/>
              </a:rPr>
              <a:t>5.Гражданско-патриотическое самоопре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876920" y="1905120"/>
            <a:ext cx="3962160" cy="16185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По выбранным линиям: подставить в формулировку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умения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ключевое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знание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по теме (понятие, имя, событие и т.п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00108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Franklin Gothic Book"/>
              </a:rPr>
              <a:t>ПРИМЕР:</a:t>
            </a:r>
            <a:br>
              <a:rPr sz="3300"/>
            </a:b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Как поставить развивающие цели урока?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857240" y="1428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: Князь Владимир и крещение Ру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57120" y="1785960"/>
            <a:ext cx="3986280" cy="424332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нии развит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03f5"/>
                </a:solidFill>
                <a:latin typeface="Arial"/>
              </a:rPr>
              <a:t>1-2. Картина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Умение: </a:t>
            </a:r>
            <a:r>
              <a:rPr b="0" lang="ru-RU" sz="1800" spc="-1" strike="noStrike">
                <a:solidFill>
                  <a:srgbClr val="2c2c2c"/>
                </a:solidFill>
                <a:latin typeface="Arial"/>
              </a:rPr>
              <a:t>Выделять главное и обобща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3. Историческое мыш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Умение: </a:t>
            </a:r>
            <a:r>
              <a:rPr b="0" lang="ru-RU" sz="1800" spc="-1" strike="noStrike">
                <a:solidFill>
                  <a:srgbClr val="2c2c2c"/>
                </a:solidFill>
                <a:latin typeface="Arial"/>
              </a:rPr>
              <a:t>Определять причины и след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4.Нравственное самоопре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Умение: </a:t>
            </a:r>
            <a:r>
              <a:rPr b="0" lang="ru-RU" sz="1800" spc="-1" strike="noStrike">
                <a:solidFill>
                  <a:srgbClr val="2c2c2c"/>
                </a:solidFill>
                <a:latin typeface="Arial"/>
              </a:rPr>
              <a:t>Оценивать свои и чужие поступки, опираясь на систему нравственных цен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786200" y="1785960"/>
            <a:ext cx="4052880" cy="47919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и урока - науч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03f5"/>
                </a:solidFill>
                <a:latin typeface="Arial"/>
              </a:rPr>
              <a:t>1-2. Картина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2c2c"/>
                </a:solidFill>
                <a:latin typeface="Arial"/>
              </a:rPr>
              <a:t>Выделять главное в деятельности князя Владимира </a:t>
            </a:r>
            <a:r>
              <a:rPr b="0" lang="en-US" sz="1800" spc="-1" strike="noStrike">
                <a:solidFill>
                  <a:srgbClr val="2c2c2c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2c2c2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3. Историческое мыш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c2c2c"/>
                </a:solidFill>
                <a:latin typeface="Arial"/>
              </a:rPr>
              <a:t>Определять причины и следствия Крещения Рус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4.Нравственное самоопре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2c2c"/>
                </a:solidFill>
                <a:latin typeface="Arial"/>
              </a:rPr>
              <a:t>Оценивая сохраненные в истории поступки князя Владимира, определять в каких случаях он утверждал нравственные ценности, а в каких – действовал вопреки 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Прямоугольник 5" descr=""/>
          <p:cNvPicPr/>
          <p:nvPr/>
        </p:nvPicPr>
        <p:blipFill>
          <a:blip r:embed="rId1"/>
          <a:stretch/>
        </p:blipFill>
        <p:spPr>
          <a:xfrm>
            <a:off x="3067200" y="2219400"/>
            <a:ext cx="3009600" cy="113976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6" descr=""/>
          <p:cNvPicPr/>
          <p:nvPr/>
        </p:nvPicPr>
        <p:blipFill>
          <a:blip r:embed="rId2"/>
          <a:stretch/>
        </p:blipFill>
        <p:spPr>
          <a:xfrm>
            <a:off x="3067200" y="3292560"/>
            <a:ext cx="3009600" cy="11397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7" descr=""/>
          <p:cNvPicPr/>
          <p:nvPr/>
        </p:nvPicPr>
        <p:blipFill>
          <a:blip r:embed="rId3"/>
          <a:stretch/>
        </p:blipFill>
        <p:spPr>
          <a:xfrm>
            <a:off x="3067200" y="4718160"/>
            <a:ext cx="300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одготовка проблемно-диалогического урока истории</a:t>
            </a:r>
            <a:br>
              <a:rPr sz="3200"/>
            </a:b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Как спланировать постановку учебной проблемы?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000240" y="1714680"/>
            <a:ext cx="2438640" cy="39888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Определиться:</a:t>
            </a:r>
            <a:r>
              <a:rPr b="1" lang="ru-RU" sz="1400" spc="-1" strike="noStrike">
                <a:solidFill>
                  <a:srgbClr val="2c2c2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14200" y="3286080"/>
            <a:ext cx="4876920" cy="16185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Внимательно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прочитать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источники и вопросы в конце параграфа и самому четко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выделить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в них два факта (мнения), которые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противоречат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друг дру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14200" y="2214720"/>
            <a:ext cx="3657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2c2c2c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2c2c2c"/>
                </a:solidFill>
                <a:latin typeface="Arial"/>
              </a:rPr>
              <a:t>Использовать готовую</a:t>
            </a:r>
            <a:r>
              <a:rPr b="0" i="1" lang="ru-RU" sz="2000" spc="-1" strike="noStrike">
                <a:solidFill>
                  <a:srgbClr val="2c2c2c"/>
                </a:solidFill>
                <a:latin typeface="Arial"/>
              </a:rPr>
              <a:t> проблему из учеб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286680" y="1928880"/>
            <a:ext cx="27432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2c"/>
                </a:solidFill>
                <a:latin typeface="Arial"/>
              </a:rPr>
              <a:t>Задать свою</a:t>
            </a:r>
            <a:r>
              <a:rPr b="0" i="1" lang="ru-RU" sz="2000" spc="-1" strike="noStrike">
                <a:solidFill>
                  <a:srgbClr val="2c2c2c"/>
                </a:solidFill>
                <a:latin typeface="Arial"/>
              </a:rPr>
              <a:t> пробл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214200" y="5214960"/>
            <a:ext cx="4876920" cy="131364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Определить для себя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порядок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, в котором по ходу диалога дети будут читать источники и отвечать на вопросы к 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5214960" y="2819520"/>
            <a:ext cx="392904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Решить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к какой проблеме подвести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5214960" y="3733920"/>
            <a:ext cx="3929040" cy="161856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Подобрать два факта (мнения), противоречие между которыми ведет к формулированию желаемой пробл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5357880" y="5394240"/>
            <a:ext cx="3786120" cy="131364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Составить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вопросы диалога с детьми для осмысления противоречия и формулирования пробл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13"/>
          <p:cNvSpPr/>
          <p:nvPr/>
        </p:nvSpPr>
        <p:spPr>
          <a:xfrm flipH="1">
            <a:off x="1856880" y="1928880"/>
            <a:ext cx="1143000" cy="285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11"/>
          <p:cNvSpPr/>
          <p:nvPr/>
        </p:nvSpPr>
        <p:spPr>
          <a:xfrm rot="3895200">
            <a:off x="3652920" y="2610000"/>
            <a:ext cx="1241280" cy="336240"/>
          </a:xfrm>
          <a:custGeom>
            <a:avLst/>
            <a:gdLst>
              <a:gd name="textAreaLeft" fmla="*/ 242640 w 1241280"/>
              <a:gd name="textAreaRight" fmla="*/ 909360 w 1241280"/>
              <a:gd name="textAreaTop" fmla="*/ 45000 h 336240"/>
              <a:gd name="textAreaBottom" fmla="*/ 291240 h 336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54" hR="21600" stAng="10800000" swAng="5400000"/>
                <a:lnTo>
                  <a:pt x="11595" y="0"/>
                </a:lnTo>
                <a:arcTo wR="8454" hR="21600" stAng="-5400000" swAng="2874453"/>
                <a:lnTo>
                  <a:pt x="21117" y="14400"/>
                </a:lnTo>
                <a:lnTo>
                  <a:pt x="18479" y="21600"/>
                </a:lnTo>
                <a:lnTo>
                  <a:pt x="14874" y="14400"/>
                </a:lnTo>
                <a:lnTo>
                  <a:pt x="16425" y="14400"/>
                </a:lnTo>
                <a:arcTo wR="8454" hR="21600" stAng="-2525547" swAng="-2620535"/>
                <a:lnTo>
                  <a:pt x="10025" y="376"/>
                </a:lnTo>
                <a:arcTo wR="8454" hR="21600" stAng="-5653918" swAng="-5146082"/>
                <a:close/>
              </a:path>
              <a:path fill="darkenLess" w="21600" h="21600">
                <a:moveTo>
                  <a:pt x="0" y="21600"/>
                </a:moveTo>
                <a:arcTo wR="8454" hR="21600" stAng="10800000" swAng="5400000"/>
                <a:lnTo>
                  <a:pt x="8454" y="0"/>
                </a:lnTo>
                <a:arcTo wR="8454" hR="21600" stAng="-5400000" swAng="253918"/>
                <a:lnTo>
                  <a:pt x="10025" y="376"/>
                </a:lnTo>
                <a:arcTo wR="8454" hR="21600" stAng="-5653918" swAng="-5146082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1"/>
          <p:cNvSpPr/>
          <p:nvPr/>
        </p:nvSpPr>
        <p:spPr>
          <a:xfrm rot="3895200">
            <a:off x="4178520" y="4782960"/>
            <a:ext cx="1150920" cy="334800"/>
          </a:xfrm>
          <a:custGeom>
            <a:avLst/>
            <a:gdLst>
              <a:gd name="textAreaLeft" fmla="*/ 220680 w 1150920"/>
              <a:gd name="textAreaRight" fmla="*/ 841680 w 1150920"/>
              <a:gd name="textAreaTop" fmla="*/ 44640 h 334800"/>
              <a:gd name="textAreaBottom" fmla="*/ 290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2" hR="21600" stAng="10800000" swAng="5400000"/>
                <a:lnTo>
                  <a:pt x="11654" y="0"/>
                </a:lnTo>
                <a:arcTo wR="8282" hR="21600" stAng="-5400000" swAng="2839165"/>
                <a:lnTo>
                  <a:pt x="21126" y="14400"/>
                </a:lnTo>
                <a:lnTo>
                  <a:pt x="18249" y="21600"/>
                </a:lnTo>
                <a:lnTo>
                  <a:pt x="14424" y="14400"/>
                </a:lnTo>
                <a:lnTo>
                  <a:pt x="16089" y="14400"/>
                </a:lnTo>
                <a:arcTo wR="8282" hR="21600" stAng="-2560835" swAng="-2565668"/>
                <a:lnTo>
                  <a:pt x="9968" y="452"/>
                </a:lnTo>
                <a:arcTo wR="8282" hR="21600" stAng="-5673497" swAng="-5126503"/>
                <a:close/>
              </a:path>
              <a:path fill="darkenLess" w="21600" h="21600">
                <a:moveTo>
                  <a:pt x="0" y="21600"/>
                </a:moveTo>
                <a:arcTo wR="8282" hR="21600" stAng="10800000" swAng="5400000"/>
                <a:lnTo>
                  <a:pt x="8282" y="0"/>
                </a:lnTo>
                <a:arcTo wR="8282" hR="21600" stAng="-5400000" swAng="273497"/>
                <a:lnTo>
                  <a:pt x="9968" y="452"/>
                </a:lnTo>
                <a:arcTo wR="8282" hR="21600" stAng="-5673497" swAng="-5126503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 flipV="1" rot="7148400">
            <a:off x="8003520" y="2386800"/>
            <a:ext cx="777600" cy="249120"/>
          </a:xfrm>
          <a:custGeom>
            <a:avLst/>
            <a:gdLst>
              <a:gd name="textAreaLeft" fmla="*/ 144360 w 777600"/>
              <a:gd name="textAreaRight" fmla="*/ 567360 w 77760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27" hR="21600" stAng="10800000" swAng="5400000"/>
                <a:lnTo>
                  <a:pt x="11740" y="0"/>
                </a:lnTo>
                <a:arcTo wR="8027" hR="21600" stAng="-5400000" swAng="2785630"/>
                <a:lnTo>
                  <a:pt x="21141" y="14400"/>
                </a:lnTo>
                <a:lnTo>
                  <a:pt x="17911" y="21600"/>
                </a:lnTo>
                <a:lnTo>
                  <a:pt x="13762" y="14400"/>
                </a:lnTo>
                <a:lnTo>
                  <a:pt x="15595" y="14400"/>
                </a:lnTo>
                <a:arcTo wR="8027" hR="21600" stAng="-2614370" swAng="-2482711"/>
                <a:lnTo>
                  <a:pt x="9884" y="586"/>
                </a:lnTo>
                <a:arcTo wR="8027" hR="21600" stAng="-5702919" swAng="-5097081"/>
                <a:close/>
              </a:path>
              <a:path fill="darkenLess" w="21600" h="21600">
                <a:moveTo>
                  <a:pt x="0" y="21600"/>
                </a:moveTo>
                <a:arcTo wR="8027" hR="21600" stAng="10800000" swAng="5400000"/>
                <a:lnTo>
                  <a:pt x="8027" y="0"/>
                </a:lnTo>
                <a:arcTo wR="8027" hR="21600" stAng="-5400000" swAng="302919"/>
                <a:lnTo>
                  <a:pt x="9884" y="586"/>
                </a:lnTo>
                <a:arcTo wR="8027" hR="21600" stAng="-5702919" swAng="-5097081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11"/>
          <p:cNvSpPr/>
          <p:nvPr/>
        </p:nvSpPr>
        <p:spPr>
          <a:xfrm flipV="1" rot="7148400">
            <a:off x="8181000" y="3516120"/>
            <a:ext cx="841320" cy="252360"/>
          </a:xfrm>
          <a:custGeom>
            <a:avLst/>
            <a:gdLst>
              <a:gd name="textAreaLeft" fmla="*/ 159480 w 841320"/>
              <a:gd name="textAreaRight" fmla="*/ 614880 w 841320"/>
              <a:gd name="textAreaTop" fmla="*/ 33840 h 252360"/>
              <a:gd name="textAreaBottom" fmla="*/ 2185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04" hR="21600" stAng="10800000" swAng="5400000"/>
                <a:lnTo>
                  <a:pt x="11681" y="0"/>
                </a:lnTo>
                <a:arcTo wR="8204" hR="21600" stAng="-5400000" swAng="2822946"/>
                <a:lnTo>
                  <a:pt x="21131" y="14400"/>
                </a:lnTo>
                <a:lnTo>
                  <a:pt x="18146" y="21600"/>
                </a:lnTo>
                <a:lnTo>
                  <a:pt x="14222" y="14400"/>
                </a:lnTo>
                <a:lnTo>
                  <a:pt x="15938" y="14400"/>
                </a:lnTo>
                <a:arcTo wR="8204" hR="21600" stAng="-2577054" swAng="-2540462"/>
                <a:lnTo>
                  <a:pt x="9942" y="491"/>
                </a:lnTo>
                <a:arcTo wR="8204" hR="21600" stAng="-5682484" swAng="-5117516"/>
                <a:close/>
              </a:path>
              <a:path fill="darkenLess" w="21600" h="21600">
                <a:moveTo>
                  <a:pt x="0" y="21600"/>
                </a:moveTo>
                <a:arcTo wR="8204" hR="21600" stAng="10800000" swAng="5400000"/>
                <a:lnTo>
                  <a:pt x="8204" y="0"/>
                </a:lnTo>
                <a:arcTo wR="8204" hR="21600" stAng="-5400000" swAng="282484"/>
                <a:lnTo>
                  <a:pt x="9942" y="491"/>
                </a:lnTo>
                <a:arcTo wR="8204" hR="21600" stAng="-5682484" swAng="-5117516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11"/>
          <p:cNvSpPr/>
          <p:nvPr/>
        </p:nvSpPr>
        <p:spPr>
          <a:xfrm flipV="1" rot="7148400">
            <a:off x="8172720" y="5274000"/>
            <a:ext cx="971640" cy="309600"/>
          </a:xfrm>
          <a:custGeom>
            <a:avLst/>
            <a:gdLst>
              <a:gd name="textAreaLeft" fmla="*/ 180720 w 971640"/>
              <a:gd name="textAreaRight" fmla="*/ 708840 w 971640"/>
              <a:gd name="textAreaTop" fmla="*/ 41400 h 309600"/>
              <a:gd name="textAreaBottom" fmla="*/ 268200 h 309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43" hR="21600" stAng="10800000" swAng="5400000"/>
                <a:lnTo>
                  <a:pt x="11735" y="0"/>
                </a:lnTo>
                <a:arcTo wR="8043" hR="21600" stAng="-5400000" swAng="2788942"/>
                <a:lnTo>
                  <a:pt x="21140" y="14400"/>
                </a:lnTo>
                <a:lnTo>
                  <a:pt x="17931" y="21600"/>
                </a:lnTo>
                <a:lnTo>
                  <a:pt x="13802" y="14400"/>
                </a:lnTo>
                <a:lnTo>
                  <a:pt x="15625" y="14400"/>
                </a:lnTo>
                <a:arcTo wR="8043" hR="21600" stAng="-2611058" swAng="-2487855"/>
                <a:lnTo>
                  <a:pt x="9889" y="577"/>
                </a:lnTo>
                <a:arcTo wR="8043" hR="21600" stAng="-5701087" swAng="-5098913"/>
                <a:close/>
              </a:path>
              <a:path fill="darkenLess" w="21600" h="21600">
                <a:moveTo>
                  <a:pt x="0" y="21600"/>
                </a:moveTo>
                <a:arcTo wR="8043" hR="21600" stAng="10800000" swAng="5400000"/>
                <a:lnTo>
                  <a:pt x="8043" y="0"/>
                </a:lnTo>
                <a:arcTo wR="8043" hR="21600" stAng="-5400000" swAng="301087"/>
                <a:lnTo>
                  <a:pt x="9889" y="577"/>
                </a:lnTo>
                <a:arcTo wR="8043" hR="21600" stAng="-5701087" swAng="-5098913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5429160" y="1928880"/>
            <a:ext cx="857520" cy="357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Подготовка проблемно-диалогического урока истории</a:t>
            </a:r>
            <a:br>
              <a:rPr sz="3300"/>
            </a:b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Как спланировать этап актуализации?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214200" y="5029200"/>
            <a:ext cx="41292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устный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фронтальный диалог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500040" y="2857680"/>
            <a:ext cx="8229600" cy="100872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Отобрать вопросы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, которые пригодятся для решения проблемы урока (или составить такие вопросы, если их недостаточ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533520" y="2117880"/>
            <a:ext cx="8305560" cy="39888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Прочитать вопросы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актуализации перед параграф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533520" y="4267080"/>
            <a:ext cx="8229600" cy="39888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Определиться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в какой форме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провести актуализа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8"/>
          <p:cNvSpPr/>
          <p:nvPr/>
        </p:nvSpPr>
        <p:spPr>
          <a:xfrm flipH="1">
            <a:off x="3200400" y="4648320"/>
            <a:ext cx="83808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4876920" y="5029200"/>
            <a:ext cx="4190760" cy="131364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) 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продуктивное задание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 (как правило письменное) – время выполнения – сдача – проверка – последующая отмет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11"/>
          <p:cNvSpPr/>
          <p:nvPr/>
        </p:nvSpPr>
        <p:spPr>
          <a:xfrm>
            <a:off x="4038480" y="4648320"/>
            <a:ext cx="9144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 flipV="1" rot="5400000">
            <a:off x="-165960" y="3948840"/>
            <a:ext cx="1052640" cy="298800"/>
          </a:xfrm>
          <a:custGeom>
            <a:avLst/>
            <a:gdLst>
              <a:gd name="textAreaLeft" fmla="*/ 203400 w 1052640"/>
              <a:gd name="textAreaRight" fmla="*/ 770400 w 1052640"/>
              <a:gd name="textAreaTop" fmla="*/ 39960 h 298800"/>
              <a:gd name="textAreaBottom" fmla="*/ 258840 h 29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6" hR="21600" stAng="10800000" swAng="5400000"/>
                <a:lnTo>
                  <a:pt x="11632" y="0"/>
                </a:lnTo>
                <a:arcTo wR="8346" hR="21600" stAng="-5400000" swAng="2852453"/>
                <a:lnTo>
                  <a:pt x="21123" y="14400"/>
                </a:lnTo>
                <a:lnTo>
                  <a:pt x="18335" y="21600"/>
                </a:lnTo>
                <a:lnTo>
                  <a:pt x="14593" y="14400"/>
                </a:lnTo>
                <a:lnTo>
                  <a:pt x="16215" y="14400"/>
                </a:lnTo>
                <a:arcTo wR="8346" hR="21600" stAng="-2547547" swAng="-2586275"/>
                <a:lnTo>
                  <a:pt x="9989" y="423"/>
                </a:lnTo>
                <a:arcTo wR="8346" hR="21600" stAng="-5666178" swAng="-5133822"/>
                <a:close/>
              </a:path>
              <a:path fill="darkenLess" w="21600" h="21600">
                <a:moveTo>
                  <a:pt x="0" y="21600"/>
                </a:moveTo>
                <a:arcTo wR="8346" hR="21600" stAng="10800000" swAng="5400000"/>
                <a:lnTo>
                  <a:pt x="8346" y="0"/>
                </a:lnTo>
                <a:arcTo wR="8346" hR="21600" stAng="-5400000" swAng="266178"/>
                <a:lnTo>
                  <a:pt x="9989" y="423"/>
                </a:lnTo>
                <a:arcTo wR="8346" hR="21600" stAng="-5666178" swAng="-5133822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 flipV="1" rot="5400000">
            <a:off x="-214200" y="2715120"/>
            <a:ext cx="1143000" cy="282600"/>
          </a:xfrm>
          <a:custGeom>
            <a:avLst/>
            <a:gdLst>
              <a:gd name="textAreaLeft" fmla="*/ 228960 w 1143000"/>
              <a:gd name="textAreaRight" fmla="*/ 839160 w 1143000"/>
              <a:gd name="textAreaTop" fmla="*/ 37800 h 282600"/>
              <a:gd name="textAreaBottom" fmla="*/ 244800 h 2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1" hR="21600" stAng="10800000" swAng="5400000"/>
                <a:lnTo>
                  <a:pt x="11526" y="0"/>
                </a:lnTo>
                <a:arcTo wR="8661" hR="21600" stAng="-5400000" swAng="2915666"/>
                <a:lnTo>
                  <a:pt x="21105" y="14400"/>
                </a:lnTo>
                <a:lnTo>
                  <a:pt x="18754" y="21600"/>
                </a:lnTo>
                <a:lnTo>
                  <a:pt x="15412" y="14400"/>
                </a:lnTo>
                <a:lnTo>
                  <a:pt x="16826" y="14400"/>
                </a:lnTo>
                <a:arcTo wR="8661" hR="21600" stAng="-2484334" swAng="-2684840"/>
                <a:lnTo>
                  <a:pt x="10093" y="298"/>
                </a:lnTo>
                <a:arcTo wR="8661" hR="21600" stAng="-5630826" swAng="-5169174"/>
                <a:close/>
              </a:path>
              <a:path fill="darkenLess" w="21600" h="21600">
                <a:moveTo>
                  <a:pt x="0" y="21600"/>
                </a:moveTo>
                <a:arcTo wR="8661" hR="21600" stAng="10800000" swAng="5400000"/>
                <a:lnTo>
                  <a:pt x="8661" y="0"/>
                </a:lnTo>
                <a:arcTo wR="8661" hR="21600" stAng="-5400000" swAng="230826"/>
                <a:lnTo>
                  <a:pt x="10093" y="298"/>
                </a:lnTo>
                <a:arcTo wR="8661" hR="21600" stAng="-5630826" swAng="-5169174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858160" cy="1905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одготовка проблемно-диалогического урока истории</a:t>
            </a:r>
            <a:br>
              <a:rPr sz="3700"/>
            </a:br>
            <a:r>
              <a:rPr b="0" lang="ru-RU" sz="3300" spc="-1" strike="noStrike">
                <a:solidFill>
                  <a:srgbClr val="ff0000"/>
                </a:solidFill>
                <a:latin typeface="Franklin Gothic Book"/>
              </a:rPr>
              <a:t>Как спланировать поиск решения проблемы?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533520" y="5851440"/>
            <a:ext cx="8229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Спланировать</a:t>
            </a:r>
            <a:r>
              <a:rPr b="1" lang="ru-RU" sz="2000" spc="-1" strike="noStrike">
                <a:solidFill>
                  <a:srgbClr val="2c2c2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в каком виде отображать на доске выводы-решения (таблица, блок-схем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33520" y="3032280"/>
            <a:ext cx="8229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Выбрать задания  к тексту и иллюстрациям, выполняя которые дети смогут сформулировать ожидаемые выводы по пробл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533520" y="2117880"/>
            <a:ext cx="830556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Решить  какие ответы по проблеме могут сформулировать дети, изучая содержание 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533520" y="4267080"/>
            <a:ext cx="8229600" cy="100872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Определиться в какой форме будет выполняться каждое задание: фронтально, в парах, группах, индивидуально с коллективной проверкой по заверш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 flipV="1" rot="5400000">
            <a:off x="-214200" y="2715120"/>
            <a:ext cx="1143000" cy="282600"/>
          </a:xfrm>
          <a:custGeom>
            <a:avLst/>
            <a:gdLst>
              <a:gd name="textAreaLeft" fmla="*/ 228960 w 1143000"/>
              <a:gd name="textAreaRight" fmla="*/ 839160 w 1143000"/>
              <a:gd name="textAreaTop" fmla="*/ 37800 h 282600"/>
              <a:gd name="textAreaBottom" fmla="*/ 244800 h 2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1" hR="21600" stAng="10800000" swAng="5400000"/>
                <a:lnTo>
                  <a:pt x="11526" y="0"/>
                </a:lnTo>
                <a:arcTo wR="8661" hR="21600" stAng="-5400000" swAng="2915666"/>
                <a:lnTo>
                  <a:pt x="21105" y="14400"/>
                </a:lnTo>
                <a:lnTo>
                  <a:pt x="18754" y="21600"/>
                </a:lnTo>
                <a:lnTo>
                  <a:pt x="15412" y="14400"/>
                </a:lnTo>
                <a:lnTo>
                  <a:pt x="16826" y="14400"/>
                </a:lnTo>
                <a:arcTo wR="8661" hR="21600" stAng="-2484334" swAng="-2684840"/>
                <a:lnTo>
                  <a:pt x="10093" y="298"/>
                </a:lnTo>
                <a:arcTo wR="8661" hR="21600" stAng="-5630826" swAng="-5169174"/>
                <a:close/>
              </a:path>
              <a:path fill="darkenLess" w="21600" h="21600">
                <a:moveTo>
                  <a:pt x="0" y="21600"/>
                </a:moveTo>
                <a:arcTo wR="8661" hR="21600" stAng="10800000" swAng="5400000"/>
                <a:lnTo>
                  <a:pt x="8661" y="0"/>
                </a:lnTo>
                <a:arcTo wR="8661" hR="21600" stAng="-5400000" swAng="230826"/>
                <a:lnTo>
                  <a:pt x="10093" y="298"/>
                </a:lnTo>
                <a:arcTo wR="8661" hR="21600" stAng="-5630826" swAng="-5169174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 flipV="1" rot="5400000">
            <a:off x="-144360" y="4143960"/>
            <a:ext cx="1143000" cy="282600"/>
          </a:xfrm>
          <a:custGeom>
            <a:avLst/>
            <a:gdLst>
              <a:gd name="textAreaLeft" fmla="*/ 228960 w 1143000"/>
              <a:gd name="textAreaRight" fmla="*/ 839160 w 1143000"/>
              <a:gd name="textAreaTop" fmla="*/ 37800 h 282600"/>
              <a:gd name="textAreaBottom" fmla="*/ 244800 h 2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1" hR="21600" stAng="10800000" swAng="5400000"/>
                <a:lnTo>
                  <a:pt x="11526" y="0"/>
                </a:lnTo>
                <a:arcTo wR="8661" hR="21600" stAng="-5400000" swAng="2915666"/>
                <a:lnTo>
                  <a:pt x="21105" y="14400"/>
                </a:lnTo>
                <a:lnTo>
                  <a:pt x="18754" y="21600"/>
                </a:lnTo>
                <a:lnTo>
                  <a:pt x="15412" y="14400"/>
                </a:lnTo>
                <a:lnTo>
                  <a:pt x="16826" y="14400"/>
                </a:lnTo>
                <a:arcTo wR="8661" hR="21600" stAng="-2484334" swAng="-2684840"/>
                <a:lnTo>
                  <a:pt x="10093" y="298"/>
                </a:lnTo>
                <a:arcTo wR="8661" hR="21600" stAng="-5630826" swAng="-5169174"/>
                <a:close/>
              </a:path>
              <a:path fill="darkenLess" w="21600" h="21600">
                <a:moveTo>
                  <a:pt x="0" y="21600"/>
                </a:moveTo>
                <a:arcTo wR="8661" hR="21600" stAng="10800000" swAng="5400000"/>
                <a:lnTo>
                  <a:pt x="8661" y="0"/>
                </a:lnTo>
                <a:arcTo wR="8661" hR="21600" stAng="-5400000" swAng="230826"/>
                <a:lnTo>
                  <a:pt x="10093" y="298"/>
                </a:lnTo>
                <a:arcTo wR="8661" hR="21600" stAng="-5630826" swAng="-5169174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 flipV="1" rot="5400000">
            <a:off x="-216000" y="5501160"/>
            <a:ext cx="1143000" cy="282600"/>
          </a:xfrm>
          <a:custGeom>
            <a:avLst/>
            <a:gdLst>
              <a:gd name="textAreaLeft" fmla="*/ 228960 w 1143000"/>
              <a:gd name="textAreaRight" fmla="*/ 839160 w 1143000"/>
              <a:gd name="textAreaTop" fmla="*/ 37800 h 282600"/>
              <a:gd name="textAreaBottom" fmla="*/ 244800 h 2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1" hR="21600" stAng="10800000" swAng="5400000"/>
                <a:lnTo>
                  <a:pt x="11526" y="0"/>
                </a:lnTo>
                <a:arcTo wR="8661" hR="21600" stAng="-5400000" swAng="2915666"/>
                <a:lnTo>
                  <a:pt x="21105" y="14400"/>
                </a:lnTo>
                <a:lnTo>
                  <a:pt x="18754" y="21600"/>
                </a:lnTo>
                <a:lnTo>
                  <a:pt x="15412" y="14400"/>
                </a:lnTo>
                <a:lnTo>
                  <a:pt x="16826" y="14400"/>
                </a:lnTo>
                <a:arcTo wR="8661" hR="21600" stAng="-2484334" swAng="-2684840"/>
                <a:lnTo>
                  <a:pt x="10093" y="298"/>
                </a:lnTo>
                <a:arcTo wR="8661" hR="21600" stAng="-5630826" swAng="-5169174"/>
                <a:close/>
              </a:path>
              <a:path fill="darkenLess" w="21600" h="21600">
                <a:moveTo>
                  <a:pt x="0" y="21600"/>
                </a:moveTo>
                <a:arcTo wR="8661" hR="21600" stAng="10800000" swAng="5400000"/>
                <a:lnTo>
                  <a:pt x="8661" y="0"/>
                </a:lnTo>
                <a:arcTo wR="8661" hR="21600" stAng="-5400000" swAng="230826"/>
                <a:lnTo>
                  <a:pt x="10093" y="298"/>
                </a:lnTo>
                <a:arcTo wR="8661" hR="21600" stAng="-5630826" swAng="-5169174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001080" cy="1905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Franklin Gothic Book"/>
              </a:rPr>
              <a:t>Подготовка проблемно-диалогического урока истории</a:t>
            </a:r>
            <a:br>
              <a:rPr sz="3300"/>
            </a:b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Как спланировать итог урока (выражение решения проблемы)?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571680" y="3143160"/>
            <a:ext cx="8229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Определить в какой форме ученики будут отвечать на этот вопрос: фронтально устно, индивидуально письм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533520" y="2117880"/>
            <a:ext cx="830556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Запланировать на финал урока вопрос: «Какое решение проблемы мы получили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533520" y="4267080"/>
            <a:ext cx="8229600" cy="703800"/>
          </a:xfrm>
          <a:prstGeom prst="rect">
            <a:avLst/>
          </a:prstGeom>
          <a:solidFill>
            <a:srgbClr val="a11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c2c2c"/>
                </a:solidFill>
                <a:latin typeface="Arial"/>
              </a:rPr>
              <a:t>Сформулировать задание на выражение решения, его применение в новой ситу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 flipV="1" rot="5400000">
            <a:off x="-214200" y="2715120"/>
            <a:ext cx="1143000" cy="282600"/>
          </a:xfrm>
          <a:custGeom>
            <a:avLst/>
            <a:gdLst>
              <a:gd name="textAreaLeft" fmla="*/ 228960 w 1143000"/>
              <a:gd name="textAreaRight" fmla="*/ 839160 w 1143000"/>
              <a:gd name="textAreaTop" fmla="*/ 37800 h 282600"/>
              <a:gd name="textAreaBottom" fmla="*/ 244800 h 2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1" hR="21600" stAng="10800000" swAng="5400000"/>
                <a:lnTo>
                  <a:pt x="11526" y="0"/>
                </a:lnTo>
                <a:arcTo wR="8661" hR="21600" stAng="-5400000" swAng="2915666"/>
                <a:lnTo>
                  <a:pt x="21105" y="14400"/>
                </a:lnTo>
                <a:lnTo>
                  <a:pt x="18754" y="21600"/>
                </a:lnTo>
                <a:lnTo>
                  <a:pt x="15412" y="14400"/>
                </a:lnTo>
                <a:lnTo>
                  <a:pt x="16826" y="14400"/>
                </a:lnTo>
                <a:arcTo wR="8661" hR="21600" stAng="-2484334" swAng="-2684840"/>
                <a:lnTo>
                  <a:pt x="10093" y="298"/>
                </a:lnTo>
                <a:arcTo wR="8661" hR="21600" stAng="-5630826" swAng="-5169174"/>
                <a:close/>
              </a:path>
              <a:path fill="darkenLess" w="21600" h="21600">
                <a:moveTo>
                  <a:pt x="0" y="21600"/>
                </a:moveTo>
                <a:arcTo wR="8661" hR="21600" stAng="10800000" swAng="5400000"/>
                <a:lnTo>
                  <a:pt x="8661" y="0"/>
                </a:lnTo>
                <a:arcTo wR="8661" hR="21600" stAng="-5400000" swAng="230826"/>
                <a:lnTo>
                  <a:pt x="10093" y="298"/>
                </a:lnTo>
                <a:arcTo wR="8661" hR="21600" stAng="-5630826" swAng="-5169174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 flipV="1" rot="5400000">
            <a:off x="-216000" y="4001040"/>
            <a:ext cx="1143000" cy="282600"/>
          </a:xfrm>
          <a:custGeom>
            <a:avLst/>
            <a:gdLst>
              <a:gd name="textAreaLeft" fmla="*/ 228960 w 1143000"/>
              <a:gd name="textAreaRight" fmla="*/ 839160 w 1143000"/>
              <a:gd name="textAreaTop" fmla="*/ 37800 h 282600"/>
              <a:gd name="textAreaBottom" fmla="*/ 244800 h 2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1" hR="21600" stAng="10800000" swAng="5400000"/>
                <a:lnTo>
                  <a:pt x="11526" y="0"/>
                </a:lnTo>
                <a:arcTo wR="8661" hR="21600" stAng="-5400000" swAng="2915666"/>
                <a:lnTo>
                  <a:pt x="21105" y="14400"/>
                </a:lnTo>
                <a:lnTo>
                  <a:pt x="18754" y="21600"/>
                </a:lnTo>
                <a:lnTo>
                  <a:pt x="15412" y="14400"/>
                </a:lnTo>
                <a:lnTo>
                  <a:pt x="16826" y="14400"/>
                </a:lnTo>
                <a:arcTo wR="8661" hR="21600" stAng="-2484334" swAng="-2684840"/>
                <a:lnTo>
                  <a:pt x="10093" y="298"/>
                </a:lnTo>
                <a:arcTo wR="8661" hR="21600" stAng="-5630826" swAng="-5169174"/>
                <a:close/>
              </a:path>
              <a:path fill="darkenLess" w="21600" h="21600">
                <a:moveTo>
                  <a:pt x="0" y="21600"/>
                </a:moveTo>
                <a:arcTo wR="8661" hR="21600" stAng="10800000" swAng="5400000"/>
                <a:lnTo>
                  <a:pt x="8661" y="0"/>
                </a:lnTo>
                <a:arcTo wR="8661" hR="21600" stAng="-5400000" swAng="230826"/>
                <a:lnTo>
                  <a:pt x="10093" y="298"/>
                </a:lnTo>
                <a:arcTo wR="8661" hR="21600" stAng="-5630826" swAng="-5169174"/>
                <a:close/>
              </a:path>
            </a:pathLst>
          </a:custGeom>
          <a:solidFill>
            <a:srgbClr val="fffff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2560" y="260280"/>
            <a:ext cx="900108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Это все здорово, а как же ЕГЭ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79280" y="126828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e519"/>
                </a:solidFill>
                <a:latin typeface="Arial"/>
              </a:rPr>
              <a:t>Развивающие ц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6156360" y="12682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продуктивные К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3132000" y="134136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СООТНЕ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79280" y="2708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ыть про це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6012000" y="26845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ыть про ЕГЭ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708360" y="2708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чета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 flipH="1">
            <a:off x="2556000" y="2205000"/>
            <a:ext cx="1728720" cy="432000"/>
          </a:xfrm>
          <a:prstGeom prst="line">
            <a:avLst/>
          </a:prstGeom>
          <a:ln w="5724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4356000" y="2276640"/>
            <a:ext cx="0" cy="431640"/>
          </a:xfrm>
          <a:prstGeom prst="line">
            <a:avLst/>
          </a:prstGeom>
          <a:ln w="5724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1"/>
          <p:cNvSpPr/>
          <p:nvPr/>
        </p:nvSpPr>
        <p:spPr>
          <a:xfrm>
            <a:off x="4572000" y="2205000"/>
            <a:ext cx="1800360" cy="432000"/>
          </a:xfrm>
          <a:prstGeom prst="line">
            <a:avLst/>
          </a:prstGeom>
          <a:ln w="5724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4356000" y="3141720"/>
            <a:ext cx="0" cy="431640"/>
          </a:xfrm>
          <a:prstGeom prst="line">
            <a:avLst/>
          </a:prstGeom>
          <a:ln w="5724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214200" y="3645000"/>
            <a:ext cx="8750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чение года развиваем умения, строим целостную карти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нце каждой темы проводим проверочную работу в формате ЕГЭ (цель - обучать форм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дготовки к ЕГЭ: отработка навыков работы с КИМ, самоподготовка при сопровождении, освоение метод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ния эссе, обучение «на ошибка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4"/>
          <p:cNvSpPr/>
          <p:nvPr/>
        </p:nvSpPr>
        <p:spPr>
          <a:xfrm flipH="1">
            <a:off x="5796000" y="1557360"/>
            <a:ext cx="504720" cy="0"/>
          </a:xfrm>
          <a:prstGeom prst="line">
            <a:avLst/>
          </a:prstGeom>
          <a:ln w="88920">
            <a:solidFill>
              <a:srgbClr val="e83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5"/>
          <p:cNvSpPr/>
          <p:nvPr/>
        </p:nvSpPr>
        <p:spPr>
          <a:xfrm>
            <a:off x="2556000" y="1557360"/>
            <a:ext cx="504720" cy="0"/>
          </a:xfrm>
          <a:prstGeom prst="line">
            <a:avLst/>
          </a:prstGeom>
          <a:ln w="88920">
            <a:solidFill>
              <a:srgbClr val="40e5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WordArt 28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72440" cy="1993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00040" y="2500200"/>
            <a:ext cx="8215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ить воспит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6760"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ажданина и патриота Отечеств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ценностно-ориентированной личности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6760"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ладающей нравственными качествами, способной к самореализации  в условиях современной социокультурной ситуаци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5643720" cy="128592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900" spc="-1" strike="noStrike">
                <a:solidFill>
                  <a:srgbClr val="000000"/>
                </a:solidFill>
                <a:latin typeface="Franklin Gothic Book"/>
              </a:rPr>
              <a:t>Внеурочная деятельность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500040" y="1857240"/>
            <a:ext cx="3384720" cy="2113200"/>
          </a:xfrm>
          <a:prstGeom prst="rect">
            <a:avLst/>
          </a:prstGeom>
          <a:solidFill>
            <a:srgbClr val="8df07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е общество учащихся «Созвезд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500040" y="5214960"/>
            <a:ext cx="3505320" cy="368280"/>
          </a:xfrm>
          <a:prstGeom prst="rect">
            <a:avLst/>
          </a:prstGeom>
          <a:solidFill>
            <a:srgbClr val="00c8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к ГИА,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572000" y="3143160"/>
            <a:ext cx="3786120" cy="825480"/>
          </a:xfrm>
          <a:prstGeom prst="rect">
            <a:avLst/>
          </a:prstGeom>
          <a:solidFill>
            <a:srgbClr val="ff7c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акции, инициат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5940360" y="189000"/>
            <a:ext cx="1676160" cy="1828800"/>
            <a:chOff x="5940360" y="189000"/>
            <a:chExt cx="1676160" cy="1828800"/>
          </a:xfrm>
        </p:grpSpPr>
        <p:grpSp>
          <p:nvGrpSpPr>
            <p:cNvPr id="480" name="Group 7"/>
            <p:cNvGrpSpPr/>
            <p:nvPr/>
          </p:nvGrpSpPr>
          <p:grpSpPr>
            <a:xfrm>
              <a:off x="5940360" y="189000"/>
              <a:ext cx="1676160" cy="1828800"/>
              <a:chOff x="5940360" y="189000"/>
              <a:chExt cx="1676160" cy="1828800"/>
            </a:xfrm>
          </p:grpSpPr>
          <p:pic>
            <p:nvPicPr>
              <p:cNvPr id="481" name="Picture 8" descr="sova!!!"/>
              <p:cNvPicPr/>
              <p:nvPr/>
            </p:nvPicPr>
            <p:blipFill>
              <a:blip r:embed="rId1"/>
              <a:stretch/>
            </p:blipFill>
            <p:spPr>
              <a:xfrm>
                <a:off x="6321240" y="646200"/>
                <a:ext cx="9810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Oval 9"/>
              <p:cNvSpPr/>
              <p:nvPr/>
            </p:nvSpPr>
            <p:spPr>
              <a:xfrm>
                <a:off x="6626160" y="189000"/>
                <a:ext cx="304560" cy="3049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10"/>
              <p:cNvSpPr/>
              <p:nvPr/>
            </p:nvSpPr>
            <p:spPr>
              <a:xfrm>
                <a:off x="5940360" y="1712880"/>
                <a:ext cx="30456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Oval 11"/>
              <p:cNvSpPr/>
              <p:nvPr/>
            </p:nvSpPr>
            <p:spPr>
              <a:xfrm>
                <a:off x="7311960" y="1712880"/>
                <a:ext cx="30456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2"/>
              <p:cNvSpPr/>
              <p:nvPr/>
            </p:nvSpPr>
            <p:spPr>
              <a:xfrm>
                <a:off x="6854760" y="493920"/>
                <a:ext cx="609480" cy="12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3"/>
              <p:cNvSpPr/>
              <p:nvPr/>
            </p:nvSpPr>
            <p:spPr>
              <a:xfrm flipH="1">
                <a:off x="6092280" y="493920"/>
                <a:ext cx="609480" cy="12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7" name="Line 14"/>
            <p:cNvSpPr/>
            <p:nvPr/>
          </p:nvSpPr>
          <p:spPr>
            <a:xfrm>
              <a:off x="6229440" y="1989360"/>
              <a:ext cx="1066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Line 15"/>
          <p:cNvSpPr/>
          <p:nvPr/>
        </p:nvSpPr>
        <p:spPr>
          <a:xfrm>
            <a:off x="179280" y="189000"/>
            <a:ext cx="0" cy="532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4191120" y="1447920"/>
            <a:ext cx="46080" cy="4267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7"/>
          <p:cNvSpPr/>
          <p:nvPr/>
        </p:nvSpPr>
        <p:spPr>
          <a:xfrm>
            <a:off x="179280" y="189000"/>
            <a:ext cx="5678640" cy="46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9"/>
          <p:cNvSpPr/>
          <p:nvPr/>
        </p:nvSpPr>
        <p:spPr>
          <a:xfrm flipH="1" flipV="1">
            <a:off x="178920" y="1447560"/>
            <a:ext cx="5607000" cy="5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20"/>
          <p:cNvSpPr/>
          <p:nvPr/>
        </p:nvSpPr>
        <p:spPr>
          <a:xfrm>
            <a:off x="214200" y="285768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21"/>
          <p:cNvSpPr/>
          <p:nvPr/>
        </p:nvSpPr>
        <p:spPr>
          <a:xfrm>
            <a:off x="214200" y="550080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2"/>
          <p:cNvSpPr/>
          <p:nvPr/>
        </p:nvSpPr>
        <p:spPr>
          <a:xfrm>
            <a:off x="4211640" y="34290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23"/>
          <p:cNvSpPr/>
          <p:nvPr/>
        </p:nvSpPr>
        <p:spPr>
          <a:xfrm>
            <a:off x="4214880" y="5715000"/>
            <a:ext cx="361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4572000" y="5357880"/>
            <a:ext cx="3505320" cy="6426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ая, проектная 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5"/>
          <p:cNvSpPr/>
          <p:nvPr/>
        </p:nvSpPr>
        <p:spPr>
          <a:xfrm flipH="1">
            <a:off x="5786280" y="214200"/>
            <a:ext cx="46080" cy="1285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043840" cy="202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99" name="Схема 13" descr=""/>
          <p:cNvPicPr/>
          <p:nvPr/>
        </p:nvPicPr>
        <p:blipFill>
          <a:blip r:embed="rId1"/>
          <a:stretch/>
        </p:blipFill>
        <p:spPr>
          <a:xfrm>
            <a:off x="128520" y="274680"/>
            <a:ext cx="881388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Использование  новых цифровых образовательных ресурс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01" name="Схема 11" descr=""/>
          <p:cNvPicPr/>
          <p:nvPr/>
        </p:nvPicPr>
        <p:blipFill>
          <a:blip r:embed="rId1"/>
          <a:stretch/>
        </p:blipFill>
        <p:spPr>
          <a:xfrm>
            <a:off x="493560" y="1390680"/>
            <a:ext cx="816300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11"/>
          <p:cNvSpPr/>
          <p:nvPr/>
        </p:nvSpPr>
        <p:spPr>
          <a:xfrm>
            <a:off x="4071960" y="1500120"/>
            <a:ext cx="714240" cy="3214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42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Основное направление деятельности–</a:t>
            </a:r>
            <a:br>
              <a:rPr sz="3700"/>
            </a:br>
            <a:r>
              <a:rPr b="0" lang="ru-RU" sz="3700" spc="-1" strike="noStrike">
                <a:solidFill>
                  <a:srgbClr val="ffffff"/>
                </a:solidFill>
                <a:latin typeface="Franklin Gothic Book"/>
              </a:rPr>
              <a:t>оптимизация форм образования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981080" y="5973840"/>
            <a:ext cx="472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80880" y="2041560"/>
            <a:ext cx="3048120" cy="1313640"/>
          </a:xfrm>
          <a:prstGeom prst="rect">
            <a:avLst/>
          </a:prstGeom>
          <a:solidFill>
            <a:srgbClr val="fdf7c7"/>
          </a:solidFill>
          <a:ln w="76320">
            <a:solidFill>
              <a:srgbClr val="2b03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современных образователь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 flipH="1">
            <a:off x="2133360" y="1500120"/>
            <a:ext cx="1509480" cy="451080"/>
          </a:xfrm>
          <a:prstGeom prst="line">
            <a:avLst/>
          </a:prstGeom>
          <a:ln w="7632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181480" y="2041560"/>
            <a:ext cx="3429000" cy="703800"/>
          </a:xfrm>
          <a:prstGeom prst="rect">
            <a:avLst/>
          </a:prstGeom>
          <a:solidFill>
            <a:srgbClr val="fdf7c7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урочная 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 flipH="1">
            <a:off x="3499920" y="1500120"/>
            <a:ext cx="357480" cy="2714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357120" y="4286160"/>
            <a:ext cx="3276720" cy="398880"/>
          </a:xfrm>
          <a:prstGeom prst="rect">
            <a:avLst/>
          </a:prstGeom>
          <a:solidFill>
            <a:srgbClr val="fdf7c7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ивные кур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4857840" y="1500120"/>
            <a:ext cx="1314360" cy="45108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000760" y="3429000"/>
            <a:ext cx="3838320" cy="703800"/>
          </a:xfrm>
          <a:prstGeom prst="rect">
            <a:avLst/>
          </a:prstGeom>
          <a:solidFill>
            <a:srgbClr val="fdf7c7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трудничество и взаимо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4429080" y="1500120"/>
            <a:ext cx="785880" cy="1857600"/>
          </a:xfrm>
          <a:prstGeom prst="line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2" descr="MP00640_"/>
          <p:cNvPicPr/>
          <p:nvPr/>
        </p:nvPicPr>
        <p:blipFill>
          <a:blip r:embed="rId1"/>
          <a:stretch/>
        </p:blipFill>
        <p:spPr>
          <a:xfrm>
            <a:off x="1143000" y="5000760"/>
            <a:ext cx="1600200" cy="1593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0"/>
          <p:cNvSpPr/>
          <p:nvPr/>
        </p:nvSpPr>
        <p:spPr>
          <a:xfrm>
            <a:off x="4643280" y="4786200"/>
            <a:ext cx="3910320" cy="398880"/>
          </a:xfrm>
          <a:prstGeom prst="rect">
            <a:avLst/>
          </a:prstGeom>
          <a:solidFill>
            <a:srgbClr val="fdf7c7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робация новых учеб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685800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2525d"/>
                </a:solidFill>
                <a:latin typeface="Franklin Gothic Book"/>
              </a:rPr>
              <a:t>Современные образовательные технологии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00040" y="1714680"/>
            <a:ext cx="3500640" cy="459720"/>
          </a:xfrm>
          <a:prstGeom prst="rect">
            <a:avLst/>
          </a:prstGeom>
          <a:solidFill>
            <a:srgbClr val="8df07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ное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00040" y="5286240"/>
            <a:ext cx="3505320" cy="1191240"/>
          </a:xfrm>
          <a:prstGeom prst="rect">
            <a:avLst/>
          </a:prstGeom>
          <a:solidFill>
            <a:srgbClr val="00c8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3"/>
                </a:solidFill>
                <a:latin typeface="Times New Roman"/>
                <a:ea typeface="Times New Roman"/>
              </a:rPr>
              <a:t>Информационно-коммуникационные 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643280" y="2286000"/>
            <a:ext cx="4214880" cy="825480"/>
          </a:xfrm>
          <a:prstGeom prst="rect">
            <a:avLst/>
          </a:prstGeom>
          <a:solidFill>
            <a:srgbClr val="ff7c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643280" y="5000760"/>
            <a:ext cx="4286520" cy="8254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уровневое   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7"/>
          <p:cNvGrpSpPr/>
          <p:nvPr/>
        </p:nvGrpSpPr>
        <p:grpSpPr>
          <a:xfrm>
            <a:off x="6929280" y="142920"/>
            <a:ext cx="1676160" cy="1828800"/>
            <a:chOff x="6929280" y="142920"/>
            <a:chExt cx="1676160" cy="1828800"/>
          </a:xfrm>
        </p:grpSpPr>
        <p:grpSp>
          <p:nvGrpSpPr>
            <p:cNvPr id="288" name="Group 8"/>
            <p:cNvGrpSpPr/>
            <p:nvPr/>
          </p:nvGrpSpPr>
          <p:grpSpPr>
            <a:xfrm>
              <a:off x="6929280" y="142920"/>
              <a:ext cx="1676160" cy="1828800"/>
              <a:chOff x="6929280" y="142920"/>
              <a:chExt cx="1676160" cy="1828800"/>
            </a:xfrm>
          </p:grpSpPr>
          <p:pic>
            <p:nvPicPr>
              <p:cNvPr id="289" name="Picture 9" descr="sova!!!"/>
              <p:cNvPicPr/>
              <p:nvPr/>
            </p:nvPicPr>
            <p:blipFill>
              <a:blip r:embed="rId1"/>
              <a:stretch/>
            </p:blipFill>
            <p:spPr>
              <a:xfrm>
                <a:off x="7310160" y="600120"/>
                <a:ext cx="9810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Oval 10"/>
              <p:cNvSpPr/>
              <p:nvPr/>
            </p:nvSpPr>
            <p:spPr>
              <a:xfrm>
                <a:off x="7615080" y="142920"/>
                <a:ext cx="304560" cy="3049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1"/>
              <p:cNvSpPr/>
              <p:nvPr/>
            </p:nvSpPr>
            <p:spPr>
              <a:xfrm>
                <a:off x="6929280" y="1666800"/>
                <a:ext cx="30456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2"/>
              <p:cNvSpPr/>
              <p:nvPr/>
            </p:nvSpPr>
            <p:spPr>
              <a:xfrm>
                <a:off x="8300880" y="1666800"/>
                <a:ext cx="30456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"/>
              <p:cNvSpPr/>
              <p:nvPr/>
            </p:nvSpPr>
            <p:spPr>
              <a:xfrm>
                <a:off x="7843680" y="447840"/>
                <a:ext cx="609480" cy="12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4"/>
              <p:cNvSpPr/>
              <p:nvPr/>
            </p:nvSpPr>
            <p:spPr>
              <a:xfrm flipH="1">
                <a:off x="7081200" y="447840"/>
                <a:ext cx="609480" cy="12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Line 15"/>
            <p:cNvSpPr/>
            <p:nvPr/>
          </p:nvSpPr>
          <p:spPr>
            <a:xfrm>
              <a:off x="7218360" y="1943280"/>
              <a:ext cx="1066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Line 17"/>
          <p:cNvSpPr/>
          <p:nvPr/>
        </p:nvSpPr>
        <p:spPr>
          <a:xfrm>
            <a:off x="4191120" y="1447920"/>
            <a:ext cx="46080" cy="483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21"/>
          <p:cNvSpPr/>
          <p:nvPr/>
        </p:nvSpPr>
        <p:spPr>
          <a:xfrm>
            <a:off x="214200" y="192888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22"/>
          <p:cNvSpPr/>
          <p:nvPr/>
        </p:nvSpPr>
        <p:spPr>
          <a:xfrm>
            <a:off x="285840" y="5761080"/>
            <a:ext cx="214200" cy="46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>
            <a:off x="4214880" y="6286680"/>
            <a:ext cx="361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4643280" y="4000680"/>
            <a:ext cx="4214880" cy="825480"/>
          </a:xfrm>
          <a:prstGeom prst="rect">
            <a:avLst/>
          </a:prstGeom>
          <a:solidFill>
            <a:srgbClr val="ff7c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я учебной деловой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4214880" y="4357800"/>
            <a:ext cx="428400" cy="46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00040" y="2357280"/>
            <a:ext cx="3500640" cy="678600"/>
          </a:xfrm>
          <a:prstGeom prst="rect">
            <a:avLst/>
          </a:prstGeom>
          <a:solidFill>
            <a:srgbClr val="8df07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е методы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500040" y="3357720"/>
            <a:ext cx="3500640" cy="459720"/>
          </a:xfrm>
          <a:prstGeom prst="rect">
            <a:avLst/>
          </a:prstGeom>
          <a:solidFill>
            <a:srgbClr val="8df07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развивающ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>
            <a:off x="214200" y="271476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214200" y="357192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00040" y="3929040"/>
            <a:ext cx="3505320" cy="1109160"/>
          </a:xfrm>
          <a:prstGeom prst="rect">
            <a:avLst/>
          </a:prstGeom>
          <a:solidFill>
            <a:srgbClr val="00c8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о-ориентированное развивающее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214200" y="450072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4643280" y="3357720"/>
            <a:ext cx="4214880" cy="459720"/>
          </a:xfrm>
          <a:prstGeom prst="rect">
            <a:avLst/>
          </a:prstGeom>
          <a:solidFill>
            <a:srgbClr val="ff7c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ное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4643280" y="6000840"/>
            <a:ext cx="4286520" cy="4597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ебат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4"/>
          <p:cNvSpPr/>
          <p:nvPr/>
        </p:nvSpPr>
        <p:spPr>
          <a:xfrm>
            <a:off x="4214880" y="5357880"/>
            <a:ext cx="428400" cy="46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3"/>
          <p:cNvSpPr/>
          <p:nvPr/>
        </p:nvSpPr>
        <p:spPr>
          <a:xfrm>
            <a:off x="4214880" y="3571920"/>
            <a:ext cx="428400" cy="46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>
            <a:off x="4214880" y="2643120"/>
            <a:ext cx="428400" cy="46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214200" y="1357200"/>
            <a:ext cx="46080" cy="442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Технология проектного обуче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42920" y="928800"/>
          <a:ext cx="8858160" cy="5790960"/>
        </p:xfrm>
        <a:graphic>
          <a:graphicData uri="http://schemas.openxmlformats.org/drawingml/2006/table">
            <a:tbl>
              <a:tblPr/>
              <a:tblGrid>
                <a:gridCol w="2622600"/>
                <a:gridCol w="1912680"/>
                <a:gridCol w="432288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40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условий для самостоятельного приобретения знаний, системного мышления и развития исследовательских ум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нетрадицион-ных урок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работе с одаренными деть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ущая форма обучения – деловая иг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Образовательный процесс строится в логике деятельности, имеющей личностный смысл для ученика, что повышает его мотивацию к обучен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Индивидуальный темп работы над проектом обеспечивает выход каждого учащегося на свой уровень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Комплексный подход в разработке проектов способствует сбалансированному развитию основных физиологических и психологических функций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Глубоко осознанное усвоение базовых знаний за счет универсального их использования в разных ситуаци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ские методы обуче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42920" y="1214280"/>
          <a:ext cx="8858160" cy="5486400"/>
        </p:xfrm>
        <a:graphic>
          <a:graphicData uri="http://schemas.openxmlformats.org/drawingml/2006/table">
            <a:tbl>
              <a:tblPr/>
              <a:tblGrid>
                <a:gridCol w="2714760"/>
                <a:gridCol w="1928520"/>
                <a:gridCol w="421488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87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умений самостоятельно решать поставленные задачи исследовательского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учебной и внеуроч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центре внимания – ученик, содействие развитию его творческих способност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ает мотивацию учащихся к обучению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ствует сбалансированному развитию личности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ение базовых знаний за счет универсального их использования в разных жизненных ситуаци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00960" cy="71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сберегающие технолог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42920" y="1428840"/>
          <a:ext cx="8715240" cy="4794120"/>
        </p:xfrm>
        <a:graphic>
          <a:graphicData uri="http://schemas.openxmlformats.org/drawingml/2006/table">
            <a:tbl>
              <a:tblPr/>
              <a:tblGrid>
                <a:gridCol w="1974960"/>
                <a:gridCol w="2111400"/>
                <a:gridCol w="4628880"/>
              </a:tblGrid>
              <a:tr h="146340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имущества технолог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хранение здоровья учащихся, обучение навыкам здорового образа жиз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учебной и внеуроч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Предупреждение перегрузки учащихся на уроке и до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редупреждение гиподинам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еспечение защищенности и психологического комфорта ребенк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омогает раскрыть потенциальные возможности лич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Педагогические технологии на основе гуманно-личностной ориентации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42920" y="1214280"/>
          <a:ext cx="8786880" cy="5486400"/>
        </p:xfrm>
        <a:graphic>
          <a:graphicData uri="http://schemas.openxmlformats.org/drawingml/2006/table">
            <a:tbl>
              <a:tblPr/>
              <a:tblGrid>
                <a:gridCol w="3143160"/>
                <a:gridCol w="2786040"/>
                <a:gridCol w="2857680"/>
              </a:tblGrid>
              <a:tr h="109764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технологии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акой целью применяется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примен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94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но-ориентированное развивающее обу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развивающее обуче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индивидуально-познавательных способностей учащихся, формирование интеллектуального потенциала, повышение самооценки и самореализации лич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244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учебной и внеуроч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244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работе с детьми с ограниченными возможностями обучения,  с одаренными учащими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4:01:13Z</dcterms:created>
  <dc:creator>Светлана</dc:creator>
  <dc:description/>
  <dc:language>en-US</dc:language>
  <cp:lastModifiedBy>KuzminowaEW</cp:lastModifiedBy>
  <dcterms:modified xsi:type="dcterms:W3CDTF">2014-03-30T15:01:50Z</dcterms:modified>
  <cp:revision>104</cp:revision>
  <dc:subject/>
  <dc:title>Горбенко Мария Петровна</dc:title>
</cp:coreProperties>
</file>