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5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117-67DF-4F91-92EF-8D4D832A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360-9860-4203-80D0-7E0BD323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052-56AC-4C64-8867-B61700C4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DB2-3C55-4739-8051-0E3BDF8C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6C1D-41A7-4D71-B9A1-9A7A7ED9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C069-CA1B-46F6-9BA7-7AFF01B0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1D2A-02BA-41BF-ACF7-AD3073C8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F3C1-40AB-4B04-A741-70A052E1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6EB-34F9-45F5-830F-7F852E0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2E77-6DC5-422B-A54C-E90FB3EC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1B47-E64D-4180-BAAF-7511424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DB7-08E5-4661-AD5A-8051D93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897-E365-4001-8F56-5BF39A5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FE00-F128-4742-B436-B45DA935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7817-DA4A-4DC3-A342-D13397F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2191-253F-4A5E-9AF2-65776933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5159-8656-4393-BAF6-7409E6DF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29D-ECD6-4E85-AB67-0CE2E45D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5B5-C780-4D25-92A9-DBC4A9D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311-4872-4D96-B8CA-6A818109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53D-C927-42C2-9C65-7A5A82D2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35B-A865-4898-AF49-258C67C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1CD-EB15-40DB-BA84-8CCA772D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F06-06DA-4239-B2A1-97E30169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8DE-9942-4807-9F6B-12BD8F6C1CD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EF5-8EA5-4655-A83A-9E558367A64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reefoto.com/preview/09-29-1?ffid=09-29-1&amp;k=Lemon+Cake" TargetMode="External"/><Relationship Id="rId2" Type="http://schemas.openxmlformats.org/officeDocument/2006/relationships/hyperlink" Target="http://www.freefoto.com/preview/09-29-2?ffid=09-29-2&amp;k=Tray+Bakes" TargetMode="External"/><Relationship Id="rId3" Type="http://schemas.openxmlformats.org/officeDocument/2006/relationships/hyperlink" Target="http://www.freefoto.com/preview/09-29-3?ffid=09-29-3&amp;k=Scones" TargetMode="External"/><Relationship Id="rId4" Type="http://schemas.openxmlformats.org/officeDocument/2006/relationships/hyperlink" Target="http://www.freefoto.com/preview/09-29-4?ffid=09-29-4&amp;k=Afternoon+Tea" TargetMode="External"/><Relationship Id="rId5" Type="http://schemas.openxmlformats.org/officeDocument/2006/relationships/hyperlink" Target="http://www.freefoto.com/preview/09-29-5?ffid=09-29-5&amp;k=Scones%2C+Jam+and+Cream" TargetMode="External"/><Relationship Id="rId6" Type="http://schemas.openxmlformats.org/officeDocument/2006/relationships/hyperlink" Target="http://www.freefoto.com/preview/09-29-6?ffid=09-29-6&amp;k=Scones%2C+Jam+and+Cream" TargetMode="External"/><Relationship Id="rId7" Type="http://schemas.openxmlformats.org/officeDocument/2006/relationships/hyperlink" Target="http://www.freefoto.com/preview/09-29-7?ffid=09-29-7&amp;k=Lemon+Cake" TargetMode="External"/><Relationship Id="rId8" Type="http://schemas.openxmlformats.org/officeDocument/2006/relationships/hyperlink" Target="http://www.freefoto.com/preview/09-29-8?ffid=09-29-8&amp;k=Scones" TargetMode="External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hyperlink" Target="http://www.freefoto.com/preview/09-29-9?ffid=09-29-9&amp;k=Scones" TargetMode="External"/><Relationship Id="rId12" Type="http://schemas.openxmlformats.org/officeDocument/2006/relationships/hyperlink" Target="http://www.freefoto.com/preview/09-29-10?ffid=09-29-10&amp;k=Cup+of+Tea" TargetMode="External"/><Relationship Id="rId13" Type="http://schemas.openxmlformats.org/officeDocument/2006/relationships/hyperlink" Target="http://www.freefoto.com/preview/09-29-11?ffid=09-29-11&amp;k=Cup+of+Tea" TargetMode="External"/><Relationship Id="rId14" Type="http://schemas.openxmlformats.org/officeDocument/2006/relationships/hyperlink" Target="http://www.freefoto.com/preview/09-29-12?ffid=09-29-12&amp;k=Cup+of+Tea" TargetMode="External"/><Relationship Id="rId15" Type="http://schemas.openxmlformats.org/officeDocument/2006/relationships/hyperlink" Target="http://www.freefoto.com/preview/09-29-13?ffid=09-29-13&amp;k=Teapot" TargetMode="External"/><Relationship Id="rId16" Type="http://schemas.openxmlformats.org/officeDocument/2006/relationships/hyperlink" Target="http://www.freefoto.com/preview/09-29-14?ffid=09-29-14&amp;k=Teapot" TargetMode="External"/><Relationship Id="rId17" Type="http://schemas.openxmlformats.org/officeDocument/2006/relationships/hyperlink" Target="http://www.freefoto.com/preview/09-29-15?ffid=09-29-15&amp;k=Teapot" TargetMode="External"/><Relationship Id="rId18" Type="http://schemas.openxmlformats.org/officeDocument/2006/relationships/hyperlink" Target="http://www.freefoto.com/preview/09-29-2?ffid=09-29-2&amp;k=Tray+Bakes" TargetMode="External"/><Relationship Id="rId19" Type="http://schemas.openxmlformats.org/officeDocument/2006/relationships/image" Target="../media/image15.jpeg"/><Relationship Id="rId20" Type="http://schemas.openxmlformats.org/officeDocument/2006/relationships/hyperlink" Target="http://www.freefoto.com/preview/09-29-3?ffid=09-29-3&amp;k=Scones" TargetMode="External"/><Relationship Id="rId21" Type="http://schemas.openxmlformats.org/officeDocument/2006/relationships/image" Target="../media/image16.jpeg"/><Relationship Id="rId22" Type="http://schemas.openxmlformats.org/officeDocument/2006/relationships/hyperlink" Target="http://www.freefoto.com/preview/09-29-5?ffid=09-29-5&amp;k=Scones%2C+Jam+and+Cream" TargetMode="External"/><Relationship Id="rId23" Type="http://schemas.openxmlformats.org/officeDocument/2006/relationships/image" Target="../media/image17.jpeg"/><Relationship Id="rId24" Type="http://schemas.openxmlformats.org/officeDocument/2006/relationships/hyperlink" Target="http://www.freefoto.com/preview/09-29-7?ffid=09-29-7&amp;k=Lemon+Cake" TargetMode="External"/><Relationship Id="rId25" Type="http://schemas.openxmlformats.org/officeDocument/2006/relationships/image" Target="../media/image18.jpeg"/><Relationship Id="rId26" Type="http://schemas.openxmlformats.org/officeDocument/2006/relationships/hyperlink" Target="http://www.freefoto.com/preview/09-29-10?ffid=09-29-10&amp;k=Cup+of+Tea" TargetMode="External"/><Relationship Id="rId27" Type="http://schemas.openxmlformats.org/officeDocument/2006/relationships/image" Target="../media/image19.jpeg"/><Relationship Id="rId28" Type="http://schemas.openxmlformats.org/officeDocument/2006/relationships/hyperlink" Target="http://www.freefoto.com/preview/09-29-12?ffid=09-29-12&amp;k=Cup+of+Tea" TargetMode="External"/><Relationship Id="rId29" Type="http://schemas.openxmlformats.org/officeDocument/2006/relationships/image" Target="../media/image20.jpeg"/><Relationship Id="rId30" Type="http://schemas.openxmlformats.org/officeDocument/2006/relationships/hyperlink" Target="http://www.freefoto.com/preview/09-29-15?ffid=09-29-15&amp;k=Teapot" TargetMode="External"/><Relationship Id="rId31" Type="http://schemas.openxmlformats.org/officeDocument/2006/relationships/image" Target="../media/image21.jpeg"/><Relationship Id="rId32" Type="http://schemas.openxmlformats.org/officeDocument/2006/relationships/image" Target="../media/image22.jpeg"/><Relationship Id="rId33" Type="http://schemas.openxmlformats.org/officeDocument/2006/relationships/image" Target="../media/image23.jpeg"/><Relationship Id="rId3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476280"/>
            <a:ext cx="807732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резентация к уроку </a:t>
            </a:r>
            <a:endParaRPr b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английского языка</a:t>
            </a:r>
            <a:endParaRPr b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в 5 классе </a:t>
            </a:r>
            <a:endParaRPr b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о теме</a:t>
            </a:r>
            <a:endParaRPr b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"What are you going to do?"</a:t>
            </a:r>
            <a:endParaRPr b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979640" cy="1676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32000" y="549360"/>
            <a:ext cx="579600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Franklin Gothic Medium"/>
              </a:rPr>
              <a:t>Mum, Linda has invited 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Franklin Gothic Medium"/>
              </a:rPr>
              <a:t>to stay with her family nex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916280"/>
            <a:ext cx="8281800" cy="1368360"/>
          </a:xfrm>
          <a:prstGeom prst="rect">
            <a:avLst/>
          </a:prstGeom>
          <a:solidFill>
            <a:srgbClr val="6ce9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she? I think that will be OK. But we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lk to Dad first.  David, Linda has inv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ire to stay with her family nex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645000"/>
            <a:ext cx="7920000" cy="1511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a bad idea. They will have a good time togeth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ure. Claire, what are you going to d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661000"/>
            <a:ext cx="586908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Franklin Gothic Medium"/>
              </a:rPr>
              <a:t>Hopefully to have a good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9228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C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61000" y="52959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C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54000" y="1484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40" y="3232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2708280"/>
            <a:ext cx="8496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Move and be healthy!!!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652760" cy="2060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93080" y="3878280"/>
            <a:ext cx="1290600" cy="297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835280" y="3933720"/>
            <a:ext cx="1368360" cy="2708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372360" y="620640"/>
            <a:ext cx="1576080" cy="1728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492360" y="4581360"/>
            <a:ext cx="1914840" cy="1748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3112920" y="549360"/>
            <a:ext cx="1670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640" y="1916280"/>
            <a:ext cx="633744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to be going to </a:t>
            </a:r>
            <a:endParaRPr b="1" lang="en-US" sz="2400" spc="1" strike="noStrike">
              <a:ln w="284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99640" y="2637000"/>
            <a:ext cx="863640" cy="86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2421000"/>
            <a:ext cx="180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2637000"/>
            <a:ext cx="432000" cy="151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3500280"/>
            <a:ext cx="1728720" cy="863640"/>
          </a:xfrm>
          <a:prstGeom prst="rect">
            <a:avLst/>
          </a:prstGeom>
          <a:solidFill>
            <a:srgbClr val="fd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5280" y="3645000"/>
            <a:ext cx="1224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am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948360" y="1916280"/>
            <a:ext cx="14716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+V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4365720"/>
            <a:ext cx="1800360" cy="936360"/>
          </a:xfrm>
          <a:prstGeom prst="rect">
            <a:avLst/>
          </a:prstGeom>
          <a:solidFill>
            <a:srgbClr val="fd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800" y="4581360"/>
            <a:ext cx="44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411280" y="4292640"/>
            <a:ext cx="84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is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518148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  S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3789360"/>
            <a:ext cx="2017440" cy="934920"/>
          </a:xfrm>
          <a:prstGeom prst="rect">
            <a:avLst/>
          </a:prstGeom>
          <a:solidFill>
            <a:srgbClr val="fd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0720" y="3933720"/>
            <a:ext cx="1106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are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4581360"/>
            <a:ext cx="2735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e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1800" y="642960"/>
            <a:ext cx="65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обираться делать что 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159228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908000" y="476280"/>
            <a:ext cx="5112000" cy="60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I   - am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He  - i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She -  i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It  -  i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We  - are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You  -  are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They  - are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692360" y="1125360"/>
            <a:ext cx="8874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132000" y="1268280"/>
            <a:ext cx="62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4720" y="126828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ing t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948360" y="1197000"/>
            <a:ext cx="165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v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356000" y="26028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03280" y="2781360"/>
            <a:ext cx="7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916360" y="2781360"/>
            <a:ext cx="514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0360" y="2708280"/>
            <a:ext cx="403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oing to trav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43280" y="4797360"/>
            <a:ext cx="961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n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067280" y="4869000"/>
            <a:ext cx="514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859280" y="4869000"/>
            <a:ext cx="360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going to read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67280" y="6021360"/>
            <a:ext cx="152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AT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24360" y="19890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067280" y="3860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55640" y="4076640"/>
            <a:ext cx="18003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en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0.05856 C -0.01319 -0.07685 -0.01632 -0.09167 -0.02118 -0.1081 C -0.02639 -0.12593 -0.02066 -0.11806 -0.02865 -0.12639 C -0.02899 -0.1287 -0.02882 -0.13218 -0.03021 -0.1331 C -0.03472 -0.13611 -0.03993 -0.13542 -0.04479 -0.1375 C -0.0474 -0.13866 -0.04965 -0.14097 -0.05226 -0.14213 C -0.05677 -0.14398 -0.06128 -0.14514 -0.06563 -0.14653 C -0.07604 -0.14583 -0.08646 -0.1456 -0.0967 -0.14444 C -0.12535 -0.1412 -0.15434 -0.12639 -0.18125 -0.11273 C -0.18854 -0.10509 -0.1967 -0.09676 -0.20503 -0.09236 C -0.21198 -0.07639 -0.20747 -0.08032 -0.21684 -0.07662 C -0.21771 -0.07361 -0.21875 -0.0706 -0.21979 -0.06759 C -0.22066 -0.06528 -0.22257 -0.06343 -0.22274 -0.06065 C -0.22344 -0.0412 -0.2184 -0.02847 -0.2184 -0.01111 E">
                                      <p:cBhvr>
                                        <p:cTn id="31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6 L 0.15625 0.00024 E">
                                      <p:cBhvr>
                                        <p:cTn id="32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037 C 0.01198 -0.00579 0.01406 -0.00949 0.02778 -0.00949 C 0.11007 -0.01019 0.19219 -0.00718 0.27448 -0.00602 C 0.28976 -0.00394 0.30451 -0.00139 0.31979 0.0037 C 0.33628 0.01458 0.35486 0.01273 0.3717 0.02292 C 0.3776 0.03079 0.38385 0.03032 0.3901 0.03611 C 0.40243 0.04792 0.4158 0.05046 0.42882 0.05903 C 0.43056 0.06018 0.43177 0.06366 0.43368 0.06528 C 0.43698 0.06806 0.44097 0.06829 0.44392 0.07199 C 0.45434 0.08542 0.46424 0.10046 0.47569 0.11111 C 0.47778 0.12338 0.48125 0.13773 0.48594 0.14699 E">
                                      <p:cBhvr>
                                        <p:cTn id="32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0.1658 -0.00533 E">
                                      <p:cBhvr>
                                        <p:cTn id="32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9 -0.00533 C 0.00834 -0.00787 0.00695 -0.00903 0.00122 -0.01019 C -0.00121 -0.01111 -0.00347 -0.0125 -0.00642 -0.01273 C -0.00746 -0.01343 -0.0085 -0.01412 -0.00972 -0.01459 C -0.01527 -0.01644 -0.01198 -0.01389 -0.01475 -0.01644 C -0.03454 -0.01644 -0.05729 -0.01551 -0.07465 -0.00973 C -0.07986 -0.00579 -0.07986 -0.00255 -0.07986 0.00231 E">
                                      <p:cBhvr>
                                        <p:cTn id="330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89 -2.22222E-006 C -0.06441 -0.00463 -0.06511 -0.00764 -0.06545 -0.0125 C -0.06563 -0.01458 -0.06563 -0.01666 -0.0658 -0.01852 C -0.06667 -0.02801 -0.06893 -0.03958 -0.07032 -0.04722 C -0.07084 -0.05787 -0.07032 -0.05162 -0.07205 -0.06528 C -0.07223 -0.06713 -0.07223 -0.06967 -0.0724 -0.07153 C -0.07257 -0.07361 -0.07292 -0.07569 -0.07327 -0.07778 C -0.07466 -0.10972 -0.07483 -0.13426 -0.07396 -0.16736 C -0.07361 -0.17569 -0.07361 -0.18796 -0.0724 -0.19352 E">
                                      <p:cBhvr>
                                        <p:cTn id="333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3658 C 0.0842 0.03542 0.15382 0.03241 0.22725 0.03102 C 0.27083 0.0213 0.33229 0.02848 0.3717 0.02917 C 0.37864 0.03148 0.38246 0.03496 0.38975 0.03658 C 0.40347 0.04746 0.42378 0.05162 0.43975 0.05695 C 0.4467 0.05926 0.44132 0.05787 0.44809 0.0625 C 0.45243 0.06551 0.45764 0.06505 0.46198 0.06806 C 0.46666 0.0713 0.47153 0.07523 0.47587 0.07917 C 0.47673 0.08287 0.47778 0.08658 0.47864 0.09028 C 0.47916 0.09213 0.48003 0.09584 0.48003 0.09607 C 0.48055 0.1044 0.48142 0.12176 0.48142 0.12199 E">
                                      <p:cBhvr>
                                        <p:cTn id="33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0.08125 -3.33333E-006 E">
                                      <p:cBhvr>
                                        <p:cTn id="339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84 -0.03843 C 0.03385 -0.05764 0.02777 -0.07246 0.01423 -0.08125 C 0.01059 -0.09074 0.00486 -0.09607 -0.00278 -0.09931 C -0.01164 -0.10301 -0.02986 -0.10834 -0.02986 -0.10811 C -0.04775 -0.12061 -0.03681 -0.11482 -0.0757 -0.11065 C -0.09792 -0.10811 -0.11893 -0.10093 -0.14011 -0.0926 C -0.14566 -0.09051 -0.14983 -0.08612 -0.15539 -0.08357 C -0.1592 -0.0801 -0.16372 -0.07848 -0.16719 -0.07454 C -0.17743 -0.0632 -0.16198 -0.07061 -0.17743 -0.06551 C -0.18872 -0.0426 -0.17066 -0.07709 -0.1875 -0.05417 C -0.19045 -0.05024 -0.19202 -0.04514 -0.19427 -0.04051 C -0.19549 -0.0382 -0.19775 -0.0338 -0.19775 -0.03357 C -0.19879 -0.0294 -0.2007 -0.025 -0.20104 -0.02037 C -0.20122 -0.01737 -0.2 -0.01436 -0.19931 -0.01135 C -0.19879 -0.00903 -0.19775 -0.0044 -0.19775 -0.00417 E">
                                      <p:cBhvr>
                                        <p:cTn id="34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9 0.04659 C -0.12917 0.03662 -0.11754 0.04566 -0.13994 0.03755 C -0.14688 0.035 -0.15348 0.03152 -0.16025 0.02851 C -0.16372 0.02689 -0.16719 0.02573 -0.17049 0.02387 C -0.17622 0.02086 -0.1875 0.01484 -0.1875 0.01484 C -0.19323 0.00719 -0.19844 0.00464 -0.20625 0.00139 C -0.21303 -0.00556 -0.21806 -0.0095 -0.22639 -0.01228 C -0.23646 -0.02526 -0.22605 -0.01344 -0.23994 -0.02363 C -0.24966 -0.03082 -0.25869 -0.03963 -0.26875 -0.04611 C -0.28212 -0.05492 -0.26355 -0.03893 -0.2823 -0.05307 C -0.2941 -0.06211 -0.3066 -0.07207 -0.31789 -0.0825 C -0.32327 -0.09293 -0.33282 -0.09803 -0.34167 -0.10266 C -0.34844 -0.11494 -0.35782 -0.12167 -0.36719 -0.13001 C -0.36893 -0.1314 -0.37049 -0.13302 -0.37223 -0.13441 C -0.37396 -0.13603 -0.37726 -0.13905 -0.37726 -0.13905 C -0.38264 -0.15295 -0.3882 -0.15341 -0.39757 -0.16153 C -0.40226 -0.17937 -0.39532 -0.15851 -0.40435 -0.17056 C -0.41476 -0.18447 -0.40105 -0.17659 -0.41285 -0.18192 C -0.41806 -0.19536 -0.41702 -0.19374 -0.41285 -0.17752 C -0.41146 -0.17195 -0.41094 -0.1657 -0.40782 -0.16153 E">
                                      <p:cBhvr>
                                        <p:cTn id="344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7 0.01435 C 0.01997 0.00486 0.02205 0.00116 0.03577 0.00116 C 0.11806 0.00046 0.20018 0.00347 0.28247 0.00463 C 0.29775 0.00671 0.3125 0.00926 0.32778 0.01435 C 0.34427 0.02523 0.36285 0.02338 0.37969 0.03356 C 0.38559 0.04143 0.39184 0.04097 0.39809 0.04676 C 0.41042 0.05856 0.42379 0.06111 0.43681 0.06968 C 0.43854 0.07083 0.43976 0.07431 0.44167 0.07593 C 0.44497 0.0787 0.44896 0.07893 0.45191 0.08264 C 0.46233 0.09606 0.47222 0.11088 0.48368 0.12153 C 0.48577 0.1338 0.48924 0.14815 0.49393 0.15741 E">
                                      <p:cBhvr>
                                        <p:cTn id="34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11280" y="549360"/>
            <a:ext cx="66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Выполнение в учебнике 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x. 16. p.31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380360" y="5157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91080" y="1700280"/>
            <a:ext cx="68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Mish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going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o watch T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ev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5120" y="3141720"/>
            <a:ext cx="812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going to do his home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t 4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.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4040" y="45306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going to walk the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t 6 p.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835280" y="404640"/>
            <a:ext cx="6002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nglish afternoon-tea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 rot="5400000">
            <a:off x="-2268720" y="285228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ditional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71640" y="1598760"/>
            <a:ext cx="7848360" cy="5136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1943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5280" y="520200"/>
            <a:ext cx="8269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обеденный чай ('afternoon tea') начинается около четырех вечера, еще до ужина, и во время этого чаепития предлагаются легкие закуски. Это обычно пирожные, бисквиты, сандвичи и чай. Традиция эта началась в 18-м веке, чтобы удовлетворить потребности аппетита между двух приемов пищи. Постепенно ужин стал откладываться н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 более позднее время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261320" y="1945080"/>
            <a:ext cx="622800" cy="27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Lemon Cak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Tray Bak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2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Scon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3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Afternoon T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4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Scones, Jam and Crea.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5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Scones, Jam and Crea.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6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Lemon Cak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7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Scon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8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Scon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4478400" y="52117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4478400" y="5211720"/>
            <a:ext cx="164880" cy="123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1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Cup of T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2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Cup of T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3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Cup of T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4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Teapo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5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Teapo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6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Teapo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11760" y="1852920"/>
            <a:ext cx="1322280" cy="10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u="sng">
                <a:solidFill>
                  <a:srgbClr val="00b200"/>
                </a:solidFill>
                <a:uFillTx/>
                <a:latin typeface="Verdana"/>
                <a:hlinkClick r:id="rId17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Lemon Cak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841200" y="-6993720"/>
            <a:ext cx="183960" cy="61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75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Scones, Jam and Crea.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817800" y="-5660640"/>
            <a:ext cx="184320" cy="49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75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Pot of T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79280" y="-6268680"/>
            <a:ext cx="183960" cy="49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75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Pot of T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Image Ref: 09-29-2 - Tray Bakes, Viewed 5519 time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761080" y="0"/>
            <a:ext cx="3382920" cy="2244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Image Ref: 09-29-3 - Scones, Viewed 4430 times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79280" y="189000"/>
            <a:ext cx="2160720" cy="1434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Image Ref: 09-29-5 - Scones, Jam and Cream, Viewed 5687 times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564000" y="4292640"/>
            <a:ext cx="2990880" cy="1985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Image Ref: 09-29-7 - Lemon Cake, Viewed 4581 times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50920" y="2349360"/>
            <a:ext cx="2158920" cy="14335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Image Ref: 09-29-10 - Cup of Tea, Viewed 8276 times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564000" y="189000"/>
            <a:ext cx="2485800" cy="1650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Image Ref: 09-29-12 - Cup of Tea, Viewed 21404 times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6046920" y="2708280"/>
            <a:ext cx="3097080" cy="20574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Image Ref: 09-29-15 - Teapot, Viewed 528 times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4067280" y="1916280"/>
            <a:ext cx="2485800" cy="1650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Image Ref: 09-29-51 - Lemon Cake, Viewed 3034 times"/>
          <p:cNvPicPr/>
          <p:nvPr/>
        </p:nvPicPr>
        <p:blipFill>
          <a:blip r:embed="rId32"/>
          <a:stretch/>
        </p:blipFill>
        <p:spPr>
          <a:xfrm>
            <a:off x="2195640" y="620640"/>
            <a:ext cx="1863720" cy="2808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Image Ref: 09-29-54 - Pot of Tea, Viewed 2848 times"/>
          <p:cNvPicPr/>
          <p:nvPr/>
        </p:nvPicPr>
        <p:blipFill>
          <a:blip r:embed="rId33"/>
          <a:stretch/>
        </p:blipFill>
        <p:spPr>
          <a:xfrm>
            <a:off x="1692360" y="4292640"/>
            <a:ext cx="1387440" cy="2089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95160" y="472608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 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08360" y="35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 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700280"/>
            <a:ext cx="14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623736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ones, jam,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92400" y="199080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0800" y="37180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mon 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24000" y="0"/>
            <a:ext cx="5853240" cy="70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y goo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ay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n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fternoon t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g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find (fou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71480" y="333360"/>
            <a:ext cx="7562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ag –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te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logues “Our plans f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eeken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bout English tra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26920" y="549360"/>
            <a:ext cx="633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Homework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x. 20, p.32 (read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d translate)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x. 17, p.17 (write)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2457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404640"/>
            <a:ext cx="419544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duc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pro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inv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pay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stay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ar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981000"/>
            <a:ext cx="5126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be responsibl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ek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have a good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6028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Father is going to read a book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So he won’t play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Mother is going to watch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So she won’t play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Dear me, dear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         </a:t>
            </a: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No one is going to play wi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7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7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7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7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4000" y="333360"/>
            <a:ext cx="727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Выполнение в рабочей тетради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x. 18. p.17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12000" y="3860640"/>
            <a:ext cx="2550960" cy="2384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43440" y="1700280"/>
            <a:ext cx="17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701c7"/>
                </a:solidFill>
                <a:latin typeface="Franklin Gothic Medium"/>
              </a:rPr>
              <a:t>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3880" y="2924280"/>
            <a:ext cx="170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c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360" y="4292640"/>
            <a:ext cx="256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Franklin Gothic Medium"/>
              </a:rPr>
              <a:t>arran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52640" y="1700280"/>
            <a:ext cx="290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Franklin Gothic Medium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19560" y="2997360"/>
            <a:ext cx="123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Franklin Gothic Medium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7760" y="4508640"/>
            <a:ext cx="24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Franklin Gothic Medium"/>
              </a:rPr>
              <a:t>fore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student,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‘t 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‘t at home,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must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o to the Zoo,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‘t w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t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wo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‘t be snowy tomorrow,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will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wa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in London,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wa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‘t 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You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were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‘t busy,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were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yo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can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dance well, </a:t>
            </a: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can‘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  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785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 frie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students, aren‘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speak English, can‘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gir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in Britain, wasn‘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o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a nice house, hasn‘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etective stories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‘t yo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Present Sim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sist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l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iano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‘t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Present Sim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the park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'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Past Sim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024360" cy="120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197000"/>
            <a:ext cx="4067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llo, this is Li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1628640"/>
            <a:ext cx="2736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, Li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565360"/>
            <a:ext cx="608508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uld you like to stay with 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xt weeken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are going to have a pic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4221000"/>
            <a:ext cx="3959280" cy="1441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e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’ll talk to my 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8280" y="40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Medium"/>
              </a:rPr>
              <a:t>Li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01640" y="404640"/>
            <a:ext cx="154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anklin Gothic Medium"/>
              </a:rPr>
              <a:t>Cl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8:39:51Z</dcterms:created>
  <dc:creator>Мещеряков</dc:creator>
  <dc:description/>
  <dc:language>en-US</dc:language>
  <cp:lastModifiedBy>Мещерякова Л.Н.</cp:lastModifiedBy>
  <dcterms:modified xsi:type="dcterms:W3CDTF">2006-12-31T21:38:43Z</dcterms:modified>
  <cp:revision>7</cp:revision>
  <dc:subject/>
  <dc:title>Слайд 1</dc:title>
</cp:coreProperties>
</file>