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3FA-494C-4777-865F-EE00B1AC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09A-4DD8-440B-8A7D-45114C1E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5C6-3434-44BD-9F6A-1E50C2CE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592-89C4-4E77-A7B9-80A9A4C1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C53-19D9-49E9-8C3B-63B61388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FE2-9B4C-4E07-85CF-25AF3F71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4A3-54A5-4B12-A453-81D2AB8F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4D4-041C-4E9D-9FCD-58922337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F32-EFB6-4E38-AC9F-AB691798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437-B10F-4AB4-9888-7F16104E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470-FB52-4806-80AB-BA442FEC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43F-6A8D-478F-B5C1-47DF926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E080-D744-4CB4-85B0-A71D2FAB6D74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346480"/>
            <a:ext cx="78098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ff"/>
                </a:solidFill>
                <a:latin typeface="Arial"/>
              </a:rPr>
              <a:t>транспорт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836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308720" cy="4263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41640" y="5303880"/>
            <a:ext cx="335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Автобу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37372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втобу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88508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18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652320"/>
            <a:ext cx="8066160" cy="4577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24720" y="5300640"/>
            <a:ext cx="455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мнибу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459640" y="724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602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6000" y="336600"/>
            <a:ext cx="6912000" cy="4892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34960" y="5419800"/>
            <a:ext cx="616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роллейбу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17236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37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43480" y="5419800"/>
            <a:ext cx="56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елосипе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81200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458640"/>
            <a:ext cx="7721280" cy="513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39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9080" cy="4732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79640" y="5300640"/>
            <a:ext cx="50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цик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956720" y="69404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4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408720" cy="5389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04720" y="5445000"/>
            <a:ext cx="638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ролл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95672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44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020000" cy="4244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47280" y="5373720"/>
            <a:ext cx="617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вадроцик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0436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5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235640" cy="542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5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арово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74072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37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6985080" cy="523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5502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оез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2472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25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16720" cy="5218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430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етр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60436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5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5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легковой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автомоби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53272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6868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7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рамва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836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404640"/>
            <a:ext cx="7115040" cy="534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18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5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фуникулё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45964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23622" r="0" b="0"/>
          <a:stretch/>
        </p:blipFill>
        <p:spPr>
          <a:xfrm>
            <a:off x="2050920" y="333360"/>
            <a:ext cx="5143680" cy="52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48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абриол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67564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7399" r="0" b="0"/>
          <a:stretch/>
        </p:blipFill>
        <p:spPr>
          <a:xfrm>
            <a:off x="611280" y="260280"/>
            <a:ext cx="809604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7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0360" y="5445000"/>
            <a:ext cx="278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джи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5327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78176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9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19383" b="3233"/>
          <a:stretch/>
        </p:blipFill>
        <p:spPr>
          <a:xfrm>
            <a:off x="900000" y="189000"/>
            <a:ext cx="7272360" cy="5672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46320" y="5546880"/>
            <a:ext cx="451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лимуз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45964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48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24720" cy="464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58920" y="5445000"/>
            <a:ext cx="294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акс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236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3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056360" cy="524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800" y="5734080"/>
            <a:ext cx="827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олицейская маш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80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20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52000" cy="4487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69280" y="5591160"/>
            <a:ext cx="5260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Микравтобу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9280" y="5373720"/>
            <a:ext cx="737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икроавтобу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12000" y="724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2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164360" cy="5621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1640" y="5807160"/>
            <a:ext cx="365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Грузов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5546880"/>
            <a:ext cx="467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грузов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81200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93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9:35:00Z</dcterms:created>
  <dc:creator> </dc:creator>
  <dc:description/>
  <dc:language>en-US</dc:language>
  <cp:lastModifiedBy>Татьяна</cp:lastModifiedBy>
  <dcterms:modified xsi:type="dcterms:W3CDTF">2015-01-18T13:45:05Z</dcterms:modified>
  <cp:revision>60</cp:revision>
  <dc:subject/>
  <dc:title>транспорт1 20</dc:title>
</cp:coreProperties>
</file>