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32E-B043-4FC4-82C5-7807F590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7EB-42EF-41F6-AAC5-714B94A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8EF-18F2-4A41-B65B-37EC2C2D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261-6110-4D0A-81E2-B80FD4FB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043-5372-4149-A02E-CAB08375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C3F-5EF2-4B34-8D42-341FD8B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02F-3D11-4991-AFC8-687F0936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B32-6487-405E-8D0F-1753006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423-8CC5-4520-AE72-46232EF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879-BBB1-48D4-AD0C-9D01CEA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34E-0AC4-4D8A-801D-F58521D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AAF-E4E1-4CF0-93DA-7DC9ECE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B09-757E-49D5-9E41-05E6CC23531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346480"/>
            <a:ext cx="7809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ff"/>
                </a:solidFill>
                <a:latin typeface="Arial"/>
              </a:rPr>
              <a:t>транспорт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6536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парашю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7236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7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ораб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90000" cy="543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708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8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арус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13440" cy="5531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836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6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35156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од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8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20601" r="0" b="0"/>
          <a:stretch/>
        </p:blipFill>
        <p:spPr>
          <a:xfrm>
            <a:off x="971640" y="692280"/>
            <a:ext cx="7345440" cy="445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9080" y="5445000"/>
            <a:ext cx="833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рная лод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88508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71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720" y="5445000"/>
            <a:ext cx="823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надувная лод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850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6985080" cy="52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85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848360" cy="3673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59640" y="5286240"/>
            <a:ext cx="29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т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836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6000" y="2997360"/>
            <a:ext cx="240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ях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67564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76560" y="189000"/>
            <a:ext cx="503244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41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29440" cy="437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22680" y="5445000"/>
            <a:ext cx="35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ут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67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34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0" y="2736720"/>
            <a:ext cx="451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атамар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9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56360" y="5546880"/>
            <a:ext cx="43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амол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89840" cy="566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67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3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арох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9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8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04000" cy="430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52293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круизный лайне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50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83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560" y="5661000"/>
            <a:ext cx="905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рогулочный кат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693720"/>
            <a:ext cx="84247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9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аро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03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10160" y="5546880"/>
            <a:ext cx="50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негоход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55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6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948360" cy="526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0000" y="5546880"/>
            <a:ext cx="80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онная повоз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5800" cy="5195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720" y="5445000"/>
            <a:ext cx="84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натная доро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88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2565360"/>
            <a:ext cx="35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раке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17080" y="702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62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2000" y="5300640"/>
            <a:ext cx="73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идросамол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443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80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лан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44000" y="702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75324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6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4918"/>
          <a:stretch/>
        </p:blipFill>
        <p:spPr>
          <a:xfrm>
            <a:off x="1008000" y="333360"/>
            <a:ext cx="7236000" cy="516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ртол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508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95480" y="541980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5000" y="5516640"/>
            <a:ext cx="616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ельтапл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7236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86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9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5800" y="5546880"/>
            <a:ext cx="49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арапл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28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82812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4612" r="0" b="0"/>
          <a:stretch/>
        </p:blipFill>
        <p:spPr>
          <a:xfrm>
            <a:off x="611280" y="189000"/>
            <a:ext cx="7740720" cy="553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2760" y="5564160"/>
            <a:ext cx="841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здушный ша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8508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7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ирижаб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01080" y="702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1306"/>
          <a:stretch/>
        </p:blipFill>
        <p:spPr>
          <a:xfrm>
            <a:off x="755640" y="260280"/>
            <a:ext cx="7620120" cy="543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9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9:35:00Z</dcterms:created>
  <dc:creator> </dc:creator>
  <dc:description/>
  <dc:language>en-US</dc:language>
  <cp:lastModifiedBy>Татьяна</cp:lastModifiedBy>
  <dcterms:modified xsi:type="dcterms:W3CDTF">2015-01-18T13:45:59Z</dcterms:modified>
  <cp:revision>63</cp:revision>
  <dc:subject/>
  <dc:title>транспорт2   26</dc:title>
</cp:coreProperties>
</file>