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4E2-F8FA-4C9E-891E-2CF5BA0E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530-1C88-4A01-B382-F758C042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7EE-E356-495B-B6D8-F0227A02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DB9-7AEC-4DFB-BD38-3CD5D531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AD2-924A-4D0A-8A2F-68A98C01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1E3-0073-4245-9ECF-1571C8A0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C68-927C-4813-8FFF-95A53768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249-8A16-4BF9-984A-7F905F06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3D4-C488-41FD-9E12-AD25A72D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862-0B6A-4C48-B59B-3065826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336-16D1-4F38-A5B1-DFAAA72E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791-4409-419F-A438-FFFFA790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ECD0A-8617-4C0D-9FA4-5F42C19C09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La corrida de toro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69920"/>
            <a:ext cx="841860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tradición polémi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os íbero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sacrificar a los toros bravo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símbolo de fortaleza y fierez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os celtíbero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sacrificar en honor de sus dio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plaza de toro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España musulmana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se prohibier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considerarse salvajes y crue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España mediev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deporte de la noblez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l siglo XVII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l valor y destreza del torer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La corrida de toro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idiarse=torea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lidia=la corrid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l paseíllo=el desfi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desfila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cuadrill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l alguacilill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van a caball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Presidenc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llave de «la puerta de los toriles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torero=matador=diestr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dos picador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tres banderillero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os mozos y mulas de arrast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La corrida de toro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l capote de pase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l palco presidenc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destocarse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. расходитьс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terci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torear con el capo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jecutar la «suerte de picadores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jecutar la «suerte de banderillas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subalterno=banderillero=torero de plat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poner al toro tres pares de banderilla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«suerte suprema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torear con la mulet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tomar la espad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mbestir (embista)=ataca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La corrida de toro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espada=el esto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clavar la espada (estoqu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la faena del torer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el toro lidiad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ceder a la peticiones del públic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salir del ruedo a hombros de la mutitu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«el reglamento de espectáculos taurinos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219640" y="5040360"/>
            <a:ext cx="234000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1260360" y="5040360"/>
            <a:ext cx="251964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3T01:30:30Z</dcterms:created>
  <dc:creator>marina </dc:creator>
  <dc:description/>
  <dc:language>en-US</dc:language>
  <cp:lastModifiedBy>Azer Samedov</cp:lastModifiedBy>
  <dcterms:modified xsi:type="dcterms:W3CDTF">2015-01-18T08:28:52Z</dcterms:modified>
  <cp:revision>2</cp:revision>
  <dc:subject/>
  <dc:title>La corrida de toros</dc:title>
</cp:coreProperties>
</file>