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D48-894F-459E-9C8F-EB949189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26C-5B20-464A-BBBB-17755929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F2E-78AA-4845-A79D-7806E991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632-CE3F-4743-865A-A9190BDE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1613-36D0-4F4C-8C0C-044358FB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7BC9-859F-4956-A31B-A71249F1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2297-C3E5-484A-B2B2-F083D30F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3D09-A483-484E-A087-A330E766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2393-7A24-443C-A873-48116385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0182-6457-4671-B6E8-9AB6325A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5720-5E9E-4A66-B2A0-CB96F8C5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F76-1BD8-431A-8BCD-0CE81E96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DCBF-67FD-4265-A636-A288108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B3A0-F4EA-4856-9FC5-CD6A418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C2DB-55C3-44CD-B58E-52B5BC0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FAD0-777B-4212-B16D-AFC2C2E6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6467-1AC5-4640-B3B9-DE124155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C352-F1B9-4D97-94F9-9C44E0C5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D586-FDE1-444D-817A-6FAD1857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222B-6776-4D79-B167-54928B3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A992-3BC6-4404-831D-18D361C2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2697-A522-427B-A882-AB175155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EB8-8BF5-41E9-A1B7-1CCFE86B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1672-E8E2-49C1-AA57-7431BEAA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AF15-2626-4E2D-83C3-2512E579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FDB8-2039-4B9E-8C41-6309FA37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E9C2-95BB-4306-A4B8-46A991E9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B00D-4D85-46D3-9CE5-EE7C0B2D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A1E1-ADBF-4486-9566-69B8F4B2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0928-AB4F-4846-A98B-D41F424D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5903-EED9-46D9-9D50-ECA62DCB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6FA3-F6E2-48B4-B952-D30374B0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BBF7-8DB0-4568-9E3E-5688528F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AE2-5045-4163-BB2E-B680F7B9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8B372-88C4-4DFD-BDF1-B8A3685E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C605-3F04-4F1A-B8CD-C6D93987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9A366-D15A-4352-A48D-FB7AEBEC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1282-D822-4552-A51C-F2C71D4A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C30E-2D3F-4B16-85E7-CE140FE1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9A7B-DF5E-44FD-AC09-2A6867A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1BB61-4162-4E93-A640-085D9C5A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A6F8-B3F1-498A-95B5-0BCF6438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FC38-F0D1-4DB3-AB03-783A00B9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9A2-37B9-4F51-A1E1-CF524C9C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21F-A01C-4839-A58F-A809F393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B0B-A7A1-4CA2-838F-EC15287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053-79D5-46F0-843F-30EEDC7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FC5-F5CB-407C-B18E-6B5AF0C3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ED1F-5D9E-49A2-9B9D-5B8D9B89AA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7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8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0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2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3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3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3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4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4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4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4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5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5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6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6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6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6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7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7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7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7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7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8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8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19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807C-C842-4BC4-8CCA-FA433CC11E8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55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59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3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4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72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8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8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8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2C1-BCEF-49C9-99D6-F3C6632584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33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34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5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36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37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38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39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0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41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42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43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44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45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46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47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48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49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50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51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52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53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54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55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56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57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58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59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60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61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2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63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64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5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66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67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8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69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70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1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72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73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4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75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76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7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78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79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0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81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82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3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84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85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6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87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88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9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90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91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2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93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94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5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96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97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8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99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00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01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02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03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04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405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6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407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08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09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10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11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12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13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14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15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16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17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18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19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20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21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22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23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24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25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26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27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28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29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30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31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32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33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34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35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36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37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38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39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grpSp>
            <p:nvGrpSpPr>
              <p:cNvPr id="440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41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42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3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4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5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6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7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49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50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51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2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6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7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8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9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0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1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A33C-ABE9-4F2B-8246-A6A3712C62CD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 Black"/>
              </a:rPr>
              <a:t>Эссе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Заключение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ll in all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sum up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 conclusion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 summary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 general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t seems important to add/ point out/ remind that…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issue/ debate is far from solving/ resolving yet, but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-360" y="0"/>
            <a:ext cx="10404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Другие выражения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One major advantage is..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s advocates of… claim/argue,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re is a number of disadvantages/ weakness/ drawbacks/ downsides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n western countries after secondary school, students very often do not continue immediately with their studies, but they take a one year break, called a “gap year”, when they travel or do voluntary work. Write an argumentative essay presenting arguments for and against the gap year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отве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Введение в тему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In today’s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world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on fierce competition, it is important for young people to get well-prepared for the challenges of the future. </a:t>
            </a: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Thus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stitution of gap year 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can be regarded as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step in the right direction though it is also not without its problems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0" y="-360"/>
            <a:ext cx="9144000" cy="71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Аргументы «за»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In its favour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, the gap year seems to be useful psychologically as it helps young people understand their needs and interests better before they actually commit themselves to any particular career path. 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Besid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, the gap year has educational advantages because it offers a lot of opportunities to learn about the world and one’s own place in it. 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For all these reason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, the gap year can be regarded as a positive social instruc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Аргументы проти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However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, as a critics are quick to point out, the gap year can 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in fact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be harmful as it interrupts with rhythm of the learning and often makes it difficult for students to return to their studies. Apart from that, 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unfortunately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t every young person can afford to travel around the world and many of them end up sitting around at home, which can be very demotivating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l in all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, the gap year may arouse mixed feelings,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t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ill thousands of people every year take a year off.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ne can only hop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they will use it fruitfully, minimising the dangers and taking full advantage of its benefit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0" y="5734080"/>
            <a:ext cx="9144000" cy="1123920"/>
          </a:xfrm>
          <a:custGeom>
            <a:avLst/>
            <a:gdLst>
              <a:gd name="textAreaLeft" fmla="*/ 72720 w 9144000"/>
              <a:gd name="textAreaRight" fmla="*/ 9071280 w 914400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175684" h="21600">
                <a:moveTo>
                  <a:pt x="0" y="0"/>
                </a:moveTo>
                <a:lnTo>
                  <a:pt x="175684" y="0"/>
                </a:lnTo>
                <a:lnTo>
                  <a:pt x="175684" y="21600"/>
                </a:lnTo>
                <a:lnTo>
                  <a:pt x="0" y="21600"/>
                </a:lnTo>
                <a:close/>
              </a:path>
              <a:path fill="lightenLess" w="175684" h="21600">
                <a:moveTo>
                  <a:pt x="0" y="0"/>
                </a:moveTo>
                <a:lnTo>
                  <a:pt x="175684" y="0"/>
                </a:lnTo>
                <a:lnTo>
                  <a:pt x="174284" y="1400"/>
                </a:lnTo>
                <a:lnTo>
                  <a:pt x="1400" y="1400"/>
                </a:lnTo>
                <a:close/>
              </a:path>
              <a:path fill="darken" w="175684" h="21600">
                <a:moveTo>
                  <a:pt x="175684" y="0"/>
                </a:moveTo>
                <a:lnTo>
                  <a:pt x="175684" y="21600"/>
                </a:lnTo>
                <a:lnTo>
                  <a:pt x="174284" y="20200"/>
                </a:lnTo>
                <a:lnTo>
                  <a:pt x="174284" y="1400"/>
                </a:lnTo>
                <a:close/>
              </a:path>
              <a:path fill="darkenLess" w="175684" h="21600">
                <a:moveTo>
                  <a:pt x="175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4284" y="20200"/>
                </a:lnTo>
                <a:close/>
              </a:path>
              <a:path fill="lighten" w="175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Verdana"/>
              </a:rPr>
              <a:t>I think… ;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Verdana"/>
              </a:rPr>
              <a:t>in my opinion… ; from my point of view.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835280" y="0"/>
            <a:ext cx="506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Фразы :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4356000" y="5589720"/>
            <a:ext cx="4788000" cy="1268280"/>
          </a:xfrm>
          <a:custGeom>
            <a:avLst/>
            <a:gdLst>
              <a:gd name="textAreaLeft" fmla="*/ 82080 w 4788000"/>
              <a:gd name="textAreaRight" fmla="*/ 4705920 w 478800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81527" h="21600">
                <a:moveTo>
                  <a:pt x="0" y="0"/>
                </a:moveTo>
                <a:lnTo>
                  <a:pt x="81527" y="0"/>
                </a:lnTo>
                <a:lnTo>
                  <a:pt x="81527" y="21600"/>
                </a:lnTo>
                <a:lnTo>
                  <a:pt x="0" y="21600"/>
                </a:lnTo>
                <a:close/>
              </a:path>
              <a:path fill="lightenLess" w="81527" h="21600">
                <a:moveTo>
                  <a:pt x="0" y="0"/>
                </a:moveTo>
                <a:lnTo>
                  <a:pt x="81527" y="0"/>
                </a:lnTo>
                <a:lnTo>
                  <a:pt x="80127" y="1400"/>
                </a:lnTo>
                <a:lnTo>
                  <a:pt x="1400" y="1400"/>
                </a:lnTo>
                <a:close/>
              </a:path>
              <a:path fill="darken" w="81527" h="21600">
                <a:moveTo>
                  <a:pt x="81527" y="0"/>
                </a:moveTo>
                <a:lnTo>
                  <a:pt x="81527" y="21600"/>
                </a:lnTo>
                <a:lnTo>
                  <a:pt x="80127" y="20200"/>
                </a:lnTo>
                <a:lnTo>
                  <a:pt x="80127" y="1400"/>
                </a:lnTo>
                <a:close/>
              </a:path>
              <a:path fill="darkenLess" w="81527" h="21600">
                <a:moveTo>
                  <a:pt x="81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27" y="20200"/>
                </a:lnTo>
                <a:close/>
              </a:path>
              <a:path fill="lighten" w="81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эссе с выражением личного мнения существует 4 пунк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) Введение и заключение совпадает с «за» и «против»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2) Основная часть начинается с выражения личного мнения, и </a:t>
            </a:r>
            <a:r>
              <a:rPr b="0" lang="ru-RU" sz="4000" spc="-1" strike="noStrike">
                <a:solidFill>
                  <a:srgbClr val="ffcc66"/>
                </a:solidFill>
                <a:latin typeface="Verdana"/>
              </a:rPr>
              <a:t>выражает несколько моментов своей точки зрения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на данное явлени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3) В третьем абзаце </a:t>
            </a:r>
            <a:r>
              <a:rPr b="0" lang="ru-RU" sz="4000" spc="-1" strike="noStrike">
                <a:solidFill>
                  <a:srgbClr val="ffcc66"/>
                </a:solidFill>
                <a:latin typeface="Verdana"/>
              </a:rPr>
              <a:t>необходимо дать мнение других людей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отивоположное вашему мнению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ffcc66"/>
                </a:solidFill>
                <a:latin typeface="Verdana"/>
              </a:rPr>
              <a:t>минимум 2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4000" spc="-1" strike="noStrike">
                <a:solidFill>
                  <a:srgbClr val="ffcc66"/>
                </a:solidFill>
                <a:latin typeface="Verdana"/>
              </a:rPr>
              <a:t>Далее должно прозвучать ваше мнение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и почему вы с их мнением не согласны.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ельзя приводить аргументы из второго абзац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4) В выводе должно прозвучать </a:t>
            </a:r>
            <a:r>
              <a:rPr b="0" lang="ru-RU" sz="4000" spc="-1" strike="noStrike">
                <a:solidFill>
                  <a:srgbClr val="ffcc66"/>
                </a:solidFill>
                <a:latin typeface="Verdana"/>
              </a:rPr>
              <a:t>личное мнение автора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2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0" y="188640"/>
            <a:ext cx="874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авила написания эсс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бразец эссе с аргументацией «за» и «против» 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исание эссе с выражением личного мнения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юч к успех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тельно прочитайте тему. Проверьте требует ли эта тема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аргументо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бщего характера или наряду с этим допускает возможность высказать свое собственное мн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думывая содержание работы приготовьте аргументы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«за» и «против»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Постарайтесь представить равное количество аргументов с обеих сторон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чтобы ваш ответ был сбалансирова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анируя эссе, решите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сколько должно быть абзаце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 как распределить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аргумент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о абзаца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процессе написания эссе обратите особое внимание на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построение каждого абзац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начните каждый из них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предложением которое выражает его главную мысль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веряя работу с точки зрения содержания, обратите внимание на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заключение, которое должно содержать основные вывод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з всего текс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ейте ввиду что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употребление безличных структур и оборотов может повысить убедительность ваших аргументо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Проверьте работу на количество слов и правильность их напис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AutoShape 4"/>
          <p:cNvSpPr/>
          <p:nvPr/>
        </p:nvSpPr>
        <p:spPr>
          <a:xfrm>
            <a:off x="4932360" y="6165720"/>
            <a:ext cx="2232000" cy="692280"/>
          </a:xfrm>
          <a:custGeom>
            <a:avLst/>
            <a:gdLst>
              <a:gd name="textAreaLeft" fmla="*/ 44640 w 2232000"/>
              <a:gd name="textAreaRight" fmla="*/ 2187360 w 2232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69616" h="21600">
                <a:moveTo>
                  <a:pt x="0" y="0"/>
                </a:moveTo>
                <a:lnTo>
                  <a:pt x="69616" y="0"/>
                </a:lnTo>
                <a:lnTo>
                  <a:pt x="69616" y="21600"/>
                </a:lnTo>
                <a:lnTo>
                  <a:pt x="0" y="21600"/>
                </a:lnTo>
                <a:close/>
              </a:path>
              <a:path fill="lightenLess" w="69616" h="21600">
                <a:moveTo>
                  <a:pt x="0" y="0"/>
                </a:moveTo>
                <a:lnTo>
                  <a:pt x="69616" y="0"/>
                </a:lnTo>
                <a:lnTo>
                  <a:pt x="68216" y="1400"/>
                </a:lnTo>
                <a:lnTo>
                  <a:pt x="1400" y="1400"/>
                </a:lnTo>
                <a:close/>
              </a:path>
              <a:path fill="darken" w="69616" h="21600">
                <a:moveTo>
                  <a:pt x="69616" y="0"/>
                </a:moveTo>
                <a:lnTo>
                  <a:pt x="69616" y="21600"/>
                </a:lnTo>
                <a:lnTo>
                  <a:pt x="68216" y="20200"/>
                </a:lnTo>
                <a:lnTo>
                  <a:pt x="68216" y="1400"/>
                </a:lnTo>
                <a:close/>
              </a:path>
              <a:path fill="darkenLess" w="69616" h="21600">
                <a:moveTo>
                  <a:pt x="69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216" y="20200"/>
                </a:lnTo>
                <a:close/>
              </a:path>
              <a:path fill="lighten" w="69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616" h="21600">
                <a:moveTo>
                  <a:pt x="27802" y="10800"/>
                </a:moveTo>
                <a:lnTo>
                  <a:pt x="41815" y="3794"/>
                </a:lnTo>
                <a:lnTo>
                  <a:pt x="4181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рекомендуемый языковой репертуа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Экзаменационное задани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Введение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начните с общего представления темы и предложения, выражающего ее двойственный характ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сновная част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редставьте аргументы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«за» и «против»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Можно располагать аргументы в разных абзацах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Заключени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четко подведите итог сказанному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снова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апишите предложение отражающее противоречивость те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но в тоже время выражающее надежду на нахождение копромис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Введени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oblem/issue/phenomenon of… is/appears to be/has always been…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ople always say/have always thought/ agreed/said/believed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 controversial/ burning/hot question…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is a dispute/discussion/no agreement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сновная часть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 the one hand… on the other hand; firstly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begin with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condly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inally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 addition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sides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reover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is more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urthermore,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however,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espite this,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in spite of this,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in fact,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as a result,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onseqent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8:58:25Z</dcterms:created>
  <dc:creator>DJ_Diesel</dc:creator>
  <dc:description/>
  <dc:language>en-US</dc:language>
  <cp:lastModifiedBy>Домашний</cp:lastModifiedBy>
  <dcterms:modified xsi:type="dcterms:W3CDTF">2015-01-18T16:43:29Z</dcterms:modified>
  <cp:revision>12</cp:revision>
  <dc:subject/>
  <dc:title>Эссе</dc:title>
</cp:coreProperties>
</file>