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C848-8A89-48E8-A7A9-BC748DAB1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7021-F93C-4DE5-90DE-45014BFC8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FDA1-0C9E-4FB8-AB3C-68CB583ED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728A-2BF3-4356-8085-D1187223E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2E6ED-36E9-4190-BFC0-F69D0C447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BEC6C-AB77-4E75-9540-772453082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EEEF5-EFC6-4F87-B35C-24E68F526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A319B-1EE2-4ED3-B8D9-4BAB95EC9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C7FCF-1A1C-4970-88B8-1CDA6ADF0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425A1-A835-47B1-A8AC-E5CCD9CC1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E828F-3B00-4C11-A746-93954D4A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3EBE-20D3-4274-8734-C9BCEF69A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D006E-D490-4890-B1EA-014B6FC9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9F097-D188-4E7D-B672-D6E74B41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EADBE-A1EC-42CF-8CE1-AEDC44C97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5E3F4-C800-4FEB-A7C4-EA5474513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D861B-1B9E-40BF-AC1D-AE4387F3E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EDCA-A6F2-463B-AD98-2038899B7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4EE5-3B5F-4DED-AC07-944A26AD7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738F-2579-4533-903D-2FAEA86DA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A408-AFB5-4E3E-A52F-03E3260BD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CD0F-803F-411A-8748-F3F62F6C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E5C6-C308-41E1-B108-DADF3179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7DB6-1064-4973-9AF6-E8A7B1DA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E581B-BDBE-462A-B3A0-55E8E945014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05BAB-5B80-4194-A2CE-60D336411D0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84360" y="3068640"/>
            <a:ext cx="7991280" cy="32083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419640" y="907920"/>
            <a:ext cx="5327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Comic Sans MS"/>
              </a:rPr>
              <a:t>Клавиатура фортепиан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916360" y="2133720"/>
            <a:ext cx="5962680" cy="4448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2449440" cy="18367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179280" y="3049560"/>
            <a:ext cx="2448000" cy="18385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698400" y="215748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Си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нич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25880" y="5037120"/>
            <a:ext cx="110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Си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рен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367440" y="549360"/>
            <a:ext cx="4694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99"/>
                </a:solidFill>
                <a:latin typeface="Comic Sans MS"/>
              </a:rPr>
              <a:t>Нота «Си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296200" y="2013120"/>
            <a:ext cx="37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388360" y="2205000"/>
            <a:ext cx="431640" cy="4208760"/>
          </a:xfrm>
          <a:prstGeom prst="rect">
            <a:avLst/>
          </a:prstGeom>
          <a:solidFill>
            <a:srgbClr val="79ed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080200" y="4605480"/>
            <a:ext cx="668520" cy="1739880"/>
          </a:xfrm>
          <a:prstGeom prst="rect">
            <a:avLst/>
          </a:prstGeom>
          <a:solidFill>
            <a:srgbClr val="79ed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177400" y="5326200"/>
            <a:ext cx="672840" cy="459720"/>
          </a:xfrm>
          <a:prstGeom prst="rect">
            <a:avLst/>
          </a:prstGeom>
          <a:solidFill>
            <a:srgbClr val="79ed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С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7129440" cy="47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705816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419640" y="2997360"/>
            <a:ext cx="5040000" cy="35319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68360" y="189000"/>
            <a:ext cx="2519280" cy="1827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395280" y="2924280"/>
            <a:ext cx="2448000" cy="18381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635280" y="692280"/>
            <a:ext cx="496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99"/>
                </a:solidFill>
                <a:latin typeface="Comic Sans MS"/>
              </a:rPr>
              <a:t>Нота «Ре»</a:t>
            </a: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44880" y="1989000"/>
            <a:ext cx="91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Ре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п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16880" y="4869000"/>
            <a:ext cx="90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Ре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ч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7561440" cy="42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700360" y="2133720"/>
            <a:ext cx="5962680" cy="44481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268360" y="126828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До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кт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71640" y="2133720"/>
            <a:ext cx="306360" cy="4208760"/>
          </a:xfrm>
          <a:prstGeom prst="rect">
            <a:avLst/>
          </a:prstGeom>
          <a:solidFill>
            <a:srgbClr val="79ed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050920" y="4005360"/>
            <a:ext cx="37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59280" y="4653000"/>
            <a:ext cx="379080" cy="1739880"/>
          </a:xfrm>
          <a:prstGeom prst="rect">
            <a:avLst/>
          </a:prstGeom>
          <a:solidFill>
            <a:srgbClr val="79ed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771640" y="5127480"/>
            <a:ext cx="717840" cy="520560"/>
          </a:xfrm>
          <a:prstGeom prst="rect">
            <a:avLst/>
          </a:prstGeom>
          <a:solidFill>
            <a:srgbClr val="79ed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До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539640" y="189000"/>
            <a:ext cx="1774800" cy="24256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179280" y="2924280"/>
            <a:ext cx="2370240" cy="16938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035360" y="494172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До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06880" y="765000"/>
            <a:ext cx="471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99"/>
                </a:solidFill>
                <a:latin typeface="Comic Sans MS"/>
              </a:rPr>
              <a:t>Нота «До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132000" y="2492280"/>
            <a:ext cx="5472360" cy="41767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003640" y="2492280"/>
            <a:ext cx="432000" cy="4123440"/>
          </a:xfrm>
          <a:prstGeom prst="rect">
            <a:avLst/>
          </a:prstGeom>
          <a:solidFill>
            <a:srgbClr val="79ed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643280" y="4797360"/>
            <a:ext cx="360360" cy="1739880"/>
          </a:xfrm>
          <a:prstGeom prst="rect">
            <a:avLst/>
          </a:prstGeom>
          <a:solidFill>
            <a:srgbClr val="79ed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16280" y="5373720"/>
            <a:ext cx="747720" cy="459720"/>
          </a:xfrm>
          <a:prstGeom prst="rect">
            <a:avLst/>
          </a:prstGeom>
          <a:solidFill>
            <a:srgbClr val="79ed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Ми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2025720" cy="22287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250920" y="2637000"/>
            <a:ext cx="2712960" cy="19224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445120" y="1700280"/>
            <a:ext cx="107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Ми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ш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71480" y="467820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По</a:t>
            </a: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ми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д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01720" y="907920"/>
            <a:ext cx="4952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99"/>
                </a:solidFill>
                <a:latin typeface="Comic Sans MS"/>
              </a:rPr>
              <a:t>Нота «Ми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705816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132000" y="2565360"/>
            <a:ext cx="5141880" cy="38354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2157480" cy="22320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250920" y="2924280"/>
            <a:ext cx="2741400" cy="21114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209040" y="620640"/>
            <a:ext cx="4784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99"/>
                </a:solidFill>
                <a:latin typeface="Comic Sans MS"/>
              </a:rPr>
              <a:t>Нота «Фа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96680" y="1652760"/>
            <a:ext cx="109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Ф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о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08520" y="503712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Ф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нт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64000" y="2637000"/>
            <a:ext cx="360360" cy="3660120"/>
          </a:xfrm>
          <a:prstGeom prst="rect">
            <a:avLst/>
          </a:prstGeom>
          <a:solidFill>
            <a:srgbClr val="79ed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51640" y="4581360"/>
            <a:ext cx="433080" cy="1739880"/>
          </a:xfrm>
          <a:prstGeom prst="rect">
            <a:avLst/>
          </a:prstGeom>
          <a:solidFill>
            <a:srgbClr val="79ed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03840" y="4678200"/>
            <a:ext cx="38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62200" y="5084640"/>
            <a:ext cx="686520" cy="459720"/>
          </a:xfrm>
          <a:prstGeom prst="rect">
            <a:avLst/>
          </a:prstGeom>
          <a:solidFill>
            <a:srgbClr val="79ed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Ф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348000" y="2349360"/>
            <a:ext cx="5183280" cy="38671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2158920" cy="22320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684360" y="2781360"/>
            <a:ext cx="1973160" cy="22492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97800" y="2637000"/>
            <a:ext cx="109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Фа</a:t>
            </a: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соль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397520" y="496584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Соль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51160" y="981000"/>
            <a:ext cx="517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Comic Sans MS"/>
              </a:rPr>
              <a:t>Нота «Соль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443640" y="2349360"/>
            <a:ext cx="360360" cy="3660120"/>
          </a:xfrm>
          <a:prstGeom prst="rect">
            <a:avLst/>
          </a:prstGeom>
          <a:solidFill>
            <a:srgbClr val="79ed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00720" y="4508640"/>
            <a:ext cx="719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00720" y="4508640"/>
            <a:ext cx="7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351480" y="4389480"/>
            <a:ext cx="741600" cy="1739880"/>
          </a:xfrm>
          <a:prstGeom prst="rect">
            <a:avLst/>
          </a:prstGeom>
          <a:solidFill>
            <a:srgbClr val="79ed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300720" y="4941720"/>
            <a:ext cx="792360" cy="368280"/>
          </a:xfrm>
          <a:prstGeom prst="rect">
            <a:avLst/>
          </a:prstGeom>
          <a:solidFill>
            <a:srgbClr val="79ed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Соль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627280" y="1989000"/>
            <a:ext cx="5977080" cy="45356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468360" y="549360"/>
            <a:ext cx="1380960" cy="14288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0" y="2276640"/>
            <a:ext cx="2452680" cy="24526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3352680" y="476280"/>
            <a:ext cx="467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99"/>
                </a:solidFill>
                <a:latin typeface="Comic Sans MS"/>
              </a:rPr>
              <a:t>Нота «Ля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38480" y="4894200"/>
            <a:ext cx="102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К</a:t>
            </a: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ля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к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001240" y="150984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Ля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гуш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093080" y="1989000"/>
            <a:ext cx="574560" cy="4123440"/>
          </a:xfrm>
          <a:prstGeom prst="rect">
            <a:avLst/>
          </a:prstGeom>
          <a:solidFill>
            <a:srgbClr val="79ed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877080" y="4437000"/>
            <a:ext cx="790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948360" y="4365720"/>
            <a:ext cx="792360" cy="2037240"/>
          </a:xfrm>
          <a:prstGeom prst="rect">
            <a:avLst/>
          </a:prstGeom>
          <a:solidFill>
            <a:srgbClr val="79ed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070400" y="5176800"/>
            <a:ext cx="648720" cy="459720"/>
          </a:xfrm>
          <a:prstGeom prst="rect">
            <a:avLst/>
          </a:prstGeom>
          <a:solidFill>
            <a:srgbClr val="79ed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Ля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4T17:43:22Z</dcterms:created>
  <dc:creator>user</dc:creator>
  <dc:description/>
  <dc:language>en-US</dc:language>
  <cp:lastModifiedBy>user</cp:lastModifiedBy>
  <dcterms:modified xsi:type="dcterms:W3CDTF">2015-01-14T18:52:54Z</dcterms:modified>
  <cp:revision>2</cp:revision>
  <dc:subject/>
  <dc:title>Слайд 1</dc:title>
</cp:coreProperties>
</file>