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D3F-6ED3-4907-80DD-D9228D99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C6F-73C3-450B-BA03-26E6464E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1DC-545C-4B02-A4EA-D9956367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C91-4A45-4A5E-8F10-F312DAA4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98C2-A155-4A53-A445-8EDEC930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88B2-18BC-4936-A725-B948B851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E27-96D4-4F66-8195-4D914CFC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B90-4BDA-41D9-935A-D102F0D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FE03-51AF-4708-BA59-86502E24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112-81BC-4FBF-B550-B9C35733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F2C2-48A5-4465-9EBC-2E010BD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6C6-E270-483F-A959-C0D6E92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C15A-427B-4D99-A4A3-2CE10C3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BFB-8941-434F-B0DA-62D8034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F471-B732-4FA8-BCDD-87690F3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9C8-8864-49E4-BA95-2DFE4964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08F7-BDA3-4A0D-BC59-78D0E333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91F4-A134-413D-9281-BE5E75EC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5ABC-8DA7-49AE-9931-127C4D6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83A0-9751-49C5-B4AA-6B3CC6E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6618-37B8-435C-8081-B5A633D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60F0-5BA4-44E7-BC9A-8383802D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E90-D055-4A4A-9BAE-C8EA139D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C57E-4141-4BC0-8495-42A441D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093D-6E52-4935-BF62-31B4092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C77C-D4DE-4EAB-A4D6-36E3592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BD00-FED2-4E35-BC20-00095BC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3CE5-3BDA-4690-9200-43C420C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297D-AA7E-4935-9D34-95931A9D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0ED7-2447-48A9-AAA2-5F4A73AD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8E82-1784-47CD-B9D5-B0B56DA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EFBC-5068-4691-8A14-1CAF9A75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6EF0-8184-4D28-8D76-10C7C645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BBA-7B0D-428A-B641-E243A0F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1ED4-5B0A-495A-94F0-6472D4D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BC42-F326-44E4-B0C2-5A4BC978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2644-D322-42C1-90AC-9F031BF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66838-554F-4393-AEA7-8E1EEA4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D956-E820-4C73-9838-96A9369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CCCC-7A6E-4BB2-9DA1-E31DDB9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193E-6C92-49B6-9CA6-B66FE78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D2B9-2C4E-414A-8C28-6909BC94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90E8-A112-45A7-B7D2-F59A699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2C9-C462-401F-B1FF-95650BD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432-7F6E-4B13-9168-F7F3F38C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951-F9BE-450A-A7CF-69DBC21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42B-4F26-41BF-9F31-125A873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F5E-34C7-4429-A597-23E7FAE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BCFA3F-34C3-4D42-8251-CF74D3E625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C696C3-3909-48DA-B839-0D5D2CB56A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FEA232-5001-42FA-A571-54E540D4D67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B95E67-B334-4283-8DD6-906EB4E11C5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&#1040;&#1088;&#1090;&#1077;&#1084;/Desktop/&#1055;&#1077;&#1089;&#1085;&#1103;%20&#1087;&#1088;&#1086;%20&#1091;&#1095;&#1080;&#1090;&#1077;&#1083;&#1103;%20-%20&#1085;&#1072;&#1096;%20&#1083;&#1102;&#1073;&#1080;&#1084;&#1099;&#1081;%20&#1091;&#1095;&#1080;&#1090;&#1077;&#1083;&#1100;.mp3" TargetMode="External"/><Relationship Id="rId2" Type="http://schemas.microsoft.com/office/2007/relationships/media" Target="file:///C:/Users/&#1040;&#1088;&#1090;&#1077;&#1084;/Desktop/&#1055;&#1077;&#1089;&#1085;&#1103;%20&#1087;&#1088;&#1086;%20&#1091;&#1095;&#1080;&#1090;&#1077;&#1083;&#1103;%20-%20&#1085;&#1072;&#1096;%20&#1083;&#1102;&#1073;&#1080;&#1084;&#1099;&#1081;%20&#1091;&#1095;&#1080;&#1090;&#1077;&#1083;&#1100;.mp3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12000" y="548640"/>
            <a:ext cx="4248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Зайцева Зоя Николаевна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Учитель начальных класс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988000" y="4149000"/>
            <a:ext cx="5832360" cy="25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Times New Roman"/>
              </a:rPr>
              <a:t>Филиал муниципального бюджетного образовательного учрежден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Times New Roman"/>
              </a:rPr>
              <a:t>«Средняя общеобразовательная школа с.Ошторма Юмья» в д.Старая Юмь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Times New Roman"/>
              </a:rPr>
              <a:t>Кукморского муниципального района Республики Татарста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Times New Roman"/>
              </a:rPr>
              <a:t>E- mail:ssn-1972-01@mail.r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Times New Roman"/>
              </a:rPr>
              <a:t>2014</a:t>
            </a:r>
            <a:r>
              <a:rPr b="1" i="1" lang="ru-RU" sz="2900" spc="-1" strike="noStrike">
                <a:solidFill>
                  <a:srgbClr val="002060"/>
                </a:solidFill>
                <a:latin typeface="Times New Roman"/>
              </a:rPr>
              <a:t> го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840" y="6215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Рисунок 6"/>
          <p:cNvSpPr/>
          <p:nvPr/>
        </p:nvSpPr>
        <p:spPr>
          <a:xfrm rot="5400000">
            <a:off x="473760" y="823680"/>
            <a:ext cx="3749400" cy="281196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едагогическая деятельност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24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Место учебы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Можгинское педагогическое училище,1991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Казанский государственный педагогический университет,2002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Квалификация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учитель начальных класс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Образование: </a:t>
            </a:r>
            <a:r>
              <a:rPr b="0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высше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Стаж педагогической деятельности:  </a:t>
            </a:r>
            <a:r>
              <a:rPr b="1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21 год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Квалификационная категория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перва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С 1991 по 1995 год 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учитель начальных классов Верхнекузьмесской начальной школы Кукморского района Р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С 1995 по 1997г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учитель начальных классов Верхнеюмьинской начальной школы Кукморского района Р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С 1997 по 2001г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учитель начальных классов Верхнекуморской начальной школы Кукморского района Р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С  2001 по нынешнее время: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учитель начальных  классов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филиала МБОУ«СОШ с.Ошторма Юмья» в д.Старая Юмь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     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  <a:ea typeface="Arial Unicode MS"/>
              </a:rPr>
              <a:t>Кукморского муниципального  района  Республики Татарста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 rot="5400000">
            <a:off x="1902600" y="-146880"/>
            <a:ext cx="5573880" cy="82612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Обеспечение непрерывности собственного профессионального образ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640" y="1340640"/>
            <a:ext cx="8208720" cy="9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08.01-27.002.2003 курсы «Пути модернизации начального национального  образования» (Институт  усовершенствования учителей Удмуртской Республики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11640" y="2205000"/>
            <a:ext cx="82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0.08-22.08.2009 курсы «Информационно-коммуникационные технологии как ресурс педагогической деятельности» (ММЦ Кукморского муниципального района РТ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611640" y="335700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1.10-10.11.2009 курсы  «Проектно-исследовательская деятельность в   начальной школе на этапе внедрения ФГОС» ( ИРО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611640" y="3789000"/>
            <a:ext cx="8352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06.02–17.02.2012 курсы «Основы религиозных культур и  светской этики» (ГАОУ ДПО «Институт развития образования Республики Татарс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11640" y="4941000"/>
            <a:ext cx="820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04.06-29.06.2012 курсы «Педагогическая система развивающего образования как основа  реализации ФГОС НОО» ( Приволжский межрегиональный центр повышения квалификации и профессиональной переподготовки работников оь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755640" y="301320"/>
            <a:ext cx="8064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Обеспечение непрерывности собствен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6023880" y="3357000"/>
            <a:ext cx="2393280" cy="31528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"/>
          <p:cNvPicPr/>
          <p:nvPr/>
        </p:nvPicPr>
        <p:blipFill>
          <a:blip r:embed="rId2"/>
          <a:stretch/>
        </p:blipFill>
        <p:spPr>
          <a:xfrm>
            <a:off x="752400" y="1917000"/>
            <a:ext cx="3531240" cy="2520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4284000" y="2205000"/>
            <a:ext cx="432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ка преподавания ОРКСЭ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.Казань)  Издательство «Русское сло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67640" y="4653000"/>
            <a:ext cx="489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Деятельностный подход как главное условие реализации  ФГОС первой ступени образования»  (г.Зеленодольс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дательство «ВИТА-ПР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4803120" y="1628640"/>
            <a:ext cx="321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бучающие семин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640" y="188640"/>
            <a:ext cx="554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Участие в профессиональных конкурсах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640" y="1124640"/>
            <a:ext cx="381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Участник </a:t>
            </a: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ежрегионального-конкурса- фестиваля педагогов образовательных учреждений «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т творчества учителя к творчеству ученика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»  (2011 год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обедитель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гранта «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ш лучший учитель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»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(2012 год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7" descr=""/>
          <p:cNvPicPr/>
          <p:nvPr/>
        </p:nvPicPr>
        <p:blipFill>
          <a:blip r:embed="rId1"/>
          <a:stretch/>
        </p:blipFill>
        <p:spPr>
          <a:xfrm>
            <a:off x="5053680" y="832320"/>
            <a:ext cx="2343960" cy="3224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7" name="Рисунок 8" descr=""/>
          <p:cNvPicPr/>
          <p:nvPr/>
        </p:nvPicPr>
        <p:blipFill>
          <a:blip r:embed="rId2"/>
          <a:stretch/>
        </p:blipFill>
        <p:spPr>
          <a:xfrm>
            <a:off x="5402880" y="4581000"/>
            <a:ext cx="1994760" cy="1633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med" advTm="8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49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аспространение собственного педагогического опы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Муниципальный уровень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281"/>
              </a:spcBef>
              <a:buClr>
                <a:srgbClr val="af105c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Открытый урок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Урок-исследование «Имя прилагательное». Семинар учителей начальных классов удмуртских школ по теме: «Активизация познавательной деятельности младших школьников».2009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281"/>
              </a:spcBef>
              <a:buClr>
                <a:srgbClr val="af105c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Презентация опыта работы: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обенности нравственного воспитания на уроках чтения».</a:t>
            </a: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кционное заседание августовского совещания педагогических работников Кукморского муниципального района по теме: «Стратегия развития образования Республики Татарстан на 2009-2015г.г.», 2010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281"/>
              </a:spcBef>
              <a:buClr>
                <a:srgbClr val="af105c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Презентация опыта работы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делирование  урока чтения “Г.М.Новицкая “Ливнем грива падает седая” в условиях реализации деятельностного подхода к обучению в начальной школе». Семинар для учителей начальных классов удмуртских школ Кукморского муниципального района «Системно-деятельностный подход-основа ФГОС второго поколения»,2011г.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281"/>
              </a:spcBef>
              <a:buClr>
                <a:srgbClr val="af105c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Деловая  игра для родителей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оль отца в формировании личности ребенка». Семинар-практикум директоров общеобразовательных школ Кукморского муниципального  района на тему: «Управление процессами развития личности в условиях образовательного учреждения»,2012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Республиканский уровень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81"/>
              </a:spcBef>
              <a:buClr>
                <a:srgbClr val="af105c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Защита проекта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ируемые результаты  по математике в 1 классе по разделу «Числа и величины». Перед учителями на курсах «Педагогическая система развивающего образования как основа  реализации ФГОС НОО».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волжский межрегиональный центр повышения квалификации и профессиональной переподготовки работников образования,2012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Международн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Публикации</a:t>
            </a:r>
            <a:r>
              <a:rPr b="1" lang="ru-RU" sz="1400" spc="-1" strike="noStrike">
                <a:solidFill>
                  <a:srgbClr val="660066"/>
                </a:solidFill>
                <a:latin typeface="Calibri"/>
              </a:rPr>
              <a:t>: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тья «Реализация деятельностного подхода в обучении в начальной школе» в сетевом образовательном сообществе «Открытый класс» 2011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тья «Организация учебно-воспитательной работы школы по формированию здорового образа жизни» в сетевом учительском портале ЗАВУЧ. ИНФО 2011г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тья «Особенности уроков литературного чтения» в Интернет-портале «ПроШколу.ру»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24580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Награ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23640" y="1556640"/>
            <a:ext cx="439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Благодарственное письмо за высокий уровень подготовки Петровой Ксении Геннадьевны  победителя 1 Всероссийской комплексной олимпиады (начальная школа),организованный Центром научной мыс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Грамота Информационно-методического центра Кукморского  муниципального  района  за заслуги в области начального обучения и воспитания подрастающего поколения, значительные успехи в организации учебно-воспитательного процесса и большой личный вклад в развитие образования от 23.08.201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755640" y="1124640"/>
            <a:ext cx="30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ссийс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8000" y="2709000"/>
            <a:ext cx="4176000" cy="32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четная грамота Управления образования Исполнительского комитета Кукморского муниципального района за достигнутые успехи в деле воспитания подрастающего поколени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Объект 5" descr=""/>
          <p:cNvPicPr/>
          <p:nvPr/>
        </p:nvPicPr>
        <p:blipFill>
          <a:blip r:embed="rId1"/>
          <a:stretch/>
        </p:blipFill>
        <p:spPr>
          <a:xfrm>
            <a:off x="4212000" y="476640"/>
            <a:ext cx="1703880" cy="24156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"/>
          <p:cNvPicPr/>
          <p:nvPr/>
        </p:nvPicPr>
        <p:blipFill>
          <a:blip r:embed="rId2"/>
          <a:stretch/>
        </p:blipFill>
        <p:spPr>
          <a:xfrm>
            <a:off x="5623200" y="1309320"/>
            <a:ext cx="1684800" cy="23173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2" descr=""/>
          <p:cNvPicPr/>
          <p:nvPr/>
        </p:nvPicPr>
        <p:blipFill>
          <a:blip r:embed="rId3"/>
          <a:stretch/>
        </p:blipFill>
        <p:spPr>
          <a:xfrm>
            <a:off x="7020360" y="2349000"/>
            <a:ext cx="1660320" cy="2283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475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Достижения учащихс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1640" y="1052640"/>
            <a:ext cx="844524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еждународный уровень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плом лауреата первой степен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курса «Декоративно-прикладное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о» (до 13 лет)   Детской международно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ой олимпиады «KID OLIMP»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сероссийский 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плом победителя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ероссийской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й олимпиады,организованно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ом научной мысл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6444360" y="476640"/>
            <a:ext cx="2232000" cy="306972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5220000" y="3546720"/>
            <a:ext cx="2116440" cy="291096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</p:spTree>
  </p:cSld>
  <p:transition spd="med" advTm="8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неурочной деятельности учащихс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tretch/>
        </p:blipFill>
        <p:spPr>
          <a:xfrm>
            <a:off x="592200" y="914040"/>
            <a:ext cx="1820160" cy="256680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3" name="Рисунок 4" descr=""/>
          <p:cNvPicPr/>
          <p:nvPr/>
        </p:nvPicPr>
        <p:blipFill>
          <a:blip r:embed="rId2"/>
          <a:stretch/>
        </p:blipFill>
        <p:spPr>
          <a:xfrm>
            <a:off x="3545280" y="1047240"/>
            <a:ext cx="1690560" cy="237600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4" name="Рисунок 5" descr=""/>
          <p:cNvPicPr/>
          <p:nvPr/>
        </p:nvPicPr>
        <p:blipFill>
          <a:blip r:embed="rId3"/>
          <a:stretch/>
        </p:blipFill>
        <p:spPr>
          <a:xfrm>
            <a:off x="6412320" y="900720"/>
            <a:ext cx="1767960" cy="250920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5" name="Рисунок 6" descr=""/>
          <p:cNvPicPr/>
          <p:nvPr/>
        </p:nvPicPr>
        <p:blipFill>
          <a:blip r:embed="rId4"/>
          <a:stretch/>
        </p:blipFill>
        <p:spPr>
          <a:xfrm rot="5400000">
            <a:off x="-23040" y="4741920"/>
            <a:ext cx="1857240" cy="130716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6" name="Рисунок 7" descr=""/>
          <p:cNvPicPr/>
          <p:nvPr/>
        </p:nvPicPr>
        <p:blipFill>
          <a:blip r:embed="rId5"/>
          <a:stretch/>
        </p:blipFill>
        <p:spPr>
          <a:xfrm rot="5400000">
            <a:off x="1297800" y="4726080"/>
            <a:ext cx="1857240" cy="13388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7" name="Рисунок 8" descr=""/>
          <p:cNvPicPr/>
          <p:nvPr/>
        </p:nvPicPr>
        <p:blipFill>
          <a:blip r:embed="rId6"/>
          <a:stretch/>
        </p:blipFill>
        <p:spPr>
          <a:xfrm>
            <a:off x="5734800" y="4104000"/>
            <a:ext cx="3123000" cy="220608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08" name="Рисунок 9" descr=""/>
          <p:cNvPicPr/>
          <p:nvPr/>
        </p:nvPicPr>
        <p:blipFill>
          <a:blip r:embed="rId7"/>
          <a:stretch/>
        </p:blipFill>
        <p:spPr>
          <a:xfrm>
            <a:off x="3449520" y="3884400"/>
            <a:ext cx="1882440" cy="264528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med" advTm="8000">
    <p:randomBar dir="vert"/>
  </p:transition>
</p:sld>
</file>

<file path=ppt/theme/theme1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  <Words>685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9:24:38Z</dcterms:created>
  <dc:creator>Ясечка</dc:creator>
  <dc:description/>
  <dc:language>en-US</dc:language>
  <cp:lastModifiedBy>Зоя</cp:lastModifiedBy>
  <dcterms:modified xsi:type="dcterms:W3CDTF">2015-01-18T19:31:55Z</dcterms:modified>
  <cp:revision>1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