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26234E-E7FF-4E41-A11C-CAF82A770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ADBA0F-E785-46FB-B20F-056AC546872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21B-20B9-4A59-BA78-EBCE8D27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51C-5AC3-4F3F-8B05-0B89C530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707-17D4-4E5E-8003-1C1F2D51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79B-5247-461A-91E2-403A00AF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0080-9061-4DDA-B4AB-D56A34FB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9BDE-EAB4-4FD1-803E-8313EB3D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89A9-799C-4967-8A6D-1A3B6BC1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70D0-F88E-4EBC-BEFF-D4E71183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FBE6-851A-4191-8769-DE368029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C02-10C6-440A-95FF-31D38EF4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0046-BD28-4523-9CCE-34DF94BD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702-D0BB-4272-B6EB-0A714A7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E7EB-C309-48AB-9D77-52E56ED6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C219-7C73-43D1-9C18-48EA0BF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D5B3-5BA3-4836-AEAE-E7C5D070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0BA3-ED32-4608-A03F-524EEAF4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0594-51EB-49EE-AC82-3BFCAF67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C9A-7FAF-44BB-B274-66BAA21D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28A-C060-40B7-9B43-FA72C581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163-AEA6-4FDD-A5F6-9B967D17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232-8BEC-4096-883A-92F23294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454-ADF8-4988-AA82-B4D541DA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A32-701D-4E00-A1A0-D8F84E80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BA7-3F55-458F-A446-EB90BE3D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26889C-D31A-4CD1-BDE0-281908BF872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06FD2B-F130-42E1-97D6-EF226F2505F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640" y="188640"/>
            <a:ext cx="266400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Мой девиз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 rot="5400000">
            <a:off x="5039640" y="2708640"/>
            <a:ext cx="3196080" cy="4419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91" name="TextBox 5"/>
          <p:cNvSpPr/>
          <p:nvPr/>
        </p:nvSpPr>
        <p:spPr>
          <a:xfrm>
            <a:off x="2915640" y="404640"/>
            <a:ext cx="6048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ff"/>
                </a:solidFill>
                <a:latin typeface="Monotype Corsiva"/>
              </a:rPr>
              <a:t>«С детьми всегда должна быть ря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ff"/>
                </a:solidFill>
                <a:latin typeface="Monotype Corsiva"/>
              </a:rPr>
              <a:t>Даря тепло и согревая взгля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ff"/>
                </a:solidFill>
                <a:latin typeface="Monotype Corsiva"/>
              </a:rPr>
              <a:t>Их в мир прекрасного  ве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ff"/>
                </a:solidFill>
                <a:latin typeface="Monotype Corsiva"/>
              </a:rPr>
              <a:t>И помнить заповедь – не навред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95640" y="2181240"/>
            <a:ext cx="828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Цель: </a:t>
            </a:r>
            <a:r>
              <a:rPr b="1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00ff"/>
                </a:solidFill>
                <a:latin typeface="Monotype Corsiva"/>
              </a:rPr>
              <a:t>Воспитание, социально-педагогическая поддержка становления и развития высоконравственного,творческоого,ответственного и инициативного гражданина России через  разнообразную  деятельность в коллекти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539640" y="3645000"/>
            <a:ext cx="3888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          </a:t>
            </a: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«Дружб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640" y="188640"/>
            <a:ext cx="8074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От  творчества учителя к творчеству учени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162000" y="433440"/>
            <a:ext cx="2660040" cy="1994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3143160" y="428760"/>
            <a:ext cx="2499840" cy="2044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7" name="Рисунок 5" descr=""/>
          <p:cNvPicPr/>
          <p:nvPr/>
        </p:nvPicPr>
        <p:blipFill>
          <a:blip r:embed="rId3"/>
          <a:stretch/>
        </p:blipFill>
        <p:spPr>
          <a:xfrm>
            <a:off x="271440" y="2673000"/>
            <a:ext cx="2514240" cy="1885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8" name="Рисунок 9" descr=""/>
          <p:cNvPicPr/>
          <p:nvPr/>
        </p:nvPicPr>
        <p:blipFill>
          <a:blip r:embed="rId4"/>
          <a:stretch/>
        </p:blipFill>
        <p:spPr>
          <a:xfrm>
            <a:off x="5904720" y="476640"/>
            <a:ext cx="2602440" cy="1951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9" name="Рисунок 10" descr=""/>
          <p:cNvPicPr/>
          <p:nvPr/>
        </p:nvPicPr>
        <p:blipFill>
          <a:blip r:embed="rId5"/>
          <a:stretch/>
        </p:blipFill>
        <p:spPr>
          <a:xfrm>
            <a:off x="3214800" y="2714760"/>
            <a:ext cx="2476080" cy="1856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0" name="Рисунок 14" descr=""/>
          <p:cNvPicPr/>
          <p:nvPr/>
        </p:nvPicPr>
        <p:blipFill>
          <a:blip r:embed="rId6"/>
          <a:stretch/>
        </p:blipFill>
        <p:spPr>
          <a:xfrm>
            <a:off x="5958000" y="2709360"/>
            <a:ext cx="2542680" cy="1906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1" name="Рисунок 15" descr=""/>
          <p:cNvPicPr/>
          <p:nvPr/>
        </p:nvPicPr>
        <p:blipFill>
          <a:blip r:embed="rId7"/>
          <a:stretch/>
        </p:blipFill>
        <p:spPr>
          <a:xfrm>
            <a:off x="395640" y="4825800"/>
            <a:ext cx="2318760" cy="1738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2" name="Рисунок 16" descr=""/>
          <p:cNvPicPr/>
          <p:nvPr/>
        </p:nvPicPr>
        <p:blipFill>
          <a:blip r:embed="rId8"/>
          <a:stretch/>
        </p:blipFill>
        <p:spPr>
          <a:xfrm>
            <a:off x="3357720" y="4786200"/>
            <a:ext cx="2295720" cy="1721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3" name="Рисунок 17" descr=""/>
          <p:cNvPicPr/>
          <p:nvPr/>
        </p:nvPicPr>
        <p:blipFill>
          <a:blip r:embed="rId9"/>
          <a:stretch/>
        </p:blipFill>
        <p:spPr>
          <a:xfrm>
            <a:off x="6072120" y="4857840"/>
            <a:ext cx="2503800" cy="1586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 advTm="8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640" y="188640"/>
            <a:ext cx="8136720" cy="5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От творчества учителя к творчеству учени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бъект 2" descr=""/>
          <p:cNvPicPr/>
          <p:nvPr/>
        </p:nvPicPr>
        <p:blipFill>
          <a:blip r:embed="rId1"/>
          <a:stretch/>
        </p:blipFill>
        <p:spPr>
          <a:xfrm>
            <a:off x="251640" y="692640"/>
            <a:ext cx="2399760" cy="1800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6" name="Рисунок 5" descr=""/>
          <p:cNvPicPr/>
          <p:nvPr/>
        </p:nvPicPr>
        <p:blipFill>
          <a:blip r:embed="rId2"/>
          <a:stretch/>
        </p:blipFill>
        <p:spPr>
          <a:xfrm>
            <a:off x="3132000" y="709200"/>
            <a:ext cx="2304000" cy="172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7" name="Рисунок 7" descr=""/>
          <p:cNvPicPr/>
          <p:nvPr/>
        </p:nvPicPr>
        <p:blipFill>
          <a:blip r:embed="rId3"/>
          <a:stretch/>
        </p:blipFill>
        <p:spPr>
          <a:xfrm>
            <a:off x="5796000" y="717480"/>
            <a:ext cx="2292480" cy="171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8" name="Рисунок 8" descr=""/>
          <p:cNvPicPr/>
          <p:nvPr/>
        </p:nvPicPr>
        <p:blipFill>
          <a:blip r:embed="rId4"/>
          <a:stretch/>
        </p:blipFill>
        <p:spPr>
          <a:xfrm>
            <a:off x="514080" y="2646000"/>
            <a:ext cx="1525320" cy="203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9" name="Рисунок 9" descr=""/>
          <p:cNvPicPr/>
          <p:nvPr/>
        </p:nvPicPr>
        <p:blipFill>
          <a:blip r:embed="rId5"/>
          <a:stretch/>
        </p:blipFill>
        <p:spPr>
          <a:xfrm>
            <a:off x="309960" y="4862880"/>
            <a:ext cx="2245320" cy="1684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10" name="Рисунок 10" descr=""/>
          <p:cNvPicPr/>
          <p:nvPr/>
        </p:nvPicPr>
        <p:blipFill>
          <a:blip r:embed="rId6"/>
          <a:stretch/>
        </p:blipFill>
        <p:spPr>
          <a:xfrm rot="16200000">
            <a:off x="3118680" y="2477160"/>
            <a:ext cx="1802520" cy="23529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11" name="Рисунок 14" descr=""/>
          <p:cNvPicPr/>
          <p:nvPr/>
        </p:nvPicPr>
        <p:blipFill>
          <a:blip r:embed="rId7"/>
          <a:stretch/>
        </p:blipFill>
        <p:spPr>
          <a:xfrm>
            <a:off x="5796000" y="2635560"/>
            <a:ext cx="2391120" cy="1793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12" name="Рисунок 15" descr=""/>
          <p:cNvPicPr/>
          <p:nvPr/>
        </p:nvPicPr>
        <p:blipFill>
          <a:blip r:embed="rId8"/>
          <a:stretch/>
        </p:blipFill>
        <p:spPr>
          <a:xfrm>
            <a:off x="2866680" y="4872960"/>
            <a:ext cx="2307600" cy="1730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13" name="Рисунок 16" descr=""/>
          <p:cNvPicPr/>
          <p:nvPr/>
        </p:nvPicPr>
        <p:blipFill>
          <a:blip r:embed="rId9"/>
          <a:stretch/>
        </p:blipFill>
        <p:spPr>
          <a:xfrm>
            <a:off x="5942520" y="4775400"/>
            <a:ext cx="2568240" cy="192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 advTm="8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7" descr=""/>
          <p:cNvPicPr/>
          <p:nvPr/>
        </p:nvPicPr>
        <p:blipFill>
          <a:blip r:embed="rId1"/>
          <a:stretch/>
        </p:blipFill>
        <p:spPr>
          <a:xfrm>
            <a:off x="2699640" y="1647720"/>
            <a:ext cx="3127680" cy="4170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ff0000"/>
                </a:solidFill>
                <a:latin typeface="Monotype Corsiva"/>
              </a:rPr>
              <a:t>Я буду безгранично счастлива, если по прошествии лет дети будут вспоминать меня с теплотой и благодарностью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Объект 3" descr=""/>
          <p:cNvPicPr/>
          <p:nvPr/>
        </p:nvPicPr>
        <p:blipFill>
          <a:blip r:embed="rId2"/>
          <a:stretch/>
        </p:blipFill>
        <p:spPr>
          <a:xfrm rot="20965200">
            <a:off x="429120" y="2437920"/>
            <a:ext cx="2827440" cy="3869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 rot="11840400">
            <a:off x="5618880" y="2378160"/>
            <a:ext cx="2721960" cy="3887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newsflash/>
  </p:transition>
</p:sld>
</file>

<file path=ppt/theme/theme1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  <Words>83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19:24:38Z</dcterms:created>
  <dc:creator>Ясечка</dc:creator>
  <dc:description/>
  <dc:language>en-US</dc:language>
  <cp:lastModifiedBy>Зоя</cp:lastModifiedBy>
  <dcterms:modified xsi:type="dcterms:W3CDTF">2015-01-18T19:52:52Z</dcterms:modified>
  <cp:revision>1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4</vt:r8>
  </property>
</Properties>
</file>