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35B-1EC3-43B1-852A-B9282E62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495-D020-4FC7-8F3C-AEF52AC4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932-FE28-4E19-92DB-DB5BDD9D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781-1F70-4778-840A-CBF3EEC1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DAA7-5684-4C80-954C-BA15DB56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6515-E415-43FE-ACBA-E2D060AB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155C-0780-457F-9E88-53ECD94E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4CB8-1FFC-4007-A905-FF662A4D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7498-8628-4A6E-84DB-15A4A4EC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1395-EF9F-4CB7-82A8-137E4F47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EDA2-68BE-4F25-8A56-2BD88EEF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D71-349A-4123-BDCC-21911EA5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9216-0917-46FE-9729-0B0D6B28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FE63-0A0B-44E4-B4AD-B3332E58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EC3B-BEDC-4438-B567-7E8D878D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917D-694A-4662-856D-F8985C92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F48B-14D0-485A-B9E5-BC7AE856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0CC-0244-4C27-8774-3D24EF0D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CEC-ABC5-4DFF-8E56-E5F6475A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D9C-FACC-4EA4-BF46-D2B32B0B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C60-8551-486D-86BD-FCE0C87F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E57-B45A-4F14-8747-9B55AB47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5B2-8B79-4541-B37D-3B2E6A82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7A3-E3F4-49FB-A0B5-D0768C8A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A4FA-340E-49E7-AB65-F1A5DB3979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E72B-62F0-4906-9F89-5D3C442185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5686560" cy="30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Vladimir Script"/>
              </a:rPr>
              <a:t>Понятие о политике. Политическая власть</a:t>
            </a: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68000" y="5589720"/>
            <a:ext cx="62485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Пронкина А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1) Субъекты политики - эт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ы, социальные группы, слои, организации, прямо или косвенно участвующие в процессе реализации государственной власти или осуществляющие влияние на 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убъекты политик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ые институты (государство, политическая партия, профсоюз, церковь, СМИ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4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ые общности (слои, классы, нации, элиты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4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дельные личност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2) Политические отношения - эт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тношения распределения и использования государственной власти на основе политических интересов, или формы взаимосвязи субъектов политики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21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литические отношения – формы взаимосвязи политических субъектов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800712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гласие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4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тнерств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4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фликт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4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сподство и подчине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3) Политическое сознание - эт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а оценок, смыслов и утверждений, которая формируется, когда субъекты политики осознают содержание своих политических интересов, соотнося их с реальными условиями собственной жизн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ормирование политического сознания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238480"/>
            <a:ext cx="8229600" cy="38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646200">
              <a:spcBef>
                <a:spcPts val="649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 основе политической психологии (чувства, эмоции, переживани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) На основе политической идеологии (рациональное осмыслен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4) Политическая культура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251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епень зрелос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характер взаимодействия участников политической жизни (конфронтация или согласие и терпимость, политическая борьба или сотрудничество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AG00092_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3348000" y="2990880"/>
            <a:ext cx="1395360" cy="13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Функци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0066"/>
                </a:solidFill>
                <a:latin typeface="Arial"/>
              </a:rPr>
              <a:t>1) </a:t>
            </a:r>
            <a:r>
              <a:rPr b="1" lang="ru-RU" sz="3700" spc="-1" strike="noStrike">
                <a:solidFill>
                  <a:srgbClr val="330066"/>
                </a:solidFill>
                <a:latin typeface="Arial"/>
              </a:rPr>
              <a:t>Функция обеспечения целостности и стабильности общества:</a:t>
            </a: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30682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лавливаются тенденции общественного развития и разрабатываются проекты будущего, определяются социальные ц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0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0066"/>
                </a:solidFill>
                <a:latin typeface="Arial"/>
              </a:rPr>
              <a:t>2) </a:t>
            </a:r>
            <a:r>
              <a:rPr b="1" lang="ru-RU" sz="3700" spc="-1" strike="noStrike">
                <a:solidFill>
                  <a:srgbClr val="330066"/>
                </a:solidFill>
                <a:latin typeface="Arial"/>
              </a:rPr>
              <a:t>Функция мобилизации и обеспечения эффективности общей деятельности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2781360"/>
            <a:ext cx="867564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еспечивается реализация этих целей путем создания мотивационного механиз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1. ПОНЯТИЕ О ПОЛИТИК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30066"/>
                </a:solidFill>
                <a:latin typeface="Arial"/>
              </a:rPr>
              <a:t>3) Управленческая и регулятивная функция политики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9152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еспечивается взаимодействие субъектов, влияние на них путем  принятия политических решен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30066"/>
                </a:solidFill>
                <a:latin typeface="Arial"/>
              </a:rPr>
              <a:t>4) Функция рационализации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308320"/>
            <a:ext cx="353844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ботка общих правил и механизмов представительства и реализации интере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05520" y="2421000"/>
            <a:ext cx="4038480" cy="33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упреждение или цивилизованное разрешение конфликтов и противореч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ункция политической социализации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308320"/>
            <a:ext cx="822960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ческая социализация – это процесс введения личности в политику на основе определенных ценнос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уманитарная функц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6589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ние гарантий прав и свобод личности, обеспечение общественного поряд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3. ПОЛИТИКА  И  ДРУГИЕ  СФЕРЫ  ОБЩЕСТВЕННОЙ  ЖИЗНИ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Diagram 5"/>
          <p:cNvGrpSpPr/>
          <p:nvPr/>
        </p:nvGrpSpPr>
        <p:grpSpPr>
          <a:xfrm>
            <a:off x="230400" y="170280"/>
            <a:ext cx="8685720" cy="6514560"/>
            <a:chOff x="230400" y="170280"/>
            <a:chExt cx="8685720" cy="6514560"/>
          </a:xfrm>
        </p:grpSpPr>
        <p:sp>
          <p:nvSpPr>
            <p:cNvPr id="196" name="_s1028"/>
            <p:cNvSpPr/>
            <p:nvPr/>
          </p:nvSpPr>
          <p:spPr>
            <a:xfrm flipV="1">
              <a:off x="4572000" y="1796760"/>
              <a:ext cx="0" cy="818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29"/>
            <p:cNvSpPr/>
            <p:nvPr/>
          </p:nvSpPr>
          <p:spPr>
            <a:xfrm>
              <a:off x="3487320" y="170280"/>
              <a:ext cx="2171880" cy="1629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Эконом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30"/>
            <p:cNvSpPr/>
            <p:nvPr/>
          </p:nvSpPr>
          <p:spPr>
            <a:xfrm flipV="1">
              <a:off x="5336640" y="2274480"/>
              <a:ext cx="771120" cy="577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31"/>
            <p:cNvSpPr/>
            <p:nvPr/>
          </p:nvSpPr>
          <p:spPr>
            <a:xfrm>
              <a:off x="5790960" y="885240"/>
              <a:ext cx="2171880" cy="1629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Культу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32"/>
            <p:cNvSpPr/>
            <p:nvPr/>
          </p:nvSpPr>
          <p:spPr>
            <a:xfrm>
              <a:off x="5653080" y="3426120"/>
              <a:ext cx="1091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33"/>
            <p:cNvSpPr/>
            <p:nvPr/>
          </p:nvSpPr>
          <p:spPr>
            <a:xfrm>
              <a:off x="6744240" y="2612880"/>
              <a:ext cx="2171880" cy="1629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Националь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ны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факто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034"/>
            <p:cNvSpPr/>
            <p:nvPr/>
          </p:nvSpPr>
          <p:spPr>
            <a:xfrm>
              <a:off x="5336640" y="3999960"/>
              <a:ext cx="771120" cy="578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1035"/>
            <p:cNvSpPr/>
            <p:nvPr/>
          </p:nvSpPr>
          <p:spPr>
            <a:xfrm>
              <a:off x="5790960" y="4340520"/>
              <a:ext cx="2171880" cy="1629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Междуна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род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отнош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1036"/>
            <p:cNvSpPr/>
            <p:nvPr/>
          </p:nvSpPr>
          <p:spPr>
            <a:xfrm>
              <a:off x="4572000" y="4237560"/>
              <a:ext cx="0" cy="818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037"/>
            <p:cNvSpPr/>
            <p:nvPr/>
          </p:nvSpPr>
          <p:spPr>
            <a:xfrm>
              <a:off x="3487320" y="5055840"/>
              <a:ext cx="2171880" cy="1629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Други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факто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038"/>
            <p:cNvSpPr/>
            <p:nvPr/>
          </p:nvSpPr>
          <p:spPr>
            <a:xfrm flipH="1">
              <a:off x="3036240" y="3999960"/>
              <a:ext cx="771120" cy="578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39"/>
            <p:cNvSpPr/>
            <p:nvPr/>
          </p:nvSpPr>
          <p:spPr>
            <a:xfrm>
              <a:off x="1183680" y="4340520"/>
              <a:ext cx="2171880" cy="1629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Географи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ческ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услов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 flipH="1">
              <a:off x="2399400" y="3426120"/>
              <a:ext cx="1091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041"/>
            <p:cNvSpPr/>
            <p:nvPr/>
          </p:nvSpPr>
          <p:spPr>
            <a:xfrm>
              <a:off x="230400" y="2612880"/>
              <a:ext cx="2171880" cy="1629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Истор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2"/>
            <p:cNvSpPr/>
            <p:nvPr/>
          </p:nvSpPr>
          <p:spPr>
            <a:xfrm flipH="1" flipV="1">
              <a:off x="3036240" y="2274480"/>
              <a:ext cx="771120" cy="577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043"/>
            <p:cNvSpPr/>
            <p:nvPr/>
          </p:nvSpPr>
          <p:spPr>
            <a:xfrm>
              <a:off x="1183680" y="885240"/>
              <a:ext cx="2171880" cy="1629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Социаль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услов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44"/>
            <p:cNvSpPr/>
            <p:nvPr/>
          </p:nvSpPr>
          <p:spPr>
            <a:xfrm>
              <a:off x="3487320" y="2615400"/>
              <a:ext cx="2171880" cy="1629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8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Полит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9"/>
            <p:cNvSpPr/>
            <p:nvPr/>
          </p:nvSpPr>
          <p:spPr>
            <a:xfrm flipV="1">
              <a:off x="4572000" y="162864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1"/>
            <p:cNvSpPr/>
            <p:nvPr/>
          </p:nvSpPr>
          <p:spPr>
            <a:xfrm flipH="1" flipV="1">
              <a:off x="5435640" y="3933000"/>
              <a:ext cx="649080" cy="57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 flipV="1">
              <a:off x="3132720" y="3933000"/>
              <a:ext cx="71964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3"/>
            <p:cNvSpPr/>
            <p:nvPr/>
          </p:nvSpPr>
          <p:spPr>
            <a:xfrm flipV="1">
              <a:off x="5509440" y="3429000"/>
              <a:ext cx="14392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4"/>
            <p:cNvSpPr/>
            <p:nvPr/>
          </p:nvSpPr>
          <p:spPr>
            <a:xfrm>
              <a:off x="2124720" y="3356640"/>
              <a:ext cx="143928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27"/>
          <p:cNvSpPr/>
          <p:nvPr/>
        </p:nvSpPr>
        <p:spPr>
          <a:xfrm>
            <a:off x="3059280" y="2205000"/>
            <a:ext cx="72072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8"/>
          <p:cNvSpPr/>
          <p:nvPr/>
        </p:nvSpPr>
        <p:spPr>
          <a:xfrm flipV="1">
            <a:off x="4572000" y="4005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 flipV="1">
            <a:off x="5364000" y="2205000"/>
            <a:ext cx="720720" cy="790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литика и экономик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тивобор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структивное взаимодейств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AGREE"/>
          <p:cNvPicPr/>
          <p:nvPr/>
        </p:nvPicPr>
        <p:blipFill>
          <a:blip r:embed="rId1"/>
          <a:stretch/>
        </p:blipFill>
        <p:spPr>
          <a:xfrm>
            <a:off x="4788000" y="3068640"/>
            <a:ext cx="4016160" cy="3106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BD00173_"/>
          <p:cNvPicPr/>
          <p:nvPr/>
        </p:nvPicPr>
        <p:blipFill>
          <a:blip r:embed="rId2"/>
          <a:stretch/>
        </p:blipFill>
        <p:spPr>
          <a:xfrm>
            <a:off x="1042920" y="2852640"/>
            <a:ext cx="2224080" cy="34070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8"/>
          <p:cNvSpPr/>
          <p:nvPr/>
        </p:nvSpPr>
        <p:spPr>
          <a:xfrm>
            <a:off x="3851280" y="1989000"/>
            <a:ext cx="720720" cy="144720"/>
          </a:xfrm>
          <a:prstGeom prst="leftRightArrow">
            <a:avLst>
              <a:gd name="adj1" fmla="val 50000"/>
              <a:gd name="adj2" fmla="val 9914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олитическая система властных отношений (т.е. собственно политическая власть) не может обеспечить своей стабильности, не опираясь на более или менее прочный экономический фундамент.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Экономическая подсистема властных отношений (собственно экономическая власть), обусловленная определенными формами собственности, не может развиваться без определенной зависимости от политики.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25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0066"/>
                </a:solidFill>
                <a:latin typeface="Arial"/>
              </a:rPr>
              <a:t>Зависимость степени и характера взаимодействия политики и экономики от степени и характера свободы в развитии отношений собственности: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2636640"/>
            <a:ext cx="4027320" cy="34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ньше свободы (тоталитаризм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льше своб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6000" y="2636640"/>
            <a:ext cx="4427640" cy="34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льше государственное вмешательство в экономическую жиз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ньше государственное вмешательство в экономическую жиз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3276720" y="3213000"/>
            <a:ext cx="1800000" cy="360360"/>
          </a:xfrm>
          <a:prstGeom prst="rightArrow">
            <a:avLst>
              <a:gd name="adj1" fmla="val 50000"/>
              <a:gd name="adj2" fmla="val 12487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3276720" y="4653000"/>
            <a:ext cx="1800000" cy="360360"/>
          </a:xfrm>
          <a:prstGeom prst="rightArrow">
            <a:avLst>
              <a:gd name="adj1" fmla="val 50000"/>
              <a:gd name="adj2" fmla="val 12487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9"/>
          <p:cNvSpPr/>
          <p:nvPr/>
        </p:nvSpPr>
        <p:spPr>
          <a:xfrm>
            <a:off x="4211640" y="5516640"/>
            <a:ext cx="504720" cy="1341360"/>
          </a:xfrm>
          <a:prstGeom prst="downArrow">
            <a:avLst>
              <a:gd name="adj1" fmla="val 50000"/>
              <a:gd name="adj2" fmla="val 6644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2421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0066"/>
                </a:solidFill>
                <a:latin typeface="Arial"/>
              </a:rPr>
              <a:t>Первые сведения о политике – около 2,5 тысяч лет назад:</a:t>
            </a:r>
            <a:br>
              <a:rPr sz="2900"/>
            </a:br>
            <a:r>
              <a:rPr b="1" lang="ru-RU" sz="2900" spc="-1" strike="noStrike">
                <a:solidFill>
                  <a:srgbClr val="330066"/>
                </a:solidFill>
                <a:latin typeface="Arial"/>
              </a:rPr>
              <a:t>«ПОЛИС»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облема выбор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тимальное сочетание в зависимости от ситуац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экстремальные ситуации (стихийные бедствия, экономические кризисы)             роль политики раст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 спокойное развитие              роль политики уменьшает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7236000" y="3500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5292720" y="5013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литика и идеолог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литическая идеология - эт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0988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у  ценностей, которые выступают в качестве политического мировоззрения и обладают эффектом вер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0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 точки зрения воздействия идеологии на общество выделяют три ее уровня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оретико-концептуальный уров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граммно-политический уровен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ктуализирующий уровен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оретико-концептуальный уровень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308320"/>
            <a:ext cx="822960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ет представление о том, какие интересы являются для общества главными, какие ценности – базовым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граммно-политический уровень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нем принципы, сформированные на первом уровне, переводятся в программу действий – принятие политических решен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ктуализирующий уровень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38480"/>
            <a:ext cx="8229600" cy="38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азывает степень освоения гражданами принципов данной идеолог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ункции идеолог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Функция ориент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наступает переломный момент в истории общества, прежние ценности перестают быть таковыми, разрушаются традиционные представл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Функция оправдания действи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средство легитимации таких политических решений, которые в лучшем случае могут встретить непонимание со стороны населения, а в худшем – противоборство (наиболее важна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5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ной «инструмент» идеологии - эт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1280" y="2308320"/>
            <a:ext cx="807552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паганда, которая формирует у граждан необходимые и желаемые для партий, элит, лидеров политические ориентации, побуждающие граждан к определенному типу (образу) действ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типы политических идеологи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 предлагаемой модели желаемого обществ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авы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центристск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ев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e9ce8"/>
                </a:solidFill>
                <a:latin typeface="Arial"/>
              </a:rPr>
              <a:t>2.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 отношению к прогрессу и технологии его осуществле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дика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нсерват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литика - эт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вилизованная форма общности, которая  служит  достижению  «общего блага»   и «счастливой жизни» (Аристотел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литика и морал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1 подход: Аристотел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ка как социальная этика, нравственная философия, имеющая дело с обязанностями властных структур перед гражданами. На основе ценностей справедливости, красоты, общего блага осуществляется интеграция частных интересов граждан с общей целью всего общества. Совпадение целей и средств осуществляется благодаря таланту правителе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2 подход: Макиавелл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раль регулирует индивидуальные  отношения людей посредством  добровольного соблюдения ими определенных правил. В политике же господствует целесообразность, поэтому возможно применение насилия, жестокости, обмана для достижения благородных целей: «Цель оправдывает средства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пытки примирить две крайности - новые мод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517840"/>
            <a:ext cx="8229600" cy="36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Арифметическая мораль», или принцип «наименьшего зл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лассовая морал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Демократическая морал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обое мнение – Т. Джефферсон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517840"/>
            <a:ext cx="8229600" cy="36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кусство управления состоит в искусстве быть честны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8035920" cy="15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ПОНЯТИЕ О ПОЛИТИЧЕСКОЙ ВЛАСТИ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Политическая власть – эт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пособность, право или возможность распоряжаться кем-либо или чем-либо; оказывать решающее воздействие на судьбы, поведение или деятельность людей с помощью различного рода средств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Характерные черты политической власти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минирование властной во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ичие особого аппарата управ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веренитет органов власти по отношению к другим государств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полия на регламентацию жизни общ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принуждения в отношении общества и лич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мпоненты власти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7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966960" indent="-495360">
              <a:spcBef>
                <a:spcPts val="75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бъект господствующей во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75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держание и реальность властного волевого воздей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75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ъект власти и его отношение к властному требован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75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и (задачи) в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75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ункции в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едства власти (источники и ресурсы)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убъект власти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- эт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, группа, индивид, обладающие реальной способностью осуществить социальное господство с помощью структур и средств государственной в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литика - эт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вокупность средств, которые необходимы для того, чтобы прийти к власти и полезно использовать ее (Н. Макиавелл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бъект власти - это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 слои и группы общества, которые испытывают властное воздействие политики господствующего субъек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Содержание властного волевого воздействия: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92436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ожет обеспечиваться за счет авторитета, опираться на насилие, основываться на правовых нормах и т.д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219280" y="2708280"/>
            <a:ext cx="3924360" cy="333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яет взаимодействие субъекта и объекта влас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7" descr="AG00092_"/>
          <p:cNvPicPr/>
          <p:nvPr/>
        </p:nvPicPr>
        <p:blipFill>
          <a:blip r:embed="rId1"/>
          <a:stretch/>
        </p:blipFill>
        <p:spPr>
          <a:xfrm>
            <a:off x="3851280" y="3262320"/>
            <a:ext cx="1584360" cy="8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чи власти: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еспечивает взаимосвязь индивидов в рамках конкретного общ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авляет развитие этого общества к достижению конкретной це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304560"/>
            <a:ext cx="803592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ункции власти: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125360"/>
            <a:ext cx="800100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ботка стратегии управления общест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и принятие конкретных решений по основным направлениям развития общ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еративное управление и регулирование общественных процес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троль за важнейшими параметрами стабильности и направленности развития общ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сурсы власти – это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окупность средств, использование которых и обеспечивает воздействие на объект власти в соответствии с целями субъекта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ипология ресурс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Diagram 2"/>
          <p:cNvGrpSpPr/>
          <p:nvPr/>
        </p:nvGrpSpPr>
        <p:grpSpPr>
          <a:xfrm>
            <a:off x="86400" y="173880"/>
            <a:ext cx="9047880" cy="6397920"/>
            <a:chOff x="86400" y="173880"/>
            <a:chExt cx="9047880" cy="6397920"/>
          </a:xfrm>
        </p:grpSpPr>
        <p:sp>
          <p:nvSpPr>
            <p:cNvPr id="290" name="_s2052"/>
            <p:cNvSpPr/>
            <p:nvPr/>
          </p:nvSpPr>
          <p:spPr>
            <a:xfrm flipH="1">
              <a:off x="2427120" y="4600440"/>
              <a:ext cx="1095840" cy="492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2053"/>
            <p:cNvSpPr/>
            <p:nvPr/>
          </p:nvSpPr>
          <p:spPr>
            <a:xfrm>
              <a:off x="86400" y="4603320"/>
              <a:ext cx="2514240" cy="196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2. Ресурс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убежде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2054"/>
            <p:cNvSpPr/>
            <p:nvPr/>
          </p:nvSpPr>
          <p:spPr>
            <a:xfrm>
              <a:off x="5693400" y="4600440"/>
              <a:ext cx="1092600" cy="495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2055"/>
            <p:cNvSpPr/>
            <p:nvPr/>
          </p:nvSpPr>
          <p:spPr>
            <a:xfrm>
              <a:off x="6618960" y="4603320"/>
              <a:ext cx="2515320" cy="196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3. Ресурс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интерес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2056"/>
            <p:cNvSpPr/>
            <p:nvPr/>
          </p:nvSpPr>
          <p:spPr>
            <a:xfrm flipV="1">
              <a:off x="4608360" y="2139480"/>
              <a:ext cx="0" cy="988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2057"/>
            <p:cNvSpPr/>
            <p:nvPr/>
          </p:nvSpPr>
          <p:spPr>
            <a:xfrm>
              <a:off x="3352680" y="173880"/>
              <a:ext cx="2514240" cy="196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1. Ресурс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страх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2058"/>
            <p:cNvSpPr/>
            <p:nvPr/>
          </p:nvSpPr>
          <p:spPr>
            <a:xfrm>
              <a:off x="3352680" y="3128040"/>
              <a:ext cx="2514240" cy="1968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8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33cc"/>
                  </a:solidFill>
                  <a:latin typeface="Verdana"/>
                </a:rPr>
                <a:t>Антропо-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33cc"/>
                  </a:solidFill>
                  <a:latin typeface="Verdana"/>
                </a:rPr>
                <a:t>логический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33cc"/>
                  </a:solidFill>
                  <a:latin typeface="Verdana"/>
                </a:rPr>
                <a:t>принцип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1"/>
            <p:cNvSpPr/>
            <p:nvPr/>
          </p:nvSpPr>
          <p:spPr>
            <a:xfrm flipH="1" rot="12843600">
              <a:off x="5652720" y="4579920"/>
              <a:ext cx="1177200" cy="507240"/>
            </a:xfrm>
            <a:prstGeom prst="rightArrow">
              <a:avLst>
                <a:gd name="adj1" fmla="val 50000"/>
                <a:gd name="adj2" fmla="val 58020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12"/>
            <p:cNvSpPr/>
            <p:nvPr/>
          </p:nvSpPr>
          <p:spPr>
            <a:xfrm flipH="1" rot="19331400">
              <a:off x="2196000" y="4580280"/>
              <a:ext cx="1221840" cy="501480"/>
            </a:xfrm>
            <a:prstGeom prst="rightArrow">
              <a:avLst>
                <a:gd name="adj1" fmla="val 50000"/>
                <a:gd name="adj2" fmla="val 60912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"/>
          <p:cNvSpPr/>
          <p:nvPr/>
        </p:nvSpPr>
        <p:spPr>
          <a:xfrm>
            <a:off x="4427640" y="2133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Diagram 2"/>
          <p:cNvGrpSpPr/>
          <p:nvPr/>
        </p:nvGrpSpPr>
        <p:grpSpPr>
          <a:xfrm>
            <a:off x="337320" y="170280"/>
            <a:ext cx="8618040" cy="6514560"/>
            <a:chOff x="337320" y="170280"/>
            <a:chExt cx="8618040" cy="6514560"/>
          </a:xfrm>
        </p:grpSpPr>
        <p:sp>
          <p:nvSpPr>
            <p:cNvPr id="301" name="_s3076"/>
            <p:cNvSpPr/>
            <p:nvPr/>
          </p:nvSpPr>
          <p:spPr>
            <a:xfrm flipH="1" flipV="1">
              <a:off x="2566440" y="2612520"/>
              <a:ext cx="1043640" cy="410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_s3077"/>
            <p:cNvSpPr/>
            <p:nvPr/>
          </p:nvSpPr>
          <p:spPr>
            <a:xfrm>
              <a:off x="337320" y="1393920"/>
              <a:ext cx="2394720" cy="1629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1. Экономи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чески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3078"/>
            <p:cNvSpPr/>
            <p:nvPr/>
          </p:nvSpPr>
          <p:spPr>
            <a:xfrm flipH="1">
              <a:off x="2569680" y="3834360"/>
              <a:ext cx="1043640" cy="410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_s3079"/>
            <p:cNvSpPr/>
            <p:nvPr/>
          </p:nvSpPr>
          <p:spPr>
            <a:xfrm>
              <a:off x="340560" y="3836520"/>
              <a:ext cx="2394720" cy="1629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6. Демогра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фически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3080"/>
            <p:cNvSpPr/>
            <p:nvPr/>
          </p:nvSpPr>
          <p:spPr>
            <a:xfrm>
              <a:off x="4647600" y="4237560"/>
              <a:ext cx="0" cy="820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3081"/>
            <p:cNvSpPr/>
            <p:nvPr/>
          </p:nvSpPr>
          <p:spPr>
            <a:xfrm>
              <a:off x="3452400" y="5055840"/>
              <a:ext cx="2394720" cy="16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5. Информа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ционны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3082"/>
            <p:cNvSpPr/>
            <p:nvPr/>
          </p:nvSpPr>
          <p:spPr>
            <a:xfrm>
              <a:off x="5677920" y="3832200"/>
              <a:ext cx="1043640" cy="407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_s3083"/>
            <p:cNvSpPr/>
            <p:nvPr/>
          </p:nvSpPr>
          <p:spPr>
            <a:xfrm>
              <a:off x="6559560" y="3834360"/>
              <a:ext cx="2395800" cy="16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4. Полити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ко-право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вы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3084"/>
            <p:cNvSpPr/>
            <p:nvPr/>
          </p:nvSpPr>
          <p:spPr>
            <a:xfrm flipV="1">
              <a:off x="5677920" y="2610360"/>
              <a:ext cx="1040400" cy="410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_s3085"/>
            <p:cNvSpPr/>
            <p:nvPr/>
          </p:nvSpPr>
          <p:spPr>
            <a:xfrm>
              <a:off x="6559560" y="1391760"/>
              <a:ext cx="2395800" cy="1629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3. Социаль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ны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3086"/>
            <p:cNvSpPr/>
            <p:nvPr/>
          </p:nvSpPr>
          <p:spPr>
            <a:xfrm flipV="1">
              <a:off x="4644360" y="1796760"/>
              <a:ext cx="0" cy="818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_s3087"/>
            <p:cNvSpPr/>
            <p:nvPr/>
          </p:nvSpPr>
          <p:spPr>
            <a:xfrm>
              <a:off x="3448440" y="170280"/>
              <a:ext cx="2394720" cy="1629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2. Силовы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3088"/>
            <p:cNvSpPr/>
            <p:nvPr/>
          </p:nvSpPr>
          <p:spPr>
            <a:xfrm>
              <a:off x="3448440" y="2615400"/>
              <a:ext cx="2394720" cy="1629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8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33cc"/>
                  </a:solidFill>
                  <a:latin typeface="Verdana"/>
                </a:rPr>
                <a:t>По механи-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33cc"/>
                  </a:solidFill>
                  <a:latin typeface="Verdana"/>
                </a:rPr>
                <a:t>зму испо-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33cc"/>
                  </a:solidFill>
                  <a:latin typeface="Verdana"/>
                </a:rPr>
                <a:t>льзования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7"/>
            <p:cNvSpPr/>
            <p:nvPr/>
          </p:nvSpPr>
          <p:spPr>
            <a:xfrm flipH="1" rot="5400000">
              <a:off x="4354920" y="1989720"/>
              <a:ext cx="794160" cy="504720"/>
            </a:xfrm>
            <a:prstGeom prst="rightArrow">
              <a:avLst>
                <a:gd name="adj1" fmla="val 50000"/>
                <a:gd name="adj2" fmla="val 39337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8"/>
            <p:cNvSpPr/>
            <p:nvPr/>
          </p:nvSpPr>
          <p:spPr>
            <a:xfrm flipH="1" rot="16200000">
              <a:off x="4285440" y="4435920"/>
              <a:ext cx="791640" cy="504720"/>
            </a:xfrm>
            <a:prstGeom prst="rightArrow">
              <a:avLst>
                <a:gd name="adj1" fmla="val 50000"/>
                <a:gd name="adj2" fmla="val 39212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9"/>
            <p:cNvSpPr/>
            <p:nvPr/>
          </p:nvSpPr>
          <p:spPr>
            <a:xfrm flipH="1" rot="19767600">
              <a:off x="2770560" y="4365000"/>
              <a:ext cx="1224360" cy="503640"/>
            </a:xfrm>
            <a:prstGeom prst="rightArrow">
              <a:avLst>
                <a:gd name="adj1" fmla="val 50000"/>
                <a:gd name="adj2" fmla="val 60776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20"/>
            <p:cNvSpPr/>
            <p:nvPr/>
          </p:nvSpPr>
          <p:spPr>
            <a:xfrm flipH="1" rot="12765000">
              <a:off x="5433840" y="4364640"/>
              <a:ext cx="1223640" cy="503640"/>
            </a:xfrm>
            <a:prstGeom prst="rightArrow">
              <a:avLst>
                <a:gd name="adj1" fmla="val 50000"/>
                <a:gd name="adj2" fmla="val 60740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21"/>
            <p:cNvSpPr/>
            <p:nvPr/>
          </p:nvSpPr>
          <p:spPr>
            <a:xfrm flipH="1" rot="1093800">
              <a:off x="2770200" y="1989000"/>
              <a:ext cx="1227600" cy="501480"/>
            </a:xfrm>
            <a:prstGeom prst="rightArrow">
              <a:avLst>
                <a:gd name="adj1" fmla="val 50000"/>
                <a:gd name="adj2" fmla="val 61199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22"/>
            <p:cNvSpPr/>
            <p:nvPr/>
          </p:nvSpPr>
          <p:spPr>
            <a:xfrm flipH="1" rot="9461400">
              <a:off x="5363280" y="1917360"/>
              <a:ext cx="1223640" cy="501120"/>
            </a:xfrm>
            <a:prstGeom prst="rightArrow">
              <a:avLst>
                <a:gd name="adj1" fmla="val 50000"/>
                <a:gd name="adj2" fmla="val 61045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Diagram 2"/>
          <p:cNvGrpSpPr/>
          <p:nvPr/>
        </p:nvGrpSpPr>
        <p:grpSpPr>
          <a:xfrm>
            <a:off x="666000" y="185040"/>
            <a:ext cx="7815600" cy="5762160"/>
            <a:chOff x="666000" y="185040"/>
            <a:chExt cx="7815600" cy="5762160"/>
          </a:xfrm>
        </p:grpSpPr>
        <p:sp>
          <p:nvSpPr>
            <p:cNvPr id="321" name="_s4100"/>
            <p:cNvSpPr/>
            <p:nvPr/>
          </p:nvSpPr>
          <p:spPr>
            <a:xfrm flipH="1">
              <a:off x="2687400" y="4171680"/>
              <a:ext cx="946440" cy="443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4101"/>
            <p:cNvSpPr/>
            <p:nvPr/>
          </p:nvSpPr>
          <p:spPr>
            <a:xfrm>
              <a:off x="666000" y="4174200"/>
              <a:ext cx="2171880" cy="1773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3. Ресурс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судебно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власт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4102"/>
            <p:cNvSpPr/>
            <p:nvPr/>
          </p:nvSpPr>
          <p:spPr>
            <a:xfrm>
              <a:off x="5509440" y="4171680"/>
              <a:ext cx="943560" cy="446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4103"/>
            <p:cNvSpPr/>
            <p:nvPr/>
          </p:nvSpPr>
          <p:spPr>
            <a:xfrm>
              <a:off x="6309000" y="4174200"/>
              <a:ext cx="2172600" cy="1773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2. Ресурс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исполни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тельно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9999"/>
                  </a:solidFill>
                  <a:latin typeface="Verdana"/>
                </a:rPr>
                <a:t>власт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4104"/>
            <p:cNvSpPr/>
            <p:nvPr/>
          </p:nvSpPr>
          <p:spPr>
            <a:xfrm flipV="1">
              <a:off x="4572000" y="1954800"/>
              <a:ext cx="0" cy="890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4105"/>
            <p:cNvSpPr/>
            <p:nvPr/>
          </p:nvSpPr>
          <p:spPr>
            <a:xfrm>
              <a:off x="3487320" y="185040"/>
              <a:ext cx="2171880" cy="1773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1. Ресурс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законода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тельно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669999"/>
                  </a:solidFill>
                  <a:latin typeface="Verdana"/>
                </a:rPr>
                <a:t>власт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4106"/>
            <p:cNvSpPr/>
            <p:nvPr/>
          </p:nvSpPr>
          <p:spPr>
            <a:xfrm>
              <a:off x="3487320" y="2845800"/>
              <a:ext cx="2171880" cy="17722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8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3cc"/>
                  </a:solidFill>
                  <a:latin typeface="Verdana"/>
                </a:rPr>
                <a:t>По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3cc"/>
                  </a:solidFill>
                  <a:latin typeface="Verdana"/>
                </a:rPr>
                <a:t>характеру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3cc"/>
                  </a:solidFill>
                  <a:latin typeface="Verdana"/>
                </a:rPr>
                <a:t>власт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1"/>
            <p:cNvSpPr/>
            <p:nvPr/>
          </p:nvSpPr>
          <p:spPr>
            <a:xfrm flipH="1" rot="19606200">
              <a:off x="2194200" y="3500640"/>
              <a:ext cx="1224360" cy="506160"/>
            </a:xfrm>
            <a:prstGeom prst="rightArrow">
              <a:avLst>
                <a:gd name="adj1" fmla="val 50000"/>
                <a:gd name="adj2" fmla="val 60473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2"/>
            <p:cNvSpPr/>
            <p:nvPr/>
          </p:nvSpPr>
          <p:spPr>
            <a:xfrm flipH="1" rot="5400000">
              <a:off x="4174560" y="2168640"/>
              <a:ext cx="720360" cy="501840"/>
            </a:xfrm>
            <a:prstGeom prst="rightArrow">
              <a:avLst>
                <a:gd name="adj1" fmla="val 50000"/>
                <a:gd name="adj2" fmla="val 35886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AutoShape 13"/>
          <p:cNvSpPr/>
          <p:nvPr/>
        </p:nvSpPr>
        <p:spPr>
          <a:xfrm flipH="1" rot="13029600">
            <a:off x="5723280" y="3499920"/>
            <a:ext cx="1224000" cy="505080"/>
          </a:xfrm>
          <a:prstGeom prst="rightArrow">
            <a:avLst>
              <a:gd name="adj1" fmla="val 50000"/>
              <a:gd name="adj2" fmla="val 60584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Ресурс страха (принуждения)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зывает страх за жизнь, имущество, здоровье и благосостояние свое и своих близки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 вынужден поступать так, не как он хотел бы и поступил бы, если бы не было принужд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3276720" y="3357720"/>
            <a:ext cx="934920" cy="934920"/>
          </a:xfrm>
          <a:custGeom>
            <a:avLst/>
            <a:gdLst>
              <a:gd name="textAreaLeft" fmla="*/ 125280 w 934920"/>
              <a:gd name="textAreaRight" fmla="*/ 809640 w 93492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литика - эт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е виды деятельности по самостоятельному руководству (М. Вебер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нуждение может быть как физическим, так и моральным. Если используются методы силового принуждения, предусмотренные законом, это так и называется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инужд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том случае, если использование силы законом не предусмотрено, это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сил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Ресурс убеждения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–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вращение политической установки во внутренний мотив деятельности человека. Политические деятели «играют» на чувствах людей: религиозных, национальных, зависти, восторга, ненависти и т.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сурс убеждения зависит от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едств массовой информ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нтальности, или духовного состояния, общ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живаемого периода в развитии общества (спада или подъема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Ресурс интерес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7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т там, где есть гражданское общество, где оно развито. Политические отношения в таких обществах можно представить как отношения рационального продавца и рационального покупателя. В качестве продавца выступает политик, который «продает» свои обещания. Этот ресурс определяется экономическими возможностями общ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2421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 ТЕОРИИ ВЛАСТИ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Два подхода к определению природы власти: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4008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7784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Arial"/>
              </a:rPr>
              <a:t>Поведенческий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ласть - особенная сущность, носителем которой выступает отдельная личность, чья природная способность – стремление к власти.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24980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Arial"/>
              </a:rPr>
              <a:t>Социологический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явление власти объясняется социальным взаимодействием, т.е. власть определяется как отношения господства и подчин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Diagram 2"/>
          <p:cNvGrpSpPr/>
          <p:nvPr/>
        </p:nvGrpSpPr>
        <p:grpSpPr>
          <a:xfrm>
            <a:off x="387360" y="208800"/>
            <a:ext cx="8372160" cy="6016680"/>
            <a:chOff x="387360" y="208800"/>
            <a:chExt cx="8372160" cy="6016680"/>
          </a:xfrm>
        </p:grpSpPr>
        <p:sp>
          <p:nvSpPr>
            <p:cNvPr id="346" name="_s5124"/>
            <p:cNvSpPr/>
            <p:nvPr/>
          </p:nvSpPr>
          <p:spPr>
            <a:xfrm flipH="1" flipV="1">
              <a:off x="2501640" y="2947320"/>
              <a:ext cx="1039320" cy="250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5125"/>
            <p:cNvSpPr/>
            <p:nvPr/>
          </p:nvSpPr>
          <p:spPr>
            <a:xfrm>
              <a:off x="387360" y="1885680"/>
              <a:ext cx="2171880" cy="162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Биологи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ческ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5126"/>
            <p:cNvSpPr/>
            <p:nvPr/>
          </p:nvSpPr>
          <p:spPr>
            <a:xfrm flipH="1">
              <a:off x="3295440" y="4100040"/>
              <a:ext cx="639000" cy="660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5127"/>
            <p:cNvSpPr/>
            <p:nvPr/>
          </p:nvSpPr>
          <p:spPr>
            <a:xfrm>
              <a:off x="1571400" y="4605480"/>
              <a:ext cx="2171880" cy="1620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Психоан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литическ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5128"/>
            <p:cNvSpPr/>
            <p:nvPr/>
          </p:nvSpPr>
          <p:spPr>
            <a:xfrm>
              <a:off x="5208840" y="4100040"/>
              <a:ext cx="642600" cy="658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5129"/>
            <p:cNvSpPr/>
            <p:nvPr/>
          </p:nvSpPr>
          <p:spPr>
            <a:xfrm>
              <a:off x="5404320" y="4605480"/>
              <a:ext cx="2171880" cy="1620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Мифологи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ческ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5130"/>
            <p:cNvSpPr/>
            <p:nvPr/>
          </p:nvSpPr>
          <p:spPr>
            <a:xfrm flipV="1">
              <a:off x="5602320" y="2944800"/>
              <a:ext cx="1036440" cy="25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5131"/>
            <p:cNvSpPr/>
            <p:nvPr/>
          </p:nvSpPr>
          <p:spPr>
            <a:xfrm>
              <a:off x="6587640" y="1888560"/>
              <a:ext cx="2171880" cy="1619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Бихеви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ристск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5132"/>
            <p:cNvSpPr/>
            <p:nvPr/>
          </p:nvSpPr>
          <p:spPr>
            <a:xfrm flipV="1">
              <a:off x="4572000" y="1826280"/>
              <a:ext cx="0" cy="813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5133"/>
            <p:cNvSpPr/>
            <p:nvPr/>
          </p:nvSpPr>
          <p:spPr>
            <a:xfrm>
              <a:off x="3487320" y="208800"/>
              <a:ext cx="2171880" cy="162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Теологи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ческ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5134"/>
            <p:cNvSpPr/>
            <p:nvPr/>
          </p:nvSpPr>
          <p:spPr>
            <a:xfrm>
              <a:off x="3487320" y="2639880"/>
              <a:ext cx="2171880" cy="1619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8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Verdana"/>
                </a:rPr>
                <a:t>Поведен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Verdana"/>
                </a:rPr>
                <a:t>ческий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Verdana"/>
                </a:rPr>
                <a:t>подход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Line 17"/>
          <p:cNvSpPr/>
          <p:nvPr/>
        </p:nvSpPr>
        <p:spPr>
          <a:xfrm flipV="1">
            <a:off x="4572000" y="1699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 flipH="1" flipV="1">
            <a:off x="2556000" y="292392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 flipV="1">
            <a:off x="5508720" y="2852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0"/>
          <p:cNvSpPr/>
          <p:nvPr/>
        </p:nvSpPr>
        <p:spPr>
          <a:xfrm flipH="1">
            <a:off x="327672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1"/>
          <p:cNvSpPr/>
          <p:nvPr/>
        </p:nvSpPr>
        <p:spPr>
          <a:xfrm>
            <a:off x="5292720" y="414972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Diagram 2"/>
          <p:cNvGrpSpPr/>
          <p:nvPr/>
        </p:nvGrpSpPr>
        <p:grpSpPr>
          <a:xfrm>
            <a:off x="666000" y="170280"/>
            <a:ext cx="7815600" cy="5295600"/>
            <a:chOff x="666000" y="170280"/>
            <a:chExt cx="7815600" cy="5295600"/>
          </a:xfrm>
        </p:grpSpPr>
        <p:sp>
          <p:nvSpPr>
            <p:cNvPr id="363" name="_s6148"/>
            <p:cNvSpPr/>
            <p:nvPr/>
          </p:nvSpPr>
          <p:spPr>
            <a:xfrm flipH="1">
              <a:off x="2687400" y="3834360"/>
              <a:ext cx="946440" cy="407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6149"/>
            <p:cNvSpPr/>
            <p:nvPr/>
          </p:nvSpPr>
          <p:spPr>
            <a:xfrm>
              <a:off x="666000" y="3836520"/>
              <a:ext cx="2171880" cy="1629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Конфликт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логическ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6150"/>
            <p:cNvSpPr/>
            <p:nvPr/>
          </p:nvSpPr>
          <p:spPr>
            <a:xfrm>
              <a:off x="5509440" y="3834360"/>
              <a:ext cx="943560" cy="410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6151"/>
            <p:cNvSpPr/>
            <p:nvPr/>
          </p:nvSpPr>
          <p:spPr>
            <a:xfrm>
              <a:off x="6309000" y="3836520"/>
              <a:ext cx="2172600" cy="1629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Дуалисти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ческ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6152"/>
            <p:cNvSpPr/>
            <p:nvPr/>
          </p:nvSpPr>
          <p:spPr>
            <a:xfrm flipV="1">
              <a:off x="4572000" y="1796760"/>
              <a:ext cx="0" cy="818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3"/>
            <p:cNvSpPr/>
            <p:nvPr/>
          </p:nvSpPr>
          <p:spPr>
            <a:xfrm>
              <a:off x="3487320" y="170280"/>
              <a:ext cx="2171880" cy="1629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Структурн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функци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cc"/>
                  </a:solidFill>
                  <a:latin typeface="Verdana"/>
                </a:rPr>
                <a:t>наль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4"/>
            <p:cNvSpPr/>
            <p:nvPr/>
          </p:nvSpPr>
          <p:spPr>
            <a:xfrm>
              <a:off x="3487320" y="2615400"/>
              <a:ext cx="2171880" cy="16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8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Verdana"/>
                </a:rPr>
                <a:t>Социоло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Verdana"/>
                </a:rPr>
                <a:t>гически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Verdana"/>
                </a:rPr>
                <a:t>подход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3"/>
          <p:cNvSpPr/>
          <p:nvPr/>
        </p:nvSpPr>
        <p:spPr>
          <a:xfrm flipV="1">
            <a:off x="4572000" y="1700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4"/>
          <p:cNvSpPr/>
          <p:nvPr/>
        </p:nvSpPr>
        <p:spPr>
          <a:xfrm flipH="1">
            <a:off x="2700360" y="386064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5"/>
          <p:cNvSpPr/>
          <p:nvPr/>
        </p:nvSpPr>
        <p:spPr>
          <a:xfrm>
            <a:off x="5580000" y="3789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ОЛОГИЧЕСКАЯ КОНЦЕПЦ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7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ом любой государственной власти является божественная воля, т.е. власть монарху дана от Бога и основана на христианских заповедя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у присуща «естественная греховность», поэтому подчинение людей Божьей воле, принципам божественного разума обеспечивает порядок в обществе, самосохранение и продолжение человеческого род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ИОЛОГИЧЕСКАЯ КОНЦЕПЦ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ласть - механизм обуздания человеческой агрессивности, заложенной в каждом человеке от рождения как инстинкт. Это физиологическое свойство любого живого существа является следствием борьбы за выживание, направленной и против представителей своего вида в том числ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ременные определения: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литика - эт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аука в той мере, в какой она слита со знаниями, идеями, опирается на ни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овокупность установок, интересов, целей различных социальных групп и политических институт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практическая деятельность по реализации желаемых моделей будущего, программ, курс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участие в делах государства, определение форм, задач, содержания его деятельности, влияние на власть различных политических си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БИХЕВИОРИСТСКАЯ КОНЦЕПЦИЯ 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ловек - «властолюбивое животное», в основе поступков и действий которого стремление к власти, чаще всего подсознательно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сюда вывод: политическая активность объясняется неосознанным стремлением данного человека подчинить своей воле других люд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олкновение индивидуальных стремлений и интересов таких людей реализуется как политический процесс, в котором побеждает сильнейш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ествуют социальные группы, которым свойственно по стремление к подчинению, поэтому общество неоднородно с точки зрения обладания властными полномочиями и их использ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СТРУКТУРНО-ФУНКЦИОНАЛЬНАЯ КОНЦЕПЦИЯ 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ласть - отношение неравноправных субъектов, чье поведение определяется той ролью, которую они играют в обществе (роль управляющих или управляемых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этом социальная роль определяет стиль (тип, характер, содержание) ожидаемого от человека поведения, соответствующего занимаемому им в обществе положению (социальному статусу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4920" y="249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6. ЛЕГИТИМНОСТЬ  ВЛАСТИ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егитимность власти - это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знание права властей предписывать нормы поведения как всему обществу в целом, так и отдельным индивида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0066"/>
                </a:solidFill>
                <a:latin typeface="Arial"/>
              </a:rPr>
              <a:t>Два подхода к критериям легитимности</a:t>
            </a: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В либерально-демократической традици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легитимной считается та власть, которая сформирована на основе законных выборов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43280" y="1752480"/>
            <a:ext cx="4500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В традиции политического реализм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главной считается способность власти обеспечивать стабильность общества и эффективность развит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Способы легитимации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радиционный тип господ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Харизматический тип господ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ституционный тип господ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04560"/>
            <a:ext cx="803592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0066"/>
                </a:solidFill>
                <a:latin typeface="Arial"/>
              </a:rPr>
              <a:t>Уровни легитимности</a:t>
            </a: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66280" y="907920"/>
            <a:ext cx="800100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деологический уровен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снован на соответствии власти устоявшемуся типу политической социал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уктурный уровень: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арактерен определенный, устойчивый порядок властных отнош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соналистский уровень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люди признают данную власть, так как одобряют данное властное лиц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2. СТРУКТУРА  ПОЛИТИКИ  И  ЕЕ  ФУНКЦИИ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УКТУРА  ПОЛИТИК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бъекты полити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итические отноше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итическое созн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итическая культ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итическая организация общ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8:36:31Z</dcterms:created>
  <dc:creator>Алла</dc:creator>
  <dc:description/>
  <dc:language>en-US</dc:language>
  <cp:lastModifiedBy>Алла</cp:lastModifiedBy>
  <dcterms:modified xsi:type="dcterms:W3CDTF">2015-01-18T11:04:50Z</dcterms:modified>
  <cp:revision>16</cp:revision>
  <dc:subject/>
  <dc:title>ПОЛИТИКА КАК  ОБЩЕСТВЕННОЕ  ЯВЛЕНИЕ</dc:title>
</cp:coreProperties>
</file>