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44B9-1856-426A-84B8-6A57157CB9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05F1-83F6-47E3-86C0-64169F0E6C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7255-0677-4A61-B657-588E0BF4BC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13D4-6E05-4FFA-A2D0-8DE891FE8E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E608-C3E7-4ED0-8A49-216AC11D0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B70F-20CC-4BB5-9AD1-E4284C6880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5A99-C91D-4A18-AC45-CF1FF733B8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47E4-87AE-46BA-8E7C-DD035565C8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8BFA-8847-43C1-B753-F82A4A7DEB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EB18-9B12-41BC-A0A4-5CE6A309B9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B748-291E-4DAD-B5CE-137FB59331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9D41-C6EC-484D-B6B9-D8CE29339A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BD63E-CA61-43F3-99A7-F9DB189D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8D1E-8D98-4777-9CAE-D0C495B0C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C4892-B7CF-4FB7-BCD8-8F89E5C9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FB5AB-551A-40E1-BA7A-1155DDA06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CC182-6333-4C8A-98CC-F9C8C28A6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35B27-A99A-463F-9115-B3DB5DF5D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AB20-4757-4DBF-8084-7882BF9CF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A0BAD-6F0F-442D-8A67-1A968C048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5FBE3-48CA-470E-9F77-264BF4BB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1B0F9-2BE4-42B3-9BC7-E3EB9CB8E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2D02F-9515-4888-87F5-2B7339C92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7AE0-E782-45F4-87D4-89B81BB5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DEA79-EDE7-4977-B403-9D245F7D7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99E84-CEF4-4F3D-AFC1-3727FE127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17BBA-FB2D-41FD-9D03-6924826FB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4003B-6C34-49A0-8A47-8FA7E21C1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692EB-A13B-470A-8495-8393E2CEC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AB3E71-94C7-4B3C-BA48-7140DDFC4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8F3F9-D14F-41EE-9C8E-16BA0D8DB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1D0DA-F48D-4252-9186-1C49DF0DE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40A39-0A53-48AA-8CD2-1A4003462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C86D9-8404-42FC-96B1-3C4C7C121F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92AE-8F7C-457B-BA1E-91B14ED60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D1E42-B664-41FE-A1F5-53A9CAEE5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4C796-5229-41A8-BC91-5AE2B70A8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DAEE6-5F31-453F-83BD-31DE65098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317DF-1E41-4C71-B2E6-257459F29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42F9A-CB07-4035-BCF7-D46D7364E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9DC29-AA2E-4D5D-ACFB-B080E11B0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10825D-8F72-4E56-8A4C-71EF0F58D0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85C41-D34C-447C-9508-5744C444C6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149E9-E6DC-441E-BECD-6EF77FF03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142B0-69C9-46C2-882D-C2141761B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DE18-6765-49B6-905D-528C5FB4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A9864-5F68-4F23-BAC6-C5F7214E5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F1F39-4CE5-4D82-9102-61ADBAF80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46ECF-E0A3-481B-8874-5A9F2284B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9E252-4B3B-4F6F-A063-D19FF56F7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9D0AD-CFB8-4636-AF48-D2CEECCD9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4B672-C528-4E96-8B43-8B66B8A79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47D5F-83A8-4F61-AD76-87D281362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93DA3-F7C5-4B10-A1C0-F19DF5EAA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F1895-B0C7-4040-B013-31C4F3A80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1EA119-B888-4D87-911B-2707A759D4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62FF-D96B-4C1B-96AD-7285857F4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34847-D75D-4B75-B4B3-65431A001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C428C-7576-4E46-8BF5-B0C46F2F5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F8DAE-68AB-4420-AD95-4E0025C0D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43EC6-D653-4BD9-BE12-C8E89217F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87B228-FEFA-494D-A31B-B19481245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73C3D-9AE2-42F8-957F-1D2F409F6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12254-F44B-4638-88BF-B40AB19F0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1CEEC-5941-4551-A775-D0E974F7C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62EE6-427A-4E73-9DB8-CCB5620D7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70E16-DADC-413F-BB75-1DF4EEA73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56FCE-3FBD-4C71-8AF4-770C76AF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EFA4C1-C853-4CBD-B002-985F6DEC1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DF31-7A9F-4045-98C0-08D8AA41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42C0-329C-4B99-9612-8C78B715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F31F-E59C-40A1-A434-5711CB509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EB38-B7BA-42DF-85BE-F57A1B7A55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pic>
        <p:nvPicPr>
          <p:cNvPr id="43" name="Picture 7"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1AD-3959-44D6-9F73-6FFCB1BCEB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5" name="Picture 6" descr=""/>
          <p:cNvPicPr/>
          <p:nvPr/>
        </p:nvPicPr>
        <p:blipFill>
          <a:blip r:embed="rId2"/>
          <a:stretch/>
        </p:blipFill>
        <p:spPr>
          <a:xfrm>
            <a:off x="0" y="0"/>
            <a:ext cx="9144000" cy="6858000"/>
          </a:xfrm>
          <a:prstGeom prst="rect">
            <a:avLst/>
          </a:prstGeom>
          <a:ln w="0">
            <a:noFill/>
          </a:ln>
        </p:spPr>
      </p:pic>
      <p:pic>
        <p:nvPicPr>
          <p:cNvPr id="86" name="Picture 7" descr=""/>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825B-F0C9-443D-8AE5-825454B211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128" name="Picture 6" descr=""/>
          <p:cNvPicPr/>
          <p:nvPr/>
        </p:nvPicPr>
        <p:blipFill>
          <a:blip r:embed="rId2"/>
          <a:stretch/>
        </p:blipFill>
        <p:spPr>
          <a:xfrm>
            <a:off x="0" y="0"/>
            <a:ext cx="9144000" cy="6858000"/>
          </a:xfrm>
          <a:prstGeom prst="rect">
            <a:avLst/>
          </a:prstGeom>
          <a:ln w="0">
            <a:noFill/>
          </a:ln>
        </p:spPr>
      </p:pic>
      <p:pic>
        <p:nvPicPr>
          <p:cNvPr id="129" name="Picture 7" descr=""/>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E2E8-01B8-42D1-9A6E-C2A957C267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171" name="Picture 6" descr=""/>
          <p:cNvPicPr/>
          <p:nvPr/>
        </p:nvPicPr>
        <p:blipFill>
          <a:blip r:embed="rId2"/>
          <a:stretch/>
        </p:blipFill>
        <p:spPr>
          <a:xfrm>
            <a:off x="0" y="0"/>
            <a:ext cx="9144000" cy="6858000"/>
          </a:xfrm>
          <a:prstGeom prst="rect">
            <a:avLst/>
          </a:prstGeom>
          <a:ln w="0">
            <a:noFill/>
          </a:ln>
        </p:spPr>
      </p:pic>
      <p:sp>
        <p:nvSpPr>
          <p:cNvPr id="17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8" descr=""/>
          <p:cNvPicPr/>
          <p:nvPr/>
        </p:nvPicPr>
        <p:blipFill>
          <a:blip r:embed="rId3"/>
          <a:stretch/>
        </p:blipFill>
        <p:spPr>
          <a:xfrm>
            <a:off x="0" y="3421080"/>
            <a:ext cx="3348000" cy="3436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C5A5-7874-4FE2-92CE-FF9346052F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3"/>
          <p:cNvSpPr/>
          <p:nvPr/>
        </p:nvSpPr>
        <p:spPr>
          <a:xfrm>
            <a:off x="3130560" y="2109960"/>
            <a:ext cx="55357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33"/>
                </a:solidFill>
                <a:latin typeface="Arial"/>
              </a:rPr>
              <a:t>Подготовка к сочинению</a:t>
            </a:r>
            <a:br>
              <a:rPr sz="4400"/>
            </a:br>
            <a:r>
              <a:rPr b="1" lang="ru-RU" sz="4400" spc="-1" strike="noStrike">
                <a:solidFill>
                  <a:srgbClr val="990033"/>
                </a:solidFill>
                <a:latin typeface="Arial"/>
              </a:rPr>
              <a:t> по тексту </a:t>
            </a:r>
            <a:br>
              <a:rPr sz="4400"/>
            </a:br>
            <a:r>
              <a:rPr b="1" lang="ru-RU" sz="4400" spc="-1" strike="noStrike">
                <a:solidFill>
                  <a:srgbClr val="990033"/>
                </a:solidFill>
                <a:latin typeface="Arial"/>
              </a:rPr>
              <a:t>в формате ЕГЭ</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Прямоугольник 3"/>
          <p:cNvSpPr/>
          <p:nvPr/>
        </p:nvSpPr>
        <p:spPr>
          <a:xfrm>
            <a:off x="3464280" y="262080"/>
            <a:ext cx="149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чинение.</a:t>
            </a:r>
            <a:endParaRPr b="0" lang="en-US" sz="1800" spc="-1" strike="noStrike">
              <a:solidFill>
                <a:srgbClr val="000000"/>
              </a:solidFill>
              <a:latin typeface="Arial"/>
            </a:endParaRPr>
          </a:p>
        </p:txBody>
      </p:sp>
      <p:sp>
        <p:nvSpPr>
          <p:cNvPr id="242" name="Прямоугольник 6"/>
          <p:cNvSpPr/>
          <p:nvPr/>
        </p:nvSpPr>
        <p:spPr>
          <a:xfrm>
            <a:off x="210960" y="835200"/>
            <a:ext cx="8736120" cy="553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ультуролог и литературовед Юрий Лотман в своём тексте поднимает проблему межнациональных конфликтов, так остро стоящую в наши дни.  Автор рассказывает, что среди его близких людей были представители самых разных национальностей, а  теперь он «вынужден наблюдать то клиническое безумие ненависти, которое охватывает целые пространства нашей земли».  Литературовед утверждает, что все люди имеют равные права, и сущность человека определяется не цветом его кожи или языком, на котором он говорит.  Автор убеждён, что против сегодняшних агрессоров может быть направлен завтрашний удар. «Спрятаться не удастся никому»,- пишет он. По мысли автора, эта проблема касается каждого из нас. Позиция Юрия Лотмана предельно ясна: он возмущён «клиническим безумием ненависти», которое заставляет людей убивать друг друга.  Невозможно не согласиться с  автором. Проблема межнациональной розни нашла отражение в русской литературе.  В повести Анатолия Приставкина «Ночевала тучка золотая» показана дружба двух мальчиков – Алхузура и Кольки, принадлежащих к разным национальностям. Не случайно герои назвали себя кровными братьями.  Все народы – братья, а братоубийству не может быть прощения. Я тоже убеждёна в том, что межнациональные войны – это позор человечества, худшее из зол, существующих на свете. К несчастью, время ничему не учит людей. Мы постоянно слышим тревожные сообщения о межнациональных конфликтах в различных уголках нашей планеты. В подтверждение моей точки зрения можно привести множество примеров. Во-первых, их можно найти в нашей истории: непрекращающиеся военные конфликты на Кавказе, преследование евреев. Мы были свидетелями национального конфликта в Киргизии. В настоящее время идёт братоубийственная война на Украине. Все народы должны сплотиться ради жизни будущих поколений, ради сохранения жизни на земле. В заключение хочу сказать, что Юрий Лотман призывает читателей задуматься над грозящей миру катастрофой, остановить бессмысленное истребление народами друг друга, ведь «колокол звонит по каждому из на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1"/>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Прямоугольник 3"/>
          <p:cNvSpPr/>
          <p:nvPr/>
        </p:nvSpPr>
        <p:spPr>
          <a:xfrm>
            <a:off x="3232800" y="360360"/>
            <a:ext cx="531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Arial"/>
              </a:rPr>
              <a:t>Самостоятельная работа</a:t>
            </a:r>
            <a:endParaRPr b="0" lang="en-US" sz="3200" spc="-1" strike="noStrike">
              <a:solidFill>
                <a:srgbClr val="000000"/>
              </a:solidFill>
              <a:latin typeface="Arial"/>
            </a:endParaRPr>
          </a:p>
        </p:txBody>
      </p:sp>
      <p:sp>
        <p:nvSpPr>
          <p:cNvPr id="244" name="Прямоугольник 5"/>
          <p:cNvSpPr/>
          <p:nvPr/>
        </p:nvSpPr>
        <p:spPr>
          <a:xfrm>
            <a:off x="3411360" y="1658880"/>
            <a:ext cx="54374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зделите сочинение на абзацы.</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боснуйте ваш вариант абзацного членения.</a:t>
            </a: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4"/>
          <p:cNvSpPr/>
          <p:nvPr/>
        </p:nvSpPr>
        <p:spPr>
          <a:xfrm>
            <a:off x="3386880" y="219240"/>
            <a:ext cx="206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Проверьте себя.</a:t>
            </a:r>
            <a:endParaRPr b="0" lang="en-US" sz="1800" spc="-1" strike="noStrike">
              <a:solidFill>
                <a:srgbClr val="000000"/>
              </a:solidFill>
              <a:latin typeface="Arial"/>
            </a:endParaRPr>
          </a:p>
        </p:txBody>
      </p:sp>
      <p:sp>
        <p:nvSpPr>
          <p:cNvPr id="246" name="Прямоугольник 5"/>
          <p:cNvSpPr/>
          <p:nvPr/>
        </p:nvSpPr>
        <p:spPr>
          <a:xfrm>
            <a:off x="203040" y="581040"/>
            <a:ext cx="8723520" cy="6339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i="1" lang="ru-RU" sz="1600" spc="-1" strike="noStrike">
                <a:solidFill>
                  <a:srgbClr val="000000"/>
                </a:solidFill>
                <a:latin typeface="Arial"/>
              </a:rPr>
              <a:t>Культуролог и литературовед Юрий Лотман в своём тексте поднимает проблему межнациональных конфликтов, так остро стоящую в наши дни.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Автор рассказывает, что среди его близких людей были представители самых разных национальностей, а  теперь он</a:t>
            </a:r>
            <a:r>
              <a:rPr b="1" lang="ru-RU" sz="1600" spc="-1" strike="noStrike">
                <a:solidFill>
                  <a:srgbClr val="000000"/>
                </a:solidFill>
                <a:latin typeface="Arial"/>
              </a:rPr>
              <a:t> </a:t>
            </a:r>
            <a:r>
              <a:rPr b="1" i="1" lang="ru-RU" sz="1600" spc="-1" strike="noStrike">
                <a:solidFill>
                  <a:srgbClr val="000000"/>
                </a:solidFill>
                <a:latin typeface="Arial"/>
              </a:rPr>
              <a:t>«вынужден наблюдать то клиническое безумие ненависти, которое охватывает целые пространства нашей земли».  Литературовед утверждает, что все люди имеют равные права, и сущность человека определяется не цветом его кожи или языком, на котором он говорит.  Автор убеждён, что против сегодняшних агрессоров может быть направлен завтрашний удар. «Спрятаться не удастся никому»,- пишет он. По мысли автора, эта проблема касается каждого из нас.</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Позиция Юрия Лотмана предельно ясна: он возмущён «клиническим безумием ненависти», которое заставляет людей убивать друг друга.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Невозможно не согласиться с  автором.</a:t>
            </a:r>
            <a:r>
              <a:rPr b="1" lang="ru-RU"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Проблема межнациональной розни нашла отражение в русской литературе.  В повести Анатолия Приставкина «Ночевала тучка золотая» показана дружба двух мальчиков – Алхузура и Кольки, принадлежащих к разным национальностям. Не случайно герои назвали себя кровными братьями.  Все народы – братья, а братоубийству не может быть прощения.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Я тоже убеждёна в том, что межнациональные войны – это позор человечества, худшее из зол, существующих на свете. К несчастью, время ничему не учит людей.  Мы постоянно слышим тревожные сообщения о межнациональных конфликтах в различных уголках нашей планеты. В подтверждение моей точки зрения можно привести множество примеров. Во-первых, их можно найти в нашей истории: непрекращающиеся военные конфликты на Кавказе, преследование евреев. Мы были свидетелями национального конфликта в Киргизии. В настоящее время идёт братоубийственная война на Украине. Все народы должны сплотиться ради жизни будущих поколений, ради сохранения жизни на земле.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В заключение хочу сказать, что Юрий Лотман призывает читателей задуматься над грозящей миру катастрофой, остановить бессмысленное истребление народами друг друга, ведь «колокол звонит по каждому из на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45"/>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Прямоугольник 4"/>
          <p:cNvSpPr/>
          <p:nvPr/>
        </p:nvSpPr>
        <p:spPr>
          <a:xfrm>
            <a:off x="2578680" y="247680"/>
            <a:ext cx="618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33"/>
                </a:solidFill>
                <a:latin typeface="Arial"/>
              </a:rPr>
              <a:t>Работа над сочинением №2</a:t>
            </a:r>
            <a:endParaRPr b="0" lang="en-US" sz="3600" spc="-1" strike="noStrike">
              <a:solidFill>
                <a:srgbClr val="000000"/>
              </a:solidFill>
              <a:latin typeface="Arial"/>
            </a:endParaRPr>
          </a:p>
        </p:txBody>
      </p:sp>
      <p:sp>
        <p:nvSpPr>
          <p:cNvPr id="248" name="Прямоугольник 6"/>
          <p:cNvSpPr/>
          <p:nvPr/>
        </p:nvSpPr>
        <p:spPr>
          <a:xfrm>
            <a:off x="3052800" y="1928880"/>
            <a:ext cx="582444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читайте ещё одно сочинение по тексту Юрия Лотмана.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жно ли данное сочинение оценить положительно? Если нет, то почему?</a:t>
            </a:r>
            <a:endParaRPr b="0"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4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Прямоугольник 3"/>
          <p:cNvSpPr/>
          <p:nvPr/>
        </p:nvSpPr>
        <p:spPr>
          <a:xfrm>
            <a:off x="3630960" y="19224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Сочинение.</a:t>
            </a:r>
            <a:endParaRPr b="0" lang="en-US" sz="2000" spc="-1" strike="noStrike">
              <a:solidFill>
                <a:srgbClr val="000000"/>
              </a:solidFill>
              <a:latin typeface="Arial"/>
            </a:endParaRPr>
          </a:p>
        </p:txBody>
      </p:sp>
      <p:sp>
        <p:nvSpPr>
          <p:cNvPr id="250" name="Прямоугольник 6"/>
          <p:cNvSpPr/>
          <p:nvPr/>
        </p:nvSpPr>
        <p:spPr>
          <a:xfrm>
            <a:off x="365040" y="703440"/>
            <a:ext cx="8497800" cy="57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1" i="1" lang="ru-RU" sz="1400" spc="-1" strike="noStrike">
                <a:solidFill>
                  <a:srgbClr val="000000"/>
                </a:solidFill>
                <a:latin typeface="Arial"/>
              </a:rPr>
              <a:t>О человеческой жестокости друг к другу, о межнациональной розни рассказывает в своей повести «Ночевала тучка золотая» Анатолий Приставкин. Подросток Колька не может понять, что взрослые люди могут охотиться на детей только потому, что они русские. Страшно читать строки, где автор рассказывает, что чеченцы Сашке вспороли живот, натолкали туда вместо требухи кукурузы и травы и повесили ребёнка под мышки на остриё забора. Дети чувствуют, что взрослые несправедливы. Колька и мальчик-чеченец Алхузур сдружились, считают себя братьями, вместе ищут безопасное место. Это вызов тем, кто разжигает межнациональную вражду.</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i="1" lang="ru-RU" sz="1400" spc="-1" strike="noStrike">
                <a:solidFill>
                  <a:srgbClr val="000000"/>
                </a:solidFill>
                <a:latin typeface="Arial"/>
              </a:rPr>
              <a:t>Я не могу не согласиться с мнением автора.</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Пролетают века.  Люди всё чаще говорят о гуманизме,  а межнациональные войны не прекращаются.   Можно  привести множество примеров. Во-первых, военный конфликт между Грузией и Абхазией. Постоянная вражда в Дагестане. Сегодня мы являемся свидетелями национального конфликта в Украине, где убивают мирных граждан только за то, что они имеют свою точку зрения на дальнейшее развитие государства. А ведь вопрос можно было решить мирным путём! К несчастью, люди не учатся на ошибках предыдущих поколений.</a:t>
            </a:r>
            <a:r>
              <a:rPr b="1" lang="ru-RU" sz="1400" spc="-1" strike="noStrike">
                <a:solidFill>
                  <a:srgbClr val="000000"/>
                </a:solidFill>
                <a:latin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Итак, каждый из нас должен задуматься над тем, к чему  призывает в тексте  Юрий Лотман.  Необходимо остановить бессмысленное истребление народами друг друга, восстать против тех, кто греет руки на убийстве людей. Все народы должны сплотиться ради жизни будущих поколений, ради сохранения жизни на земле.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Разные языки, разный цвет кожи – к несчастью, этого более чем достаточно, чтобы разжечь кровавый пожар, подогреваемый слепой, беспричинной ненавистью людей. Именно проблему межнациональных конфликтов поднимает в своём тексте Юрий Лотман.</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Юрий Лотман приходит к следующему выводу: необходимо остановить безумие ненависти, проблема межнациональных войн  касается каждого из нас.</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Юрий Лотман не случайно обращается к этой проблеме. К сожалению, национальный вопрос никогда не терял своей актуальности.  Тревожные сообщения о межнациональных конфликтах в различных уголках нашей планеты мы слышим постоянно. Размышляя над проблемой, Лотман особо подчёркивает, что среди его близких людей были представители самых разных национальностей. Все люди имеют равные права, и сущность человека определяется не цветом его кожи или языком, на котором он говорит. Именно эту мысль стремится донести до читателей автор.</a:t>
            </a:r>
            <a:r>
              <a:rPr b="1"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3"/>
          <p:cNvSpPr/>
          <p:nvPr/>
        </p:nvSpPr>
        <p:spPr>
          <a:xfrm>
            <a:off x="3924720" y="430200"/>
            <a:ext cx="384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Arial"/>
              </a:rPr>
              <a:t>Групповая работа</a:t>
            </a:r>
            <a:endParaRPr b="0" lang="en-US" sz="3200" spc="-1" strike="noStrike">
              <a:solidFill>
                <a:srgbClr val="000000"/>
              </a:solidFill>
              <a:latin typeface="Arial"/>
            </a:endParaRPr>
          </a:p>
        </p:txBody>
      </p:sp>
      <p:sp>
        <p:nvSpPr>
          <p:cNvPr id="252" name="Прямоугольник 5"/>
          <p:cNvSpPr/>
          <p:nvPr/>
        </p:nvSpPr>
        <p:spPr>
          <a:xfrm>
            <a:off x="3255840" y="1876320"/>
            <a:ext cx="563400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800" spc="-1" strike="noStrike">
                <a:solidFill>
                  <a:srgbClr val="000000"/>
                </a:solidFill>
                <a:latin typeface="Arial"/>
              </a:rPr>
              <a:t>Восстановите текст сочинения. Расположите фрагменты сочинения таким образом, чтобы получился связный текст. Для этого расставьте номера данных фрагментов.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оснуйте свой ответ. </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51">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рямоугольник 4"/>
          <p:cNvSpPr/>
          <p:nvPr/>
        </p:nvSpPr>
        <p:spPr>
          <a:xfrm>
            <a:off x="3454200" y="19692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верь себя!</a:t>
            </a:r>
            <a:endParaRPr b="0" lang="en-US" sz="1800" spc="-1" strike="noStrike">
              <a:solidFill>
                <a:srgbClr val="000000"/>
              </a:solidFill>
              <a:latin typeface="Arial"/>
            </a:endParaRPr>
          </a:p>
        </p:txBody>
      </p:sp>
      <p:sp>
        <p:nvSpPr>
          <p:cNvPr id="254" name="Прямоугольник 5"/>
          <p:cNvSpPr/>
          <p:nvPr/>
        </p:nvSpPr>
        <p:spPr>
          <a:xfrm>
            <a:off x="309600" y="719280"/>
            <a:ext cx="8539200" cy="5202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Разные языки, разный цвет кожи – к несчастью, этого более чем достаточно, чтобы разжечь кровавый пожар, подогреваемый слепой, беспричинной ненавистью людей. Именно проблему межнациональных конфликтов поднимает в своём тексте Юрий Лотман.</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2.Автор раскрывает данную проблему, рассказывая, что  среди его близких людей были представители самых разных национальностей. Он сожалеет, что  на земле национальный вопрос никогда не терял своей актуальности.  Тревожные сообщения о межнациональных конфликтах в различных уголках нашей планеты слышатся постоянно.</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3. Размышляя над проблемой, Лотман особо подчёркивает, что все люди имеют равные права, и сущность человека определяется не цветом его кожи или языком, на котором он говорит. Именно эту мысль стремится донести до читателей автор.</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4.Я не могу не согласиться с мнением автора.</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5.О человеческой жестокости друг к другу, о межнациональной розни рассказывает в своей повести «Ночевала тучка золотая» Анатолий Приставкин. Подросток Колька не может понять, что взрослые люди могут охотиться на детей только потому, что они русские. Страшно читать строки, где автор рассказывает, что чеченцы Сашке вспороли живот, натолкали туда вместо требухи кукурузы и травы и повесили ребёнка под мышки на остриё забора. Дети чувствуют, что взрослые несправедливы. Колька и мальчик-чеченец Алхузур сдружились, считают себя братьями, вместе ищут безопасное место. Это вызов тем, кто разжигает межнациональную вражду.</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6. Юрий Лотман не случайно обращается к этой проблеме.  Пролетают века.  Люди всё чаще говорят о гуманизме,  а межнациональные войны не прекращаются.   Можно  привести множество примеров. Во-первых, военный конфликт между Грузией и Абхазией. Постоянная вражда в Дагестане. Сегодня мы являемся свидетелями национального конфликта в Украине, где убивают мирных граждан только за то, что они имеют свою точку зрения на дальнейшее развитие государства. А ведь вопрос можно было решить мирным путём! К несчастью, люди не учатся на ошибках предыдущих поколений.</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7. Итак, каждый из нас должен задуматься над тем, к чему  призывает в тексте  Юрий Лотман.  Необходимо остановить бессмысленное истребление народами друг друга, восстать против тех, кто греет руки на убийстве людей. Все народы должны сплотиться ради жизни будущих поколений, ради сохранения жизни на земле.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Прямоугольник 4"/>
          <p:cNvSpPr/>
          <p:nvPr/>
        </p:nvSpPr>
        <p:spPr>
          <a:xfrm>
            <a:off x="3570120" y="430200"/>
            <a:ext cx="402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Arial"/>
              </a:rPr>
              <a:t>Домашнее задание</a:t>
            </a:r>
            <a:endParaRPr b="0" lang="en-US" sz="3200" spc="-1" strike="noStrike">
              <a:solidFill>
                <a:srgbClr val="000000"/>
              </a:solidFill>
              <a:latin typeface="Arial"/>
            </a:endParaRPr>
          </a:p>
        </p:txBody>
      </p:sp>
      <p:sp>
        <p:nvSpPr>
          <p:cNvPr id="256" name="Прямоугольник 6"/>
          <p:cNvSpPr/>
          <p:nvPr/>
        </p:nvSpPr>
        <p:spPr>
          <a:xfrm>
            <a:off x="3327480" y="1504800"/>
            <a:ext cx="5338800" cy="50079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исать своё сочинение-рассуждение по тексту Юрия Лотмана.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ех, кто затруднится, я приготовила шаблон-подсказку.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атериал для сочинения (шаблон-подсказка):</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итературовед  Юрий Лотман в тексте поднимает проблему…</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Размышляя над поставленной проблемой, автор рассказывает … По его мнению, в наши дни…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Таким образом, автор приходит к следующему выводу, что…</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евозможно не согласиться с автором.</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Данная проблема раскрывается писателем… в произведении…. Его герой…</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Я тоже убеждён в том, что…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В заключение хочу сказать, что…</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ольник 3"/>
          <p:cNvSpPr/>
          <p:nvPr/>
        </p:nvSpPr>
        <p:spPr>
          <a:xfrm>
            <a:off x="3512520" y="276120"/>
            <a:ext cx="43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Дополнительный материал</a:t>
            </a:r>
            <a:endParaRPr b="0" lang="en-US" sz="2400" spc="-1" strike="noStrike">
              <a:solidFill>
                <a:srgbClr val="000000"/>
              </a:solidFill>
              <a:latin typeface="Arial"/>
            </a:endParaRPr>
          </a:p>
        </p:txBody>
      </p:sp>
      <p:sp>
        <p:nvSpPr>
          <p:cNvPr id="258" name="Прямоугольник 5"/>
          <p:cNvSpPr/>
          <p:nvPr/>
        </p:nvSpPr>
        <p:spPr>
          <a:xfrm>
            <a:off x="2166840" y="4861080"/>
            <a:ext cx="673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онце ноября 2014 года Захар Прилепин получил премию за повесть «Паталогии». Автор поднимает проблему межнациональных конфликтов, столь острую в настоящее время. Материал данного произведения вы можете взять в качестве аргумента.</a:t>
            </a:r>
            <a:endParaRPr b="0" lang="en-US" sz="1800" spc="-1" strike="noStrike">
              <a:solidFill>
                <a:srgbClr val="000000"/>
              </a:solidFill>
              <a:latin typeface="Arial"/>
            </a:endParaRPr>
          </a:p>
        </p:txBody>
      </p:sp>
      <p:pic>
        <p:nvPicPr>
          <p:cNvPr id="259" name="Picture 2" descr="http://im1-tub-ru.yandex.net/i?id=3bb8f4bafb669b8323f641b42083ff4c-59-144&amp;n=21"/>
          <p:cNvPicPr/>
          <p:nvPr/>
        </p:nvPicPr>
        <p:blipFill>
          <a:blip r:embed="rId1"/>
          <a:stretch/>
        </p:blipFill>
        <p:spPr>
          <a:xfrm>
            <a:off x="5514840" y="903240"/>
            <a:ext cx="3308400" cy="2205000"/>
          </a:xfrm>
          <a:prstGeom prst="rect">
            <a:avLst/>
          </a:prstGeom>
          <a:ln w="0">
            <a:noFill/>
          </a:ln>
        </p:spPr>
      </p:pic>
      <p:pic>
        <p:nvPicPr>
          <p:cNvPr id="260" name="Picture 4" descr="Патологии - купить, цена, описание - Захар Прилепин Киев, Украина AudioBooks.ua"/>
          <p:cNvPicPr/>
          <p:nvPr/>
        </p:nvPicPr>
        <p:blipFill>
          <a:blip r:embed="rId2"/>
          <a:stretch/>
        </p:blipFill>
        <p:spPr>
          <a:xfrm>
            <a:off x="3222720" y="1504800"/>
            <a:ext cx="2066760" cy="3191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Прямоугольник 4"/>
          <p:cNvSpPr/>
          <p:nvPr/>
        </p:nvSpPr>
        <p:spPr>
          <a:xfrm>
            <a:off x="4262040" y="290520"/>
            <a:ext cx="271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33"/>
                </a:solidFill>
                <a:latin typeface="Arial"/>
              </a:rPr>
              <a:t>Итоги урока</a:t>
            </a:r>
            <a:endParaRPr b="0" lang="en-US" sz="3600" spc="-1" strike="noStrike">
              <a:solidFill>
                <a:srgbClr val="000000"/>
              </a:solidFill>
              <a:latin typeface="Arial"/>
            </a:endParaRPr>
          </a:p>
        </p:txBody>
      </p:sp>
      <p:sp>
        <p:nvSpPr>
          <p:cNvPr id="262" name="Прямоугольник 6"/>
          <p:cNvSpPr/>
          <p:nvPr/>
        </p:nvSpPr>
        <p:spPr>
          <a:xfrm>
            <a:off x="3087720" y="1593720"/>
            <a:ext cx="5423040" cy="437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1. Что дал вам сегодняшний уро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2. На каком уровне готовности к сочинению по тексту в формате ЕГЭ  находитесь вы после сегодняшнего урок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3300"/>
                </a:solidFill>
                <a:uFillTx/>
                <a:latin typeface="Arial"/>
              </a:rPr>
              <a:t>1 уровень</a:t>
            </a:r>
            <a:r>
              <a:rPr b="0" i="1" lang="ru-RU" sz="2400" spc="-1" strike="noStrike">
                <a:solidFill>
                  <a:srgbClr val="ff3300"/>
                </a:solidFill>
                <a:latin typeface="Arial"/>
              </a:rPr>
              <a:t>:</a:t>
            </a:r>
            <a:r>
              <a:rPr b="0" i="1" lang="ru-RU" sz="2400" spc="-1" strike="noStrike">
                <a:solidFill>
                  <a:srgbClr val="000000"/>
                </a:solidFill>
                <a:latin typeface="Arial"/>
              </a:rPr>
              <a:t> самостоятельно написать пока не смогу.</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cc00"/>
                </a:solidFill>
                <a:uFillTx/>
                <a:latin typeface="Arial"/>
              </a:rPr>
              <a:t>2 уровень</a:t>
            </a:r>
            <a:r>
              <a:rPr b="0" i="1" lang="ru-RU" sz="2400" spc="-1" strike="noStrike">
                <a:solidFill>
                  <a:srgbClr val="ffcc00"/>
                </a:solidFill>
                <a:latin typeface="Arial"/>
              </a:rPr>
              <a:t>:</a:t>
            </a:r>
            <a:r>
              <a:rPr b="0" i="1" lang="ru-RU" sz="2400" spc="-1" strike="noStrike">
                <a:solidFill>
                  <a:srgbClr val="000000"/>
                </a:solidFill>
                <a:latin typeface="Arial"/>
              </a:rPr>
              <a:t> напишу, но присутствуют затруднения, требуется дополнительная практическая тренировк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9900"/>
                </a:solidFill>
                <a:uFillTx/>
                <a:latin typeface="Arial"/>
              </a:rPr>
              <a:t>3 уровень</a:t>
            </a:r>
            <a:r>
              <a:rPr b="0" i="1" lang="ru-RU" sz="2400" spc="-1" strike="noStrike">
                <a:solidFill>
                  <a:srgbClr val="009900"/>
                </a:solidFill>
                <a:latin typeface="Arial"/>
              </a:rPr>
              <a:t>:</a:t>
            </a:r>
            <a:r>
              <a:rPr b="0" i="1" lang="ru-RU" sz="2400" spc="-1" strike="noStrike">
                <a:solidFill>
                  <a:srgbClr val="000000"/>
                </a:solidFill>
                <a:latin typeface="Arial"/>
              </a:rPr>
              <a:t> надеюсь, что с сочинением справлюсь.</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2"/>
          <p:cNvSpPr/>
          <p:nvPr/>
        </p:nvSpPr>
        <p:spPr>
          <a:xfrm>
            <a:off x="3907080" y="374760"/>
            <a:ext cx="36205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0033"/>
                </a:solidFill>
                <a:latin typeface="Arial"/>
              </a:rPr>
              <a:t>Цель урока</a:t>
            </a:r>
            <a:endParaRPr b="0" lang="en-US" sz="4800" spc="-1" strike="noStrike">
              <a:solidFill>
                <a:srgbClr val="000000"/>
              </a:solidFill>
              <a:latin typeface="Arial"/>
            </a:endParaRPr>
          </a:p>
        </p:txBody>
      </p:sp>
      <p:sp>
        <p:nvSpPr>
          <p:cNvPr id="224" name="Прямоугольник 4"/>
          <p:cNvSpPr/>
          <p:nvPr/>
        </p:nvSpPr>
        <p:spPr>
          <a:xfrm>
            <a:off x="3157560" y="2395440"/>
            <a:ext cx="5634000" cy="2288520"/>
          </a:xfrm>
          <a:prstGeom prst="rect">
            <a:avLst/>
          </a:prstGeom>
          <a:noFill/>
          <a:ln w="0">
            <a:noFill/>
          </a:ln>
        </p:spPr>
        <p:style>
          <a:lnRef idx="0"/>
          <a:fillRef idx="0"/>
          <a:effectRef idx="0"/>
          <a:fontRef idx="minor"/>
        </p:style>
        <p:txBody>
          <a:bodyPr lIns="90000" rIns="90000" tIns="46800" bIns="46800" anchor="t">
            <a:spAutoFit/>
          </a:bodyPr>
          <a:p>
            <a:pPr algn="ctr">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Arial"/>
              </a:rPr>
              <a:t>Продолжить подготовку к выполнению    25-ого задания ЕГЭ:  отрабатывать умение составлять композицию сочинения-рассуждения,  делить текст на абзацы</a:t>
            </a:r>
            <a:r>
              <a:rPr b="1" lang="ru-RU" sz="1800" spc="-1" strike="noStrike">
                <a:solidFill>
                  <a:srgbClr val="632523"/>
                </a:solidFill>
                <a:latin typeface="Arial"/>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Прямоугольник 3"/>
          <p:cNvSpPr/>
          <p:nvPr/>
        </p:nvSpPr>
        <p:spPr>
          <a:xfrm>
            <a:off x="3918960" y="360360"/>
            <a:ext cx="338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33"/>
                </a:solidFill>
                <a:latin typeface="Arial"/>
              </a:rPr>
              <a:t>Эпиграф урока</a:t>
            </a:r>
            <a:endParaRPr b="0" lang="en-US" sz="3600" spc="-1" strike="noStrike">
              <a:solidFill>
                <a:srgbClr val="000000"/>
              </a:solidFill>
              <a:latin typeface="Arial"/>
            </a:endParaRPr>
          </a:p>
        </p:txBody>
      </p:sp>
      <p:sp>
        <p:nvSpPr>
          <p:cNvPr id="226" name="Прямоугольник 5"/>
          <p:cNvSpPr/>
          <p:nvPr/>
        </p:nvSpPr>
        <p:spPr>
          <a:xfrm>
            <a:off x="3565440" y="1776240"/>
            <a:ext cx="5170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алкий челове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го он хочет!.. небо ясн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 небом места много все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 беспрестанно и напрасн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ин враждует он – зачем? </a:t>
            </a:r>
            <a:endParaRPr b="0" lang="en-US" sz="2800" spc="-1" strike="noStrike">
              <a:solidFill>
                <a:srgbClr val="000000"/>
              </a:solidFill>
              <a:latin typeface="Arial"/>
            </a:endParaRPr>
          </a:p>
        </p:txBody>
      </p:sp>
      <p:sp>
        <p:nvSpPr>
          <p:cNvPr id="227" name="Прямоугольник 6"/>
          <p:cNvSpPr/>
          <p:nvPr/>
        </p:nvSpPr>
        <p:spPr>
          <a:xfrm>
            <a:off x="6408720" y="4552920"/>
            <a:ext cx="189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Ю.Лермонтов</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2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2"/>
          <p:cNvSpPr/>
          <p:nvPr/>
        </p:nvSpPr>
        <p:spPr>
          <a:xfrm>
            <a:off x="1870920" y="206280"/>
            <a:ext cx="5132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33"/>
                </a:solidFill>
                <a:latin typeface="Arial"/>
              </a:rPr>
              <a:t>Повторение теории</a:t>
            </a:r>
            <a:endParaRPr b="0" lang="en-US" sz="4000" spc="-1" strike="noStrike">
              <a:solidFill>
                <a:srgbClr val="000000"/>
              </a:solidFill>
              <a:latin typeface="Arial"/>
            </a:endParaRPr>
          </a:p>
        </p:txBody>
      </p:sp>
      <p:sp>
        <p:nvSpPr>
          <p:cNvPr id="229" name="Прямоугольник 4"/>
          <p:cNvSpPr/>
          <p:nvPr/>
        </p:nvSpPr>
        <p:spPr>
          <a:xfrm>
            <a:off x="506520" y="957240"/>
            <a:ext cx="8454960" cy="3506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1. Сколько баллов набирает выпускник за правильное выполнение ЕГЭ?</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32523"/>
                </a:solidFill>
                <a:latin typeface="Arial"/>
              </a:rPr>
              <a:t>    </a:t>
            </a:r>
            <a:r>
              <a:rPr b="1" i="1" lang="ru-RU" sz="2000" spc="-1" strike="noStrike">
                <a:solidFill>
                  <a:srgbClr val="632523"/>
                </a:solidFill>
                <a:latin typeface="Arial"/>
              </a:rPr>
              <a:t>(56 баллов за 100-процентное выполнение ЕГЭ).</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2. А сколько баллов из 56 выпускник набирает за задание №25 – сочинение-рассуждение по тексту?</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32523"/>
                </a:solidFill>
                <a:latin typeface="Arial"/>
              </a:rPr>
              <a:t>     </a:t>
            </a:r>
            <a:r>
              <a:rPr b="1" i="1" lang="ru-RU" sz="2000" spc="-1" strike="noStrike">
                <a:solidFill>
                  <a:srgbClr val="632523"/>
                </a:solidFill>
                <a:latin typeface="Arial"/>
              </a:rPr>
              <a:t>(23 балла)</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3. Каков должен быть объём сочинения?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    </a:t>
            </a:r>
            <a:r>
              <a:rPr b="1" lang="ru-RU" sz="2000" spc="-1" strike="noStrike">
                <a:solidFill>
                  <a:srgbClr val="632523"/>
                </a:solidFill>
                <a:latin typeface="Arial"/>
              </a:rPr>
              <a:t>(Более 150 слов)</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4. Что грозит выпускнику, если  количество слов в сочинении будет меньше установленной нормы?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32523"/>
                </a:solidFill>
                <a:latin typeface="Arial"/>
              </a:rPr>
              <a:t>5. </a:t>
            </a:r>
            <a:r>
              <a:rPr b="1" lang="ru-RU" sz="2000" spc="-1" strike="noStrike">
                <a:solidFill>
                  <a:srgbClr val="632523"/>
                </a:solidFill>
                <a:latin typeface="Arial"/>
              </a:rPr>
              <a:t>Из скольких обязательных пунктов должна состоять композиция сочинения-рассуждения по предложенному тексту?</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    </a:t>
            </a:r>
            <a:r>
              <a:rPr b="1" lang="ru-RU" sz="2000" spc="-1" strike="noStrike">
                <a:solidFill>
                  <a:srgbClr val="632523"/>
                </a:solidFill>
                <a:latin typeface="Arial"/>
              </a:rPr>
              <a:t>(Из 7)</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3"/>
          <p:cNvSpPr/>
          <p:nvPr/>
        </p:nvSpPr>
        <p:spPr>
          <a:xfrm>
            <a:off x="2647080" y="331920"/>
            <a:ext cx="6118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33"/>
                </a:solidFill>
                <a:latin typeface="Arial"/>
              </a:rPr>
              <a:t>Композиция сочинения</a:t>
            </a:r>
            <a:endParaRPr b="0" lang="en-US" sz="4000" spc="-1" strike="noStrike">
              <a:solidFill>
                <a:srgbClr val="000000"/>
              </a:solidFill>
              <a:latin typeface="Arial"/>
            </a:endParaRPr>
          </a:p>
        </p:txBody>
      </p:sp>
      <p:sp>
        <p:nvSpPr>
          <p:cNvPr id="231" name="Прямоугольник 5"/>
          <p:cNvSpPr/>
          <p:nvPr/>
        </p:nvSpPr>
        <p:spPr>
          <a:xfrm>
            <a:off x="3243240" y="1376280"/>
            <a:ext cx="5140440" cy="453060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ильно  ли составлен план сочинения-рассуждения по тексту в формате ЕГЭ?  Если допущены ошибки, то назовите их. </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блема.</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воя позиция.</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иция автора.</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ргумент 1.</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мментарий.</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ргумент 2.</a:t>
            </a:r>
            <a:endParaRPr b="0" lang="en-US" sz="2800" spc="-1" strike="noStrike">
              <a:solidFill>
                <a:srgbClr val="000000"/>
              </a:solidFill>
              <a:latin typeface="Arial"/>
            </a:endParaRPr>
          </a:p>
          <a:p>
            <a:pP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лючение. </a:t>
            </a:r>
            <a:endParaRPr b="0" lang="en-US" sz="2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4"/>
          <p:cNvSpPr/>
          <p:nvPr/>
        </p:nvSpPr>
        <p:spPr>
          <a:xfrm>
            <a:off x="3611160" y="388800"/>
            <a:ext cx="419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33"/>
                </a:solidFill>
                <a:latin typeface="Arial"/>
              </a:rPr>
              <a:t>Проверим себя</a:t>
            </a:r>
            <a:endParaRPr b="0" lang="en-US" sz="4400" spc="-1" strike="noStrike">
              <a:solidFill>
                <a:srgbClr val="000000"/>
              </a:solidFill>
              <a:latin typeface="Arial"/>
            </a:endParaRPr>
          </a:p>
        </p:txBody>
      </p:sp>
      <p:sp>
        <p:nvSpPr>
          <p:cNvPr id="233" name="Прямоугольник 6"/>
          <p:cNvSpPr/>
          <p:nvPr/>
        </p:nvSpPr>
        <p:spPr>
          <a:xfrm>
            <a:off x="3151080" y="1685880"/>
            <a:ext cx="5992920" cy="43599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мпозиция сочинения-рассуждения в формате ЕГЭ:</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блема.</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мментарий.</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иция автора.</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воя позиция.</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ргумент 1.</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ргумент 2.</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лючение.</a:t>
            </a:r>
            <a:endParaRPr b="0" lang="en-US" sz="2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2261880" y="31752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а с текстом Юрия Лотмана</a:t>
            </a:r>
            <a:endParaRPr b="0" lang="en-US" sz="2400" spc="-1" strike="noStrike">
              <a:solidFill>
                <a:srgbClr val="000000"/>
              </a:solidFill>
              <a:latin typeface="Arial"/>
            </a:endParaRPr>
          </a:p>
        </p:txBody>
      </p:sp>
      <p:sp>
        <p:nvSpPr>
          <p:cNvPr id="235" name="Прямоугольник 2"/>
          <p:cNvSpPr/>
          <p:nvPr/>
        </p:nvSpPr>
        <p:spPr>
          <a:xfrm>
            <a:off x="3241080" y="852480"/>
            <a:ext cx="266184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Прослушайте текст.</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36" name="Прямоугольник 3"/>
          <p:cNvSpPr/>
          <p:nvPr/>
        </p:nvSpPr>
        <p:spPr>
          <a:xfrm>
            <a:off x="477720" y="1231920"/>
            <a:ext cx="8399520" cy="3333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Я – старый человек. Пережил солдатом большую войну, исходил пешком и Россию, и Европу. Среди моих близких людей были и есть и армяне, и азербайджанцы, и грузины, и эстонцы, и немцы, и многие другие. И теперь, на пороге смерти, я вынужден наблюдать то клиническое безумие ненависти, которое охватывает целые пространства нашей земли. Я жалею тех из них, кто ослеплён ненавистью. Неужели же они не видят, что ими играют, и что те, что сейчас из-за кулис разжигают кровавый туман, завтра направят удар против них? То, что делают их руками, очень скоро сделают с ними чьими-нибудь третьими. А те, кто стоит за кулисами, выступят как миротворцы, когда сочтут, что обе стороны пролили достаточно крови.</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поха мелких конфликтов и частных столкновений кончилась. Мир един, и то, что происходит на одном конце, неизбежно отзывается на другом. Спрятаться не удастся никому. Колокол звонит по каждому из нас.</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Юрий Лотма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3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4"/>
          <p:cNvSpPr/>
          <p:nvPr/>
        </p:nvSpPr>
        <p:spPr>
          <a:xfrm>
            <a:off x="407880" y="184320"/>
            <a:ext cx="8454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равните формулировки проблем. </a:t>
            </a:r>
            <a:br>
              <a:rPr sz="1800"/>
            </a:br>
            <a:r>
              <a:rPr b="1" lang="ru-RU" sz="1800" spc="-1" strike="noStrike">
                <a:solidFill>
                  <a:srgbClr val="000000"/>
                </a:solidFill>
                <a:latin typeface="Arial"/>
              </a:rPr>
              <a:t>Все ли проблемы отражены в данном тексте? Укажите номера правильных ответов.</a:t>
            </a:r>
            <a:endParaRPr b="0" lang="en-US" sz="1800" spc="-1" strike="noStrike">
              <a:solidFill>
                <a:srgbClr val="000000"/>
              </a:solidFill>
              <a:latin typeface="Arial"/>
            </a:endParaRPr>
          </a:p>
        </p:txBody>
      </p:sp>
      <p:sp>
        <p:nvSpPr>
          <p:cNvPr id="238" name="Прямоугольник 5"/>
          <p:cNvSpPr/>
          <p:nvPr/>
        </p:nvSpPr>
        <p:spPr>
          <a:xfrm>
            <a:off x="3454560" y="1787400"/>
            <a:ext cx="5267160" cy="411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м тексте Юрий Лотман поднимает такую проблему, как отношение людей к Великой Отечественной войне.</a:t>
            </a: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тексте Юрия Лотмана поднимается проблема межнациональных конфликтов, так остро стоящая в наши дни.</a:t>
            </a: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ое «мир»?   Какое влияние он оказывает на человека? Такие вопросы заинтересовали автора.</a:t>
            </a: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Юрий Лотман поднимает проблему межнациональных конфликт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3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Прямоугольник 3"/>
          <p:cNvSpPr/>
          <p:nvPr/>
        </p:nvSpPr>
        <p:spPr>
          <a:xfrm>
            <a:off x="2234520" y="317520"/>
            <a:ext cx="566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33"/>
                </a:solidFill>
                <a:latin typeface="Arial"/>
              </a:rPr>
              <a:t>Задание к сочинению</a:t>
            </a:r>
            <a:endParaRPr b="0" lang="en-US" sz="4000" spc="-1" strike="noStrike">
              <a:solidFill>
                <a:srgbClr val="000000"/>
              </a:solidFill>
              <a:latin typeface="Arial"/>
            </a:endParaRPr>
          </a:p>
        </p:txBody>
      </p:sp>
      <p:sp>
        <p:nvSpPr>
          <p:cNvPr id="240" name="Прямоугольник 4"/>
          <p:cNvSpPr/>
          <p:nvPr/>
        </p:nvSpPr>
        <p:spPr>
          <a:xfrm>
            <a:off x="2257560" y="1407960"/>
            <a:ext cx="65484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 читая сочинения, определите нарушение требований к нему.</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спомните критерий К5 оценивания сочинения на ЕГ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User</dc:creator>
  <dc:description/>
  <dc:language>en-US</dc:language>
  <cp:lastModifiedBy>User</cp:lastModifiedBy>
  <dcterms:modified xsi:type="dcterms:W3CDTF">2014-12-19T05:36:03Z</dcterms:modified>
  <cp:revision>29</cp:revision>
  <dc:subject/>
  <dc:title>Слайд 1</dc:title>
</cp:coreProperties>
</file>