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864-F4D4-4990-B112-C1A07C6A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58E-2AF1-4919-B79E-4265517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329-7A31-4292-8126-9A83BC7E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4F1-4500-426C-8D34-95DA21A1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4A3-9F93-42A5-9895-BBA68518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BB7-C495-4B2A-AA74-7B01C208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882-6C29-4E6C-A82F-8F31259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6A8-EBBA-4BBA-B9E9-3F26A2F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F95-2D61-4A32-BC20-904FF51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7EC-B11D-48EC-88A3-A8B14D8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36C-2BFF-4EB8-8EE3-4DA85C1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893-E3C9-4B4D-9DA5-209AD59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D6D-E0D4-47AC-815E-D85A1A963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914400"/>
            <a:ext cx="66294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0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мятки по 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ому языку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подготовиться к письму по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й текст. Выясни смысл непонятных слов. Определи, о чем говорится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 в тексте слова, которые нужно проверять. Подумай. Как объяснить их право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учи текст наизусть. Обрати внимание на точное употребление слов в словосочет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ще раз внимательно прочитай текст, четко проговаривая кажд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подготовиться к излож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читай текст. Определи его тему и основную мысль. Озагла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йди в тексте опор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ставь план. Для этого раздели текст на части. Озаглавь каждую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йди слова, которые нужно проверять. Подумай. Как объяснить их на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ще раз внимательно прочитай текст. Обрати внимание на употребление слов и словосочет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ле написания изложения, обязательно проверь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составить текст - повеств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 чем ты будешь рассказывать (какова основная мысль текста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кая мысль в рассказе будет основ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к лучше озаглавить тек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 чего можно начать рассказ ( о чем будет говориться в вводной части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 чем ты расскажешь в основной части (как развивалось действие, какой момент был самым интересным, чем все завершилось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к можно закончить рассказ (какая будет концовка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к составить текст - 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 Выделить признаки предмета, который нужно опи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 Подумай. Какие слова можно употребить, чтобы описание было точным и ярким. Какие сравнения использ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 Определи свое отношение к предмету. Который будешь опис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составить текст - расс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ратко назови то, что ты будешь дока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думай, как можно построить свое доказательство. Его можно начать так: «Объясняется это тем, что..», «происходит это потому,  что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1-18T17:25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