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lexand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0-05-07T23:08:43.031000000" idx="1">
    <p:pos x="2959" y="323"/>
    <p:text>урсы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FE3-BB14-4787-83C2-86E91154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7A9-80BF-446B-AA48-2F623E98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AB6-99FE-40F3-8A9E-0F75B467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E00-2EC6-43D8-9BF9-AD699F2E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80C-EB55-44EF-9495-50D7C113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FCD-9F11-4946-B74E-6CC348C9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E7A-C1DF-401D-ACD7-830DF208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5AF-1CEC-4384-8E82-E2B6B8E6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044-0477-4AA0-9D91-F482C95B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2AE-CE94-4ED6-AC16-25E88482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D43-93EC-4A93-9C4F-C618BE61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04F-1250-413D-AADD-0E41F01F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504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815B-E985-4FA8-870F-C69C3D753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28400"/>
            <a:ext cx="7846920" cy="552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й проект </a:t>
            </a:r>
            <a:br>
              <a:rPr sz="2400"/>
            </a:br>
            <a:br>
              <a:rPr sz="24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 здоровом теле – здоровый дух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ы проекта 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ий Лариса Викторовна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культур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Пархоменко Татьяна Евгеньевна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Петрова Татьяна Владимировна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итель начальных класс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ОШ №3 с УИОП»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отовск, 2013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84872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лан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836640"/>
          <a:ext cx="8229600" cy="5472000"/>
        </p:xfrm>
        <a:graphic>
          <a:graphicData uri="http://schemas.openxmlformats.org/drawingml/2006/table">
            <a:tbl>
              <a:tblPr/>
              <a:tblGrid>
                <a:gridCol w="2057400"/>
                <a:gridCol w="1557360"/>
                <a:gridCol w="2143080"/>
                <a:gridCol w="2471760"/>
              </a:tblGrid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ы деятель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то  ответствен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а отчёт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зарядка после первого уро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еднев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 физкультуры и дежурный 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етка в оценочном лис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минка в течении 3-5 минут на каждом урок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еднев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ющий учитель - предмет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етка в оценочном лис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азы продуктов, богатых витаминами (фрукты, рыба.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енед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а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клад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ятие диспут клуба о вреде ку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11.2013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 ФК, учитель химии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би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риалы о вреде курения, представленные учащимися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резентация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ятие диспут клуба о вреде наркотик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2.2014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ководитель клуба, учитель биологии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хим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риалы о вреде наркотиков, представленные учащими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ятие диспут клуба о вреде алкого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4.2014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ководитель клуба, учитель биологии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хим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риалы о вреде алкоголя, представленные учащимис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вижные и спортивные игры в течении учебного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9.,27.11.2013г, 19.02., 7.05.2014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ководитель клуба «Возрождение», классные руководители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учитель физкульт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казы директора от… (даты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 награждениях за участие и первые ме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ятия танц-класс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енедельно, по распис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ководитель секции, классные руковод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исание занятости учащихся во второй половине д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ятия секции «Возрождение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енедельно по распис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ководитель клуба «Возрождение», учитель физкульт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исание занятости учащихся во второй половине д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беседы с учащимися о здоровом образе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необходим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ные руководители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учитель биологии,учитель Ф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евник классного руководи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работы (продолжение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4000" y="1600200"/>
          <a:ext cx="8362800" cy="2981160"/>
        </p:xfrm>
        <a:graphic>
          <a:graphicData uri="http://schemas.openxmlformats.org/drawingml/2006/table">
            <a:tbl>
              <a:tblPr/>
              <a:tblGrid>
                <a:gridCol w="2090520"/>
                <a:gridCol w="2090880"/>
                <a:gridCol w="2090520"/>
                <a:gridCol w="20908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ая работа сучащими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необходим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ный руководитель, администрация, род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евник классного руководи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е диспутклуба о правильном пита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0.2013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ФК, учитель би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ы о правильном пита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е диспутклуба о критериях здоров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9.2013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ь клуба, учитель би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ы о критериях здоров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ие тематического плана пяти занятий в диспутклубе по проблемам здоровьесбережения учащих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8.-10.09.2013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ь диспутклуба, учитель биологии, Ф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тический план на пять занят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традиционных дней здоровь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четвер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физкультуры, классные руковод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 директора о проведении Дня здоровья и план проведения Дня здоров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ежуточны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рядка после первого урока проводится в спортзале одним из учащихся под руководством учителя физкультуры или дежурного учителя, явка учащихся 10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инки в течении 3 минут стали привычными в младшем звене, учащиеся напоминают учителям о том, что пора сделать разминк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тание в столовой в соответствии с нормами, продукты качественны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едены заседания диспутклуба с обсуждением критериев здоровья, правильного питания, вреда курения, наркомании, алкого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едены военно-спортивные игры в намеченные сроки, с участием учащихся на 95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анцклассе занимаются 3% учащих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дётся постоянная работа в секции «ОФП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величилось количество учащихся, посещающих спортивные секции на 8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уроках биологии и физической культуры систематически проводятся беседы о принципах здорового образа жиз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дётся систематическая работа с родителями об экологическом воспитании учащих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ценка промежуточных и окончательных результа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ефлексия действ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зарядка «прижилась», но следует повысить требования к качеству выполнения упражн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далось снизить число замечаний на уроках, так как спорт, физическая культура концентрируют внимание учащихся, улучшилась успеваем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енно-спортивные игры привлекают внимание и участие всех учащих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ащиеся мало болеют и не посещали школу практически из-за морозов (2-3 дн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нцклассом  заинтересовались, так как он работает в рамках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нятия диспутклуба по критериям здоровья, правильного питания, вреда курения, наркомании и алкоголя проходили активно (в обсуждении участвовали вс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целом, в течение учебного года формировалось правильное отношение учащихся к своему здоров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шли на правильное питание 100% учащих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ту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валеологической культуры у 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ю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ельную группу здоровья 57% 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ривление позвоночник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авильные представления о питании (отказ от первого, употребление чипсов и т.д.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%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рение нарушено у 43% 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ная гиперак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валеологической культур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учащихся приводит к негативному отношению к здоровому образу жи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вратить школьное пространство в здоровьесберегающую сре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проблем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 воспитания здоровьесбережения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елать традиционной зарядку после первого у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ь разминки на уроках в течении 3-5 мин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учащихся здоровым питани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рать материал для проведения занятий в диспутклуб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овать в рамках диспутклуба занятия о критериях здоровья, о правильном питании, вреде курения, наркотиков, алкого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чь учащихся к занятиям в военно-спортивном клуб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ожде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лечь танцами учащихся все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ить учащихся с элементы вале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уроках  раскрывать перед учащимися вред табака, алкоголя, наркот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ка на зарядку после первого урока 1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ват спортивными мероприятиями 90%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ение пропусков уроков по болезни на 9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пяти занят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пут клуб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критериям здоровья, проблемам питания, курения, наркомании, алког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 учащихся в основную группу здоровья на 20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е о правильном питании у 100%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успеваемости учащихся за счёт концентрации внимания на уроках в результате снижения гипер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в школ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бственная столов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спортзала; спортивная площад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нц-кла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о-спортивный клуб «Возрождение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бинет адаптивной физической 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лектив учителей, приветствующий здоровый образ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и, заинтересованные в здоровье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школы  в режиме «полного дн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нет – кла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блиот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ис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ертность 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зависим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полнение режима дня учащими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СМИ на формирование неправильного представления учащихся о здоровом образе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родителями необходимости экологического воспитания и привития навыков физической куль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4:46:51Z</dcterms:created>
  <dc:creator>alexandr</dc:creator>
  <dc:description/>
  <dc:language>en-US</dc:language>
  <cp:lastModifiedBy>user</cp:lastModifiedBy>
  <dcterms:modified xsi:type="dcterms:W3CDTF">2014-12-26T14:32:37Z</dcterms:modified>
  <cp:revision>49</cp:revision>
  <dc:subject/>
  <dc:title>В здоровом теле – здоровый дух</dc:title>
</cp:coreProperties>
</file>