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FF00-626A-4FBC-9D1F-C73D5DD6104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D6A6-CB41-43BE-B55F-5A7A659257F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B59-48CE-49AC-9416-8709AF78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404-105E-460C-B198-1CE1986D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51C10-1E54-4C35-8A97-EE1C76BB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F811B-7AF3-4749-B360-745190A1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72E44-61C4-4BD8-8CB2-7026A554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36103-7098-49A1-877A-02F1975B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ED63A-30AA-4E33-8049-1CEC805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BB310-98E0-44D9-9FD6-2C9B3C08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9F0D8-EF7E-4D8A-B6FE-1A5C7696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981AD-371F-4384-AF37-F22B4931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5FB21-228A-4160-89C7-B0A1EB21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8687E-73C7-41C8-B2FA-E69DF426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948-1420-4CA4-B533-1F6BF2BE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22E18-C52B-4971-ADE2-CBB984C3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3F741-7752-4321-A931-A2C090AA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1238A-99C8-43E6-BE61-A73F97AD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05AE2-54A8-458C-AD6B-6A3FB379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8863A-B12A-41DE-8C23-1005A238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D3A66-686F-44D1-A059-6A9B5D7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8E9E8-9AD7-497B-BE84-F8782742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41CF5-E6C2-4C15-AE77-B60BBA3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CE4DF-017E-4952-81E3-42E17FFC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F52C0-9AAC-4CCA-857D-2F1C952E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7D7-B6D9-4ACB-9B15-A99AC329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DA69B-D02A-4073-888A-57793A15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E6991-A030-4F53-99BA-9A748BA9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F9C53-1F55-4D68-A0A5-6A50C233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6B52E-34E0-4AE4-9471-52B82140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15268-12C0-4D8D-9798-E4AF397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DCA8E-4D40-49CD-9BFC-B362B99C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0700B-0F63-497C-A2E0-684915BA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3C94F-B438-4251-92C7-BF74F8E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604A7-75A3-4AEE-9CB4-72D558C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0FA3E-C748-4DB9-83CF-042A0112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9C22-5BF4-4168-82B6-CDC993FA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CF62C-4379-4374-A821-667816D4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AD2BB-89D6-4FEC-8A29-AEA35378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2CB06-72DB-42A6-B29D-D523B3B8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74D20-01F5-454E-B0E2-184C5B3F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264C6-906A-4754-A9BB-C077AF8E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CBA45-FD60-4519-9DB4-D18F5289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E37A8-3B0C-4016-B81A-2D8FA5C5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FF986-76EF-4034-838E-3F952F5F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61FE7-2CF7-4814-9BD4-70E8FEFE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FE8F9-DB98-49EB-8C6D-45A9A9F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9207-F8D8-4356-9320-43E539F4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871E2-5D46-4015-B1FA-B84543C9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5DD94-FE57-47B1-977D-C0988A6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AE2D1-1A4E-4268-B5AB-6AAF5512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386D0-75D3-4AF7-96E3-5FFB6F5B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A153F-3ACC-4261-92B6-4349F11F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E3A3-2E53-4971-AFF2-9AF5BC42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15A5-0C5C-491F-A355-71C7F856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7B7C-8D25-4AA5-B77A-F2474D17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9F98-1CEE-4FF3-AB24-B21831A0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92BD-D56A-402C-9FEA-BDFE2938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EE5-0F0B-42C9-8812-C5218B7A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12C4-C3F1-4AFD-9AAC-2D5FE9E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7B21-37C6-440D-BBAF-968B2B15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8A5F-8DCB-4967-9F15-E2CF80D4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7A8F-CA1F-47F5-99DA-73BC3160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367A-9DA9-4B8F-96DC-187F83A1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CC75-07B7-4FC3-9EE4-E0B50EE9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5298-B8C7-44C3-8AD0-2B6B1EF3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48EE-D644-4A5C-ADB2-19927E59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07E1-DBBF-4A73-A803-7EB12C7E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3FE2-AFB5-4013-BB10-6C087202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45B-5972-4B9A-9AAB-3B83B470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6002-10EE-43F7-850A-B1B44479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6D3E-8CE0-43FB-A2BF-0317E25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47B5-8B16-420E-AFD6-67ECDDA1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FE2C-2894-42D3-B4DA-2365086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5909-9D48-4390-8D0B-FE2F8858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5176-9313-4F13-9841-5F77016D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3117-D0AD-455F-8E80-0E7D2560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CC7AC-2400-408A-AA87-8853BA58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FC677-C1EE-4387-83F3-A4328140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8DB5-71E5-430A-BC58-A1236FA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BE2-6121-4DE0-9706-4CB7433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E202-46C2-4DDE-9410-E4A95196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ADA4-499E-4586-8093-8318EA35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5EAE2-A735-4DA8-977D-0663E61C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34CB8-0B18-4674-811A-CC9128EB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143F-AF39-47D8-BE33-7D96FBAA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9466-C0B2-439D-9AAA-3343E3DB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A41A-D58E-4925-AC0B-E64B6370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0211-312B-4909-888B-889D8690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B070-3C16-4DDD-9108-3435504A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4F1D0-76F2-4560-AE74-E18B01E6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FC6-9D65-479C-B106-222585E2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24375-7308-4681-AD3C-AFFB82FC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AA0E1-796E-48BE-859C-1E4BDB7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E2F4-6350-404E-8847-FE84202B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2325D-C8AC-4B66-8CBF-F72A7C5A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2D15F-7076-4719-8FF7-93A1195D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97179-3CBC-4D36-9824-318A602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0233-FF40-4D62-A273-60B37DFB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01BF-A3DE-4C69-9046-D7543125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9A9F4-CF41-4B82-8830-07AD5B77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2FA0F-0ED8-4585-9989-3E153D6F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D34-2DD1-493D-8F25-4FB44F2D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ACEC8-7AD0-4492-8CA8-4EE3AB79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2F09-B98E-4836-AF1D-73C59E50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382F1-E741-4B14-AB16-BB2DAB25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D92E-207A-4839-918E-42B6ECA6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2BC1D-21BF-46B7-BB2A-6724C893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FEFE9-4F83-487A-B0B3-6D687F84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A6536-C7CD-4F94-ABA6-54A19B25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28FF2-1355-4483-A6FC-D1EDD854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E2F41-A795-4170-AD90-8CD8B79A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8902-7E03-4EE4-A795-E1CAF92C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2E3-07E2-4BD4-B4E4-0A9EBD99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10DBA-E52D-4578-BE0E-0841F4FD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F0D6-841A-4B42-9621-1C2B8C93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5C55-FA9A-4B1D-81B4-8A13D219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A5436-4F04-4A9C-83BA-706338A2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2D790-4C44-4069-A5E3-4F871D63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77C62-8DB4-46BE-B200-11535725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628CC-4FF6-447C-A069-CBC829F3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B766-7261-4DF0-8756-2C3934F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F12B1-C4DD-4887-877D-9532D841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69DCA-8643-4440-B00A-07F41805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212-B81E-44F7-950D-12245E63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83868-889A-42F6-9DA6-0B77A08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EC963-F498-4558-853B-A7C9A7A5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DB07A-634A-45A0-8C73-715A26BA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95C68-DE7D-4466-8F10-62A5A59C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0F6B4-3D2B-463C-A7DA-C5C22D8B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A559E-FE4F-462C-89F0-45B2A0A8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CD902-5115-4BC3-9261-284345E1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CC2E9-C189-48BB-8829-AE497531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867F6-39C2-405E-B9AB-568F017B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8DF6C-75EF-47CE-A7E7-4880B257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ED2-6154-4B16-A482-26BFC83E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F606B-6706-4A59-88ED-D66C4B6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417FE-7489-4137-89CF-B53EFB3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35284-38F2-439E-85E2-70E06760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0FE0-A631-4A62-B378-FC453FB0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8A7C-AF56-4C80-B862-D067D668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07B5-644D-4572-828E-24408527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689C8-A212-4639-BDBE-7FA43AB6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78159-B005-4B08-AC68-B0E3ECA3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3E8EF-89C1-4B68-9228-4A5235AE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FF7F7-E483-4532-AA73-18255188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B2CC-CA80-433B-AA09-E97E6A1F5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436A-604D-47CA-8FE6-7B46B24786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8875-43E8-4195-A27A-758C679025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454B-B792-47A7-893D-0BF1A449D4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2DE4-EA33-43A3-875E-F0C2CF3759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F2BC-4849-421C-B292-1F7B675DAE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C48E-0BD0-4F64-B932-A9A66B38DE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4033-9D1A-48CD-81B5-A6525EC36A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6026-B5B7-4D93-ACEE-950A22648F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29E9-436D-49BB-B6EA-463AECC410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AD81-EF44-44FF-AA3A-3A8D9D92B8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26C9-145C-44FC-88CF-858311B334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6364098181"/>
          <p:cNvPicPr/>
          <p:nvPr/>
        </p:nvPicPr>
        <p:blipFill>
          <a:blip r:embed="rId1"/>
          <a:stretch/>
        </p:blipFill>
        <p:spPr>
          <a:xfrm>
            <a:off x="-252360" y="638172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2"/>
          <p:cNvSpPr/>
          <p:nvPr/>
        </p:nvSpPr>
        <p:spPr>
          <a:xfrm flipV="1">
            <a:off x="2268360" y="1256400"/>
            <a:ext cx="494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TextBox 7"/>
          <p:cNvGrpSpPr/>
          <p:nvPr/>
        </p:nvGrpSpPr>
        <p:grpSpPr>
          <a:xfrm>
            <a:off x="311040" y="1255680"/>
            <a:ext cx="6145200" cy="1445760"/>
            <a:chOff x="311040" y="1255680"/>
            <a:chExt cx="6145200" cy="1445760"/>
          </a:xfrm>
        </p:grpSpPr>
        <p:pic>
          <p:nvPicPr>
            <p:cNvPr id="502" name="TextBox 7" descr=""/>
            <p:cNvPicPr/>
            <p:nvPr/>
          </p:nvPicPr>
          <p:blipFill>
            <a:blip r:embed="rId2"/>
            <a:stretch/>
          </p:blipFill>
          <p:spPr>
            <a:xfrm>
              <a:off x="311040" y="1255680"/>
              <a:ext cx="61452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24000" y="1268280"/>
              <a:ext cx="611964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В преддверии великого праздника на уроках литературы учащиеся 8 «Б» и 8 «В» классов писали сочинение «Письмо Неизвестному Солдату». Оформили свои сочинения ребята необычно – из тетрадных листков свернули </a:t>
              </a: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письма-треугольники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. Для того, чтобы побольше узнать о фронтовых письмах, ребята посетили краеведческий музей. Директор музея Е. В. Кочнева показала учащимся фронтовые письма-треугольники, хранящиеся в музее, рассказала об их  исторической важности. Ну а уже в школе, на уроке в своих « треугольниках»  ученики 8 Б и В классов обратились со словами благодарности к </a:t>
              </a:r>
              <a:r>
                <a:rPr b="1" lang="ru-RU" sz="1100" spc="-1" strike="noStrike">
                  <a:solidFill>
                    <a:srgbClr val="c00000"/>
                  </a:solidFill>
                  <a:latin typeface="Calibri"/>
                </a:rPr>
                <a:t>Неизвестному солдату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, написали теплые слова и  поэтические строки…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Picture 21" descr="http://victory.sokolniki.com/EditorFiles/image/Material/ba7eb8f48230bd570ef3b8593c09c03b.jpg"/>
          <p:cNvPicPr/>
          <p:nvPr/>
        </p:nvPicPr>
        <p:blipFill>
          <a:blip r:embed="rId3"/>
          <a:stretch/>
        </p:blipFill>
        <p:spPr>
          <a:xfrm>
            <a:off x="6443640" y="981000"/>
            <a:ext cx="15843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05" name="Прямоугольник 23"/>
          <p:cNvGrpSpPr/>
          <p:nvPr/>
        </p:nvGrpSpPr>
        <p:grpSpPr>
          <a:xfrm>
            <a:off x="676440" y="109440"/>
            <a:ext cx="8076960" cy="1292400"/>
            <a:chOff x="676440" y="109440"/>
            <a:chExt cx="8076960" cy="1292400"/>
          </a:xfrm>
        </p:grpSpPr>
        <p:pic>
          <p:nvPicPr>
            <p:cNvPr id="506" name="Прямоугольник 23" descr=""/>
            <p:cNvPicPr/>
            <p:nvPr/>
          </p:nvPicPr>
          <p:blipFill>
            <a:blip r:embed="rId4"/>
            <a:stretch/>
          </p:blipFill>
          <p:spPr>
            <a:xfrm>
              <a:off x="676440" y="109440"/>
              <a:ext cx="807696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84360" y="115920"/>
              <a:ext cx="80643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c00000"/>
                  </a:solidFill>
                  <a:latin typeface="Bookman Old Style"/>
                </a:rPr>
                <a:t> </a:t>
              </a:r>
              <a:r>
                <a:rPr b="1" lang="ru-RU" sz="1100" spc="-1" strike="noStrike">
                  <a:solidFill>
                    <a:srgbClr val="c00000"/>
                  </a:solidFill>
                  <a:latin typeface="Bookman Old Style"/>
                </a:rPr>
                <a:t>ПИСЬМО НЕИЗВЕСТНОМУ СОЛДА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Письма с фронта до сих пор бережно хранят во многих семьях. У каждого треугольника своя история: счастливая или печальная. Бывало и так, что иногда весточка с фронта о том, что родной человек жив-здоров, приходила после страшного казенного конверта. А матери и жены верили: похоронка пришла по ошибке. И ждали — годами, десятилетиями.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Письма с фронтов Великой Отечественной войны — документы огромной силы. В пропахших порохом строках — дыхание войны, грубость суровых окопных будней, нежность солдатского сердца, вера в Победу…</a:t>
              </a:r>
              <a:br>
                <a:rPr sz="1100"/>
              </a:b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Прямоугольник 30"/>
          <p:cNvGrpSpPr/>
          <p:nvPr/>
        </p:nvGrpSpPr>
        <p:grpSpPr>
          <a:xfrm>
            <a:off x="171360" y="4071960"/>
            <a:ext cx="2247840" cy="2475000"/>
            <a:chOff x="171360" y="4071960"/>
            <a:chExt cx="2247840" cy="2475000"/>
          </a:xfrm>
        </p:grpSpPr>
        <p:pic>
          <p:nvPicPr>
            <p:cNvPr id="509" name="Прямоугольник 30" descr=""/>
            <p:cNvPicPr/>
            <p:nvPr/>
          </p:nvPicPr>
          <p:blipFill>
            <a:blip r:embed="rId5"/>
            <a:stretch/>
          </p:blipFill>
          <p:spPr>
            <a:xfrm>
              <a:off x="171360" y="4071960"/>
              <a:ext cx="22478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179280" y="4076640"/>
              <a:ext cx="223200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ru-RU" sz="1100" spc="-1" strike="noStrike">
                  <a:solidFill>
                    <a:srgbClr val="ff0000"/>
                  </a:solidFill>
                  <a:latin typeface="Calibri"/>
                </a:rPr>
                <a:t>**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Я с тобой совсем не знаком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0000"/>
                  </a:solidFill>
                  <a:latin typeface="Calibri"/>
                </a:rPr>
                <a:t>Неизвестный солдат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Но сквозь эхо времен и боль все же рад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Что могу написать тебе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0000"/>
                  </a:solidFill>
                  <a:latin typeface="Calibri"/>
                </a:rPr>
                <a:t>Неизвестный солдат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Что не зря ты прошел сквозь кромешный ад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Что живу и учусь я в стране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Честь которой ТЫ отстоял в войне!!!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Багрова Кристина, 8 «Б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" name="Picture 28" descr="C:\Users\Дмитрий\Desktop\imagesRHUKKOET.jpg"/>
          <p:cNvPicPr/>
          <p:nvPr/>
        </p:nvPicPr>
        <p:blipFill>
          <a:blip r:embed="rId6"/>
          <a:stretch/>
        </p:blipFill>
        <p:spPr>
          <a:xfrm>
            <a:off x="2124000" y="4869000"/>
            <a:ext cx="647640" cy="79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1" descr="C:\Users\Дмитрий\Desktop\IMG_20140423_104103663.jpg"/>
          <p:cNvPicPr/>
          <p:nvPr/>
        </p:nvPicPr>
        <p:blipFill>
          <a:blip r:embed="rId7"/>
          <a:stretch/>
        </p:blipFill>
        <p:spPr>
          <a:xfrm>
            <a:off x="324000" y="2637000"/>
            <a:ext cx="2232000" cy="143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3" name="Picture 33" descr="C:\Users\Дмитрий\Desktop\IMG_20140421_105552001.jpg"/>
          <p:cNvPicPr/>
          <p:nvPr/>
        </p:nvPicPr>
        <p:blipFill>
          <a:blip r:embed="rId8"/>
          <a:stretch/>
        </p:blipFill>
        <p:spPr>
          <a:xfrm>
            <a:off x="6659640" y="1916280"/>
            <a:ext cx="1944720" cy="14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4" name="Picture 36" descr="C:\Users\Дмитрий\Desktop\1304868971_rrrsr.png"/>
          <p:cNvPicPr/>
          <p:nvPr/>
        </p:nvPicPr>
        <p:blipFill>
          <a:blip r:embed="rId9"/>
          <a:stretch/>
        </p:blipFill>
        <p:spPr>
          <a:xfrm>
            <a:off x="7451640" y="0"/>
            <a:ext cx="2097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5" name="Rectangle 37"/>
          <p:cNvGrpSpPr/>
          <p:nvPr/>
        </p:nvGrpSpPr>
        <p:grpSpPr>
          <a:xfrm>
            <a:off x="2693880" y="2505240"/>
            <a:ext cx="2603520" cy="3938400"/>
            <a:chOff x="2693880" y="2505240"/>
            <a:chExt cx="2603520" cy="3938400"/>
          </a:xfrm>
        </p:grpSpPr>
        <p:pic>
          <p:nvPicPr>
            <p:cNvPr id="516" name="Rectangle 37" descr=""/>
            <p:cNvPicPr/>
            <p:nvPr/>
          </p:nvPicPr>
          <p:blipFill>
            <a:blip r:embed="rId10"/>
            <a:stretch/>
          </p:blipFill>
          <p:spPr>
            <a:xfrm>
              <a:off x="2693880" y="2505240"/>
              <a:ext cx="2603520" cy="39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700360" y="2583720"/>
              <a:ext cx="259236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c00000"/>
                  </a:solidFill>
                  <a:latin typeface="Bookman Old Style"/>
                </a:rPr>
                <a:t>Имя твое неизвестно, подвиг твой бессмертен!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Дорогой солдат, я обращаюсь к тебе из «прекрасного далека»- из 2014 года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Вот уже 69 лет над нашей страной мирное небо, люди живут и работают, не слыша выстрелов, не зная, что такое похоронк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Ты погиб за нас, за наше светлое будущее! Ты боролся с фашистскими захватчиками, победил эту страшную нечисть, избавив нас, твоих потомков, от враг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Низкий поклон тебе, неизвестный солдат, за твой великий подвиг! В этом году , как и в прошлом, 9 мая мы будем возлагать цветы к мемориалу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Мы чтим и помним, гордимся и любим! </a:t>
              </a:r>
              <a:r>
                <a:rPr b="1" lang="ru-RU" sz="1100" spc="-1" strike="noStrike">
                  <a:solidFill>
                    <a:srgbClr val="c00000"/>
                  </a:solidFill>
                  <a:latin typeface="Calibri"/>
                </a:rPr>
                <a:t>Слава тебе, неизвестный солдат! Слава!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1" lang="ru-RU" sz="1100" spc="-1" strike="noStrike">
                  <a:solidFill>
                    <a:srgbClr val="333333"/>
                  </a:solidFill>
                  <a:latin typeface="Calibri"/>
                </a:rPr>
                <a:t>Чужикова Анастасия , 8 «В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Rectangle 38"/>
          <p:cNvGrpSpPr/>
          <p:nvPr/>
        </p:nvGrpSpPr>
        <p:grpSpPr>
          <a:xfrm>
            <a:off x="5864400" y="3949560"/>
            <a:ext cx="2676240" cy="2311560"/>
            <a:chOff x="5864400" y="3949560"/>
            <a:chExt cx="2676240" cy="2311560"/>
          </a:xfrm>
        </p:grpSpPr>
        <p:pic>
          <p:nvPicPr>
            <p:cNvPr id="519" name="Rectangle 38" descr=""/>
            <p:cNvPicPr/>
            <p:nvPr/>
          </p:nvPicPr>
          <p:blipFill>
            <a:blip r:embed="rId11"/>
            <a:stretch/>
          </p:blipFill>
          <p:spPr>
            <a:xfrm>
              <a:off x="5864400" y="3949560"/>
              <a:ext cx="267624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867280" y="3970080"/>
              <a:ext cx="266544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0000"/>
                  </a:solidFill>
                  <a:latin typeface="Calibri"/>
                </a:rPr>
                <a:t>**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Я пишу </a:t>
              </a:r>
              <a:r>
                <a:rPr b="1" lang="ru-RU" sz="1100" spc="-1" strike="noStrike">
                  <a:solidFill>
                    <a:srgbClr val="c00000"/>
                  </a:solidFill>
                  <a:latin typeface="Calibri"/>
                </a:rPr>
                <a:t>письмо солдату</a:t>
              </a:r>
              <a:r>
                <a:rPr b="0" lang="ru-RU" sz="1100" spc="-1" strike="noStrike">
                  <a:solidFill>
                    <a:srgbClr val="c00000"/>
                  </a:solidFill>
                  <a:latin typeface="Calibri"/>
                </a:rPr>
                <a:t>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В прошлое письмо!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В благодарность адреса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Я скажу одно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« Я надеюсь, в новой жизни, жизни без войны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Будут русские потомки  памяти верны!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ru-RU" sz="1100" spc="-1" strike="noStrike">
                  <a:solidFill>
                    <a:srgbClr val="c00000"/>
                  </a:solidFill>
                  <a:latin typeface="Calibri"/>
                </a:rPr>
                <a:t>Не забыт великий подвиг </a:t>
              </a:r>
              <a:r>
                <a:rPr b="0" lang="ru-RU" sz="1100" spc="-1" strike="noStrike">
                  <a:solidFill>
                    <a:srgbClr val="c00000"/>
                  </a:solidFill>
                  <a:latin typeface="Calibri"/>
                </a:rPr>
                <a:t>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Не забыт герой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Тот, который обеспечил нам сейчас покой!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33333"/>
                  </a:solidFill>
                  <a:latin typeface="Calibri"/>
                </a:rPr>
                <a:t>Филиппов Юрий, 8 «В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32" descr="C:\Users\Дмитрий\Desktop\Dup(01)IMG_20140421_105627863.jpg"/>
          <p:cNvPicPr/>
          <p:nvPr/>
        </p:nvPicPr>
        <p:blipFill>
          <a:blip r:embed="rId12"/>
          <a:stretch/>
        </p:blipFill>
        <p:spPr>
          <a:xfrm>
            <a:off x="5508720" y="2781360"/>
            <a:ext cx="1800000" cy="1152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9" descr="C:\Users\Дмитрий\Desktop\5037721.jpg"/>
          <p:cNvPicPr/>
          <p:nvPr/>
        </p:nvPicPr>
        <p:blipFill>
          <a:blip r:embed="rId13"/>
          <a:stretch/>
        </p:blipFill>
        <p:spPr>
          <a:xfrm>
            <a:off x="5219640" y="3573360"/>
            <a:ext cx="1513080" cy="122400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52" descr="imagesSXSDN7G0.jpg"/>
          <p:cNvPicPr/>
          <p:nvPr/>
        </p:nvPicPr>
        <p:blipFill>
          <a:blip r:embed="rId14"/>
          <a:stretch/>
        </p:blipFill>
        <p:spPr>
          <a:xfrm>
            <a:off x="0" y="0"/>
            <a:ext cx="1116000" cy="5493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53" descr="e00d88c4735b1fd10b6e89ff0cc9c519.jpg"/>
          <p:cNvPicPr/>
          <p:nvPr/>
        </p:nvPicPr>
        <p:blipFill>
          <a:blip r:embed="rId15"/>
          <a:stretch/>
        </p:blipFill>
        <p:spPr>
          <a:xfrm>
            <a:off x="5219640" y="537372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54" descr="0_8d3e9_f2797b9_L.png"/>
          <p:cNvPicPr/>
          <p:nvPr/>
        </p:nvPicPr>
        <p:blipFill>
          <a:blip r:embed="rId16"/>
          <a:stretch/>
        </p:blipFill>
        <p:spPr>
          <a:xfrm>
            <a:off x="8388360" y="0"/>
            <a:ext cx="611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19"/>
          <p:cNvSpPr/>
          <p:nvPr/>
        </p:nvSpPr>
        <p:spPr>
          <a:xfrm>
            <a:off x="1214280" y="0"/>
            <a:ext cx="271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Прямая соединительная линия 4"/>
          <p:cNvSpPr/>
          <p:nvPr/>
        </p:nvSpPr>
        <p:spPr>
          <a:xfrm flipH="1">
            <a:off x="-1440" y="1440"/>
            <a:ext cx="288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8"/>
          <p:cNvSpPr/>
          <p:nvPr/>
        </p:nvSpPr>
        <p:spPr>
          <a:xfrm>
            <a:off x="0" y="6858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10"/>
          <p:cNvSpPr/>
          <p:nvPr/>
        </p:nvSpPr>
        <p:spPr>
          <a:xfrm>
            <a:off x="0" y="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12"/>
          <p:cNvSpPr/>
          <p:nvPr/>
        </p:nvSpPr>
        <p:spPr>
          <a:xfrm flipH="1">
            <a:off x="9142560" y="1440"/>
            <a:ext cx="288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"/>
          <p:cNvSpPr/>
          <p:nvPr/>
        </p:nvSpPr>
        <p:spPr>
          <a:xfrm>
            <a:off x="0" y="0"/>
            <a:ext cx="33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9"/>
          <p:cNvSpPr/>
          <p:nvPr/>
        </p:nvSpPr>
        <p:spPr>
          <a:xfrm>
            <a:off x="4500720" y="4572000"/>
            <a:ext cx="4786200" cy="60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7:55:05Z</dcterms:created>
  <dc:creator>talla</dc:creator>
  <dc:description/>
  <dc:language>en-US</dc:language>
  <cp:lastModifiedBy>Дмитрий</cp:lastModifiedBy>
  <dcterms:modified xsi:type="dcterms:W3CDTF">2015-01-18T16:30:32Z</dcterms:modified>
  <cp:revision>189</cp:revision>
  <dc:subject/>
  <dc:title>Cоциальный  проект   «МОИ ОЛИМПИЙСКИЕ   ИГРЫ»</dc:title>
</cp:coreProperties>
</file>