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355-8BE3-4FA2-A58E-0F7240C4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B32-0D70-4256-B1DE-8CA67C63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978-3D97-46A2-A64B-100E1DFF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805-FD08-4244-823E-2D7FF4EB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DBE-2AAA-4F08-B868-4334C786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99C-7105-4D18-AB00-556F5CED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99A-C22B-47FD-84A8-B5DC0ACD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11E-F74C-457A-96B2-23294492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F65-A9B8-48E4-8838-8A8015D0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E02-A175-4FCA-B841-FB7874B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0AB-E32B-47BD-82D5-C6767699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A4F-1751-4BF9-928B-406DE38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D6DA-E705-4C54-B8C9-7591A9455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33cc"/>
                </a:solidFill>
                <a:latin typeface="Times New Roman"/>
              </a:rPr>
              <a:t>Поздравительная открытка</a:t>
            </a:r>
            <a:r>
              <a:rPr b="0" i="1" lang="en-US" sz="6000" spc="-1" strike="noStrike">
                <a:solidFill>
                  <a:srgbClr val="0033cc"/>
                </a:solidFill>
                <a:latin typeface="Times New Roman"/>
              </a:rPr>
              <a:t> </a:t>
            </a:r>
            <a:br>
              <a:rPr sz="6000"/>
            </a:br>
            <a:r>
              <a:rPr b="0" i="1" lang="en-US" sz="8000" spc="-1" strike="noStrike">
                <a:solidFill>
                  <a:srgbClr val="ff0066"/>
                </a:solidFill>
                <a:latin typeface="Times New Roman"/>
              </a:rPr>
              <a:t>к 8 Мар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64000" y="5733720"/>
            <a:ext cx="34164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Разработка учителя начальных классов Шубиной Н.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524720" cy="4426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м понадоби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4869000"/>
            <a:ext cx="6119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ной кар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леная бум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лфетки синего, голубого, фиолетового, розового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ьбомный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отовь дет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5444640"/>
            <a:ext cx="799308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ежь салфетку на маленькие квад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ежи  3 основы из альбомного листа для ки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1136520"/>
            <a:ext cx="8351640" cy="4008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людая последовательность, изготовь цветок. Приклей его к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32000" y="3973680"/>
            <a:ext cx="3024000" cy="27478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932360" y="3957480"/>
            <a:ext cx="2952720" cy="27943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79280" y="1197000"/>
            <a:ext cx="2880000" cy="2663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203640" y="1197000"/>
            <a:ext cx="2879640" cy="266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6191280" y="1197000"/>
            <a:ext cx="2952720" cy="2649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им же способом изготовь 3 к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4228800">
            <a:off x="85320" y="2082600"/>
            <a:ext cx="4208400" cy="31575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64000" y="1584360"/>
            <a:ext cx="4968720" cy="38145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4434120" cy="6048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5435640" y="2708280"/>
            <a:ext cx="35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ртоне нарисуй вето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лей к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готовь листья из зеленой бума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384720" cy="2046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48000" y="1628640"/>
            <a:ext cx="2195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и «гармош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лей белые стран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рисуй контур половинки листа, учитывая место сг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режи по кон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клей в задуманн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2950920" cy="2157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924360" y="2997360"/>
            <a:ext cx="2914560" cy="217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195640" y="4941720"/>
            <a:ext cx="2557440" cy="1725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780000" y="765000"/>
            <a:ext cx="3170160" cy="2087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940360" y="1844640"/>
            <a:ext cx="28083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цветном картоне   нарисуй ве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ожи кисти сирени к картону в задуманн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клей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ые листочки приклей к осн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394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ери откры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4487760" cy="6381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5:22:28Z</dcterms:created>
  <dc:creator>GEG</dc:creator>
  <dc:description/>
  <dc:language>en-US</dc:language>
  <cp:lastModifiedBy>User</cp:lastModifiedBy>
  <dcterms:modified xsi:type="dcterms:W3CDTF">2012-01-23T19:12:15Z</dcterms:modified>
  <cp:revision>5</cp:revision>
  <dc:subject/>
  <dc:title>Поздравительная открытка к 8 Марта</dc:title>
</cp:coreProperties>
</file>