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EEB-DADB-4B0C-919E-96BE7C68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9EF-6810-4110-B4B5-E809A3F2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09A-4732-4528-BA14-131DD494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8A8-C72C-47F2-B728-25976BDA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F053-95FA-4047-B786-3DE0C85A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DCE1-23FE-4E52-9FB9-9F1A6ADB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B70A-6FA9-4D8D-9258-AF6765C1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FDBA-CDC3-4D86-83CD-721FE2CE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9403-3916-464A-BC75-2D7B7686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A460-DAB3-404F-A60E-D978DF68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42BE-BAE8-4A1B-B47A-7C872DB8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2EA-D0B9-4F72-849A-960A27A0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9AE9-3D38-4246-89C9-906B4E2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2FAE-6309-419D-A4BE-E6DAEA2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744D-A5A2-43D1-BDF7-9AAF3C31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7A86-43D6-472B-9418-D5CADA53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30E4-95A0-4AF5-8327-FE00D12E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3378-D46B-4551-889B-BB6B53BF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633A-4D7A-4079-B621-94C62F3C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CA43-CC7A-43D1-95C6-E7DEDD9C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3796-DF06-4CD1-8880-E3CC0935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953F-4DB8-4EBD-A7E6-EF135D49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A85-FFFC-43B1-8D34-7BFD36B3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D17CD-71C8-43A2-8BA7-833FDB05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FCD41-BF55-44C7-B694-27B3CFB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86D2-51FA-4032-BD86-49454125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60F3-A55B-4BBD-9771-61BC18EF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BDFC-21DF-45EC-BFF7-31FF7CC0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2B4B-B839-44DA-A6B4-46AA3B02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F084-5231-4D20-A0D4-91984B4A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9BD-C858-4777-90E2-169879C4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EC9-C9C1-4512-AD23-787CFF82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929-C6CE-49A3-AE87-EE3A0B07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67F-7E12-47B4-A3EC-A5A5C79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6D6-5CAC-44EC-8E06-5D32C092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4C3-44BA-4455-9B06-AF3EB2FF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4841-60C1-4AA7-93F2-B2A7C63CF5F7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orizon.png"/>
          <p:cNvPicPr/>
          <p:nvPr/>
        </p:nvPicPr>
        <p:blipFill>
          <a:blip r:embed="rId3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0FA5-5756-4A4E-9916-D14A9E5133D4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orizon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25FB-61E4-4B81-A62B-885A6B916E5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Narrow"/>
              </a:rPr>
              <a:t>притч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676908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«РАСКАЯНИЕ ОТЦА»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У. ЛИВИНГСТОН ЛАРНЕ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0" name="раскаяние отца..mp3" descr=""/>
          <p:cNvPicPr/>
          <p:nvPr/>
        </p:nvPicPr>
        <p:blipFill>
          <a:blip r:embed="rId1"/>
          <a:stretch/>
        </p:blipFill>
        <p:spPr>
          <a:xfrm>
            <a:off x="8317080" y="60404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25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то слабое искупление. Я знаю, ты не понял бы этих вещей, если бы я тебе сказал все это, когда ты проснешься. Но завтра я буду настоящим отцом! Я буду дружить с тобой, страдать, когда ты страдаешь, и смеяться, когда ты смеешься. Я прикушу свой язык, когда с него будет готово сорваться раздраженное слово. Я постоянно буду повторять как заклинание: «Он ведь только мальчик, маленький мальчик!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1" name="Picture 6" descr="http://www.bb59.ru/userfiles/Image/deti5.jpg"/>
          <p:cNvPicPr/>
          <p:nvPr/>
        </p:nvPicPr>
        <p:blipFill>
          <a:blip r:embed="rId1"/>
          <a:stretch/>
        </p:blipFill>
        <p:spPr>
          <a:xfrm>
            <a:off x="1835280" y="2492280"/>
            <a:ext cx="5543280" cy="381024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pull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20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Боюсь, что я мысленно видел в тебе взрослого мужчину. Однако сейчас, когда я вижу тебя, сын, устало съежившегося в твоей кроватке, я понимаю, что ты еще ребенок. Еще вчера ты был на руках у матери, и головка твоя лежала на ее плече. Я требовал слишком многого, слишком многого»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6480360" cy="440676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pull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4391280" cy="3255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hecker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601640" y="1413000"/>
            <a:ext cx="5940720" cy="2303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22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ак горько бывает спустя годы осознавать, что золотые минуты общения с собственным ребёнком были потрачены на раздражённые замечания и пропахшие нафталином нотации…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2" name="Объект 4" descr=""/>
          <p:cNvPicPr/>
          <p:nvPr/>
        </p:nvPicPr>
        <p:blipFill>
          <a:blip r:embed="rId1"/>
          <a:stretch/>
        </p:blipFill>
        <p:spPr>
          <a:xfrm>
            <a:off x="1481040" y="2492280"/>
            <a:ext cx="573588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264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«Послушай, сын. Я произношу эти слова в то время, когда ты спишь; твоя маленькая рука подложена под щечку, а вьющиеся белокурые волосы слиплись на влажном лбу. Я один прокрался в твою комнату. Несколько минут назад, когда я сидел в библиотеке и читал газету, на меня нахлынула тяжелая волна раскаяния. Я пришел к твоей кроватке с сознанием своей вин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4" name="Picture 5" descr="http://img-fotki.yandex.ru/get/3411/chadeyka.2f/0_29220_a33cbd41_XL.jpg"/>
          <p:cNvPicPr/>
          <p:nvPr/>
        </p:nvPicPr>
        <p:blipFill>
          <a:blip r:embed="rId1"/>
          <a:stretch/>
        </p:blipFill>
        <p:spPr>
          <a:xfrm>
            <a:off x="1547640" y="2565360"/>
            <a:ext cx="5715000" cy="356256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от о чем я думал, сын: я сорвал на тебе свое плохое настроение. Я выбранил тебя, когда ты одевался, чтобы идти в школу, так как ты только прикоснулся к своему лицу мокрым полотенцем. Я отчитал тебя за то, что ты не почистил ботинки. Я сердито закричал на тебя, когда ты бросил что-то из своей одежды на пол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032000" cy="403236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pull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20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 завтраком я тоже к тебе придирался. Ты пролил чай. Ты жадно глотал пищу. Ты положил локти на стол. Ты слишком густо намазал хлеб маслом. А затем, когда ты отправился поиграть, а я торопился на поезд, ты обернулся, помахал мне рукой и крикнул: «До свиданья, папа!» - я же нахмурил брови и отвечал: «Распрями плечи!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79280" y="2203560"/>
            <a:ext cx="2741760" cy="172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062160" cy="244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2771640" y="1954080"/>
            <a:ext cx="3348000" cy="442908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19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тем в конце дня, все началось снова. Идя по дороге домой, я заметил тебя, когда ты на коленях играл в шарики. На твоих чулках были дыры. Я унизил тебя перед твоими товарищами, заставив идти домой впереди меня. Чулки дорого стоят – и если бы ты должен был покупать их на собственные деньги, то был бы более аккуратным! Вообрази только, сын, что это говорил твой отец!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2" name="Picture 5" descr="http://pp.userapi.com/c418317/v418317383/2e15/24oKLwCMOS8.jpg"/>
          <p:cNvPicPr/>
          <p:nvPr/>
        </p:nvPicPr>
        <p:blipFill>
          <a:blip r:embed="rId1"/>
          <a:stretch/>
        </p:blipFill>
        <p:spPr>
          <a:xfrm>
            <a:off x="1979640" y="2421000"/>
            <a:ext cx="4572000" cy="400032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32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мнишь, как ты вошел затем в библиотеку, где я читал, - робко, с болью во взгляде? Когда я мельком взглянул на тебя поверх газеты, раздраженный тем, что мне помешали, ты в нерешительности остановился у двери. «Что тебе нужно?», - резко спросил я.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Ты ничего не ответил, но порывисто бросился ко мне, обнял за шею и поцеловал. Твои ручки сжали меня с любовью, которую бог вложил в твое сердце, и которую даже мое пренебрежительное отношение не смогло иссушить. А затем ты ушел, семеня ножками, вверх по лестниц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419640" y="3068640"/>
            <a:ext cx="5003640" cy="349236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pull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25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Так вот, сын, вскоре после этого газета выскользнула из моих рук, и мною овладел ужасный, тошнотворный страх. Что со мною сделала привычка? Привычка придираться, распекать – такова была моя награда тебе за то, что ты маленький мальчик. Нельзя ведь сказать, что я не любил тебя, все дело в том, что я ожидал слишком многого от юности и мерил тебя меркой своих собственных лет.   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6" name="Picture 5" descr="Эмоции..."/>
          <p:cNvPicPr/>
          <p:nvPr/>
        </p:nvPicPr>
        <p:blipFill>
          <a:blip r:embed="rId1"/>
          <a:stretch/>
        </p:blipFill>
        <p:spPr>
          <a:xfrm>
            <a:off x="2340000" y="2565360"/>
            <a:ext cx="3887640" cy="388800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25040" cy="23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А в твоем характере так много здорового, прекрасного и искреннего. Твое маленькое сердце столь же велико, как рассвет над далекими холмами. Это проявилось в твоем стихийном порыве, когда ты бросился ко мне, чтобы поцеловать меня перед отходом ко сну. Ничто другое не имеет сегодня значения, сын. Я пришел к твоей кроватке в темноте и, пристыженный, преклонил перед тобой колени!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5" descr="http://img-fotki.yandex.ru/get/4811/46560850.8/0_5efda_9fb2f276_XL"/>
          <p:cNvPicPr/>
          <p:nvPr/>
        </p:nvPicPr>
        <p:blipFill>
          <a:blip r:embed="rId1"/>
          <a:stretch/>
        </p:blipFill>
        <p:spPr>
          <a:xfrm>
            <a:off x="352440" y="2565360"/>
            <a:ext cx="4967280" cy="3726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" descr="http://www.poetryclub.com.ua/upload/poem_all/00266756.jpg"/>
          <p:cNvPicPr/>
          <p:nvPr/>
        </p:nvPicPr>
        <p:blipFill>
          <a:blip r:embed="rId2"/>
          <a:stretch/>
        </p:blipFill>
        <p:spPr>
          <a:xfrm>
            <a:off x="3708360" y="3141720"/>
            <a:ext cx="4967280" cy="340992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11:33:25Z</dcterms:created>
  <dc:creator>Admin</dc:creator>
  <dc:description/>
  <dc:language>en-US</dc:language>
  <cp:lastModifiedBy>Tanya</cp:lastModifiedBy>
  <dcterms:modified xsi:type="dcterms:W3CDTF">2014-01-13T14:02:51Z</dcterms:modified>
  <cp:revision>7</cp:revision>
  <dc:subject/>
  <dc:title>Презентация PowerPoint</dc:title>
</cp:coreProperties>
</file>