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click.wav" ContentType="audio/x-wav"/>
  <Override PartName="/ppt/media/image7.png" ContentType="image/png"/>
  <Override PartName="/ppt/media/image12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5A3E-CC28-4814-8131-94869E082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22ED-9B0F-4CA4-8988-AD18E3A12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C27F-23D4-4849-BDA6-29788F170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8D4E-03DE-40CC-B5FF-324A9AFA1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3CD7-8648-44D1-8F69-EFE469992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850E-4E26-4120-91A8-646BE2675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3F17-9785-47D0-8462-E9C19859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DD05-7D4A-42B7-8109-093E015A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0A60-84E1-440F-9946-5BDB03E8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6138-8859-47D5-BEC0-1B2BDFDCF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7BCB-0F8D-495E-9A56-7D696BBF3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3073-2EBB-4B8A-A27F-7C5AAC32F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461CB-7CFB-4430-8EE6-E9B7C480C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CCA92-93F7-4C2D-A86B-ED129A15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FF3D0-51A5-4B24-9FEF-92AEBD476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5CEB1-E124-4658-8880-27AC71E09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75E04-8134-422D-AAC8-02D2DD908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FE46B-6CE7-492E-BD4F-934733470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2A4C8-B1AD-4AD0-8093-E6D71A9C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692C1-8886-4655-B459-1B330C65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28AD6-6570-41E3-85F8-8734D723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A6907-2F6A-4A25-A3CE-F5066BEAD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E6220-B8E1-4703-B5A7-2346A1D89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9E09B-EEB6-4617-84A4-7AB71AF24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Rectangle 3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11" name="Rectangle 13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14" name="Rectangle 16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" name="Group 18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17" name="Rectangle 19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735480" indent="-28296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113148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158400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58" name="Rectangle 3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Rectangle 4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Rectangle 5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Rectangle 6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Rectangle 7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Rectangle 8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Group 9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65" name="Rectangle 10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Oval 11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Group 12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68" name="Rectangle 13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Oval 14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Group 15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71" name="Rectangle 16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Oval 17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Group 18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74" name="Rectangle 19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Oval 20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735480" indent="-28296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113148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158400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F0E55-EC73-4274-B30C-19798D391044}" type="slidenum"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18" name="Rectangle 3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4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Rectangle 5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6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Rectangle 7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8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" name="Group 9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125" name="Rectangle 10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Oval 11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Group 12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128" name="Rectangle 13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Oval 14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Group 15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131" name="Rectangle 16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Oval 17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Group 18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134" name="Rectangle 19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Oval 20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735480" indent="-28296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113148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158400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569C5-CDC1-42B9-A74D-AFD4EB570F2F}" type="slidenum"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audio" Target="../media/click.wav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2"/>
          <p:cNvPicPr/>
          <p:nvPr/>
        </p:nvPicPr>
        <p:blipFill>
          <a:blip r:embed="rId1"/>
          <a:stretch/>
        </p:blipFill>
        <p:spPr>
          <a:xfrm>
            <a:off x="324000" y="333360"/>
            <a:ext cx="4914720" cy="6192720"/>
          </a:xfrm>
          <a:prstGeom prst="rect">
            <a:avLst/>
          </a:prstGeom>
          <a:ln w="0">
            <a:noFill/>
          </a:ln>
        </p:spPr>
      </p:pic>
      <p:sp>
        <p:nvSpPr>
          <p:cNvPr id="178" name="WordArt 6"/>
          <p:cNvSpPr txBox="1"/>
          <p:nvPr/>
        </p:nvSpPr>
        <p:spPr>
          <a:xfrm>
            <a:off x="5286240" y="2708280"/>
            <a:ext cx="2232000" cy="17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4714920" y="928800"/>
            <a:ext cx="414324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Times New Roman"/>
              </a:rPr>
              <a:t>ТЕМА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Работа с лупой 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микроскопо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  <p:sndAc>
      <p:stSnd>
        <p:snd r:embed="rId2" name="click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 Narrow"/>
              </a:rPr>
              <a:t>Микропрепарат клеток 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 Narrow"/>
              </a:rPr>
              <a:t>кожицы лука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97" name="Picture 4" descr="мп клеток кожицы лука фото"/>
          <p:cNvPicPr/>
          <p:nvPr/>
        </p:nvPicPr>
        <p:blipFill>
          <a:blip r:embed="rId1"/>
          <a:stretch/>
        </p:blipFill>
        <p:spPr>
          <a:xfrm>
            <a:off x="1071720" y="2071800"/>
            <a:ext cx="7000560" cy="400032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2" name="click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685800" y="428760"/>
            <a:ext cx="7772400" cy="56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 Black"/>
              </a:rPr>
              <a:t>Закрепление знаний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С помощью каких приборов можно изучить строение клетки?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Как устроен световой микроскоп?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Каковы правила работы с микроскопом?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Опишите этапы приготовления микропрепарата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Что такое клетка?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Назовите органоиды растительной клетки?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>
    <p:cover dir="r"/>
    <p:sndAc>
      <p:stSnd>
        <p:snd r:embed="rId1" name="click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 Narrow"/>
              </a:rPr>
              <a:t>Значение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Клетка – целостная биологическая система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Из клеток состоят все растения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Клетка – основная структурная единица любого организма, обладающая  всеми признаками живого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Клетка -  единица размножения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>
    <p:cover dir="r"/>
    <p:sndAc>
      <p:stSnd>
        <p:snd r:embed="rId1" name="click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071720" y="571680"/>
            <a:ext cx="3066840" cy="4000320"/>
          </a:xfrm>
          <a:prstGeom prst="rect">
            <a:avLst/>
          </a:prstGeom>
          <a:ln w="0">
            <a:noFill/>
          </a:ln>
        </p:spPr>
      </p:pic>
      <p:sp>
        <p:nvSpPr>
          <p:cNvPr id="182" name="TextBox 5"/>
          <p:cNvSpPr/>
          <p:nvPr/>
        </p:nvSpPr>
        <p:spPr>
          <a:xfrm>
            <a:off x="786600" y="4857840"/>
            <a:ext cx="700056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еодор Шванн                                                            Матиас Шлейде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1839г. Клеточная теор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3" descr=""/>
          <p:cNvPicPr/>
          <p:nvPr/>
        </p:nvPicPr>
        <p:blipFill>
          <a:blip r:embed="rId2"/>
          <a:stretch/>
        </p:blipFill>
        <p:spPr>
          <a:xfrm>
            <a:off x="4857840" y="500040"/>
            <a:ext cx="3390840" cy="400068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3" name="click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71600" y="49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 Narrow"/>
              </a:rPr>
              <a:t>Клетка – структурная и функциональная единица всех живых организмов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1285920" y="2143080"/>
            <a:ext cx="6572160" cy="407196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2" name="click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 Narrow"/>
              </a:rPr>
              <a:t>Увеличительные приборы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87" name="Picture 4" descr="C:\Users\777\Desktop\Увеличительные приборы (Рисунок).png"/>
          <p:cNvPicPr/>
          <p:nvPr/>
        </p:nvPicPr>
        <p:blipFill>
          <a:blip r:embed="rId1"/>
          <a:stretch/>
        </p:blipFill>
        <p:spPr>
          <a:xfrm>
            <a:off x="714240" y="1571760"/>
            <a:ext cx="7715520" cy="464328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2" name="click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4"/>
          <p:cNvSpPr txBox="1"/>
          <p:nvPr/>
        </p:nvSpPr>
        <p:spPr>
          <a:xfrm>
            <a:off x="500040" y="2000160"/>
            <a:ext cx="828036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6633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абораторная работа</a:t>
            </a:r>
            <a:endParaRPr b="0" lang="en-US" sz="1800" spc="1" strike="noStrike">
              <a:ln w="28440">
                <a:solidFill>
                  <a:srgbClr val="6633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6633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роение клеток</a:t>
            </a:r>
            <a:endParaRPr b="0" lang="en-US" sz="1800" spc="1" strike="noStrike">
              <a:ln w="28440">
                <a:solidFill>
                  <a:srgbClr val="6633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6633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28440">
                  <a:solidFill>
                    <a:srgbClr val="6633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жицы лука</a:t>
            </a:r>
            <a:endParaRPr b="0" lang="en-US" sz="1800" spc="1" strike="noStrike">
              <a:ln w="28440">
                <a:solidFill>
                  <a:srgbClr val="663300"/>
                </a:solidFill>
                <a:miter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Цель работы: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изучить строение клетки, приготовить временный микропрепарат кожицы чешуи лука.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>
    <p:cover dir="r"/>
    <p:sndAc>
      <p:stSnd>
        <p:snd r:embed="rId8" name="click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0" y="304920"/>
            <a:ext cx="4191120" cy="9144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cc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6633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4000" spc="-1" strike="noStrike">
                <a:solidFill>
                  <a:srgbClr val="663300"/>
                </a:solidFill>
                <a:latin typeface="Arial Narrow"/>
              </a:rPr>
              <a:t>Оборудование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1640" y="1676520"/>
            <a:ext cx="4343400" cy="48765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cc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6633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Monotype Corsiva"/>
              </a:rPr>
              <a:t>- микроскоп</a:t>
            </a:r>
            <a:endParaRPr b="0" lang="en-US" sz="3000" spc="-1" strike="noStrike">
              <a:solidFill>
                <a:srgbClr val="000000"/>
              </a:solidFill>
              <a:latin typeface="Monotype Corsiva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Monotype Corsiva"/>
              </a:rPr>
              <a:t>-лук</a:t>
            </a:r>
            <a:endParaRPr b="0" lang="en-US" sz="3000" spc="-1" strike="noStrike">
              <a:solidFill>
                <a:srgbClr val="000000"/>
              </a:solidFill>
              <a:latin typeface="Monotype Corsiva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Monotype Corsiva"/>
              </a:rPr>
              <a:t>-лабораторное оборудование.</a:t>
            </a:r>
            <a:endParaRPr b="0" lang="en-US" sz="3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92" name="Picture 6" descr="уковица"/>
          <p:cNvPicPr/>
          <p:nvPr/>
        </p:nvPicPr>
        <p:blipFill>
          <a:blip r:embed="rId1"/>
          <a:stretch/>
        </p:blipFill>
        <p:spPr>
          <a:xfrm>
            <a:off x="457200" y="304920"/>
            <a:ext cx="3809880" cy="624816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  <p:transition>
    <p:cover dir="r"/>
    <p:sndAc>
      <p:stSnd>
        <p:snd r:embed="rId2" name="click.wav"/>
      </p:stSnd>
    </p:sndAc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685800" y="642600"/>
            <a:ext cx="7772400" cy="545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Ход работы: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marL="308520" indent="-308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1.При помощи пипетки капните на предметное стекло каплю воды.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2.С нижней поверхности чешуи лука снимите небольшой кусочек прозрачной кожицы и положите его на каплю воды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3.Накройте препарат покровным стеклом и удалите излишки влаги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4.Рассмотрите препарат под микроскопом.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5.Найдите в клетках клеточную оболочку, цитоплазму, ядро, вакуоль с клеточным соком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6.Зарисуйте в тетради строение клетки кожицы лука и подпишите ее основные части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7.Сделайте вывод о строении увиденных вами клеток.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08520" indent="-308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>
    <p:cover dir="r"/>
    <p:sndAc>
      <p:stSnd>
        <p:snd r:embed="rId1" name="click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3" descr="кожица_лука1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2" name="click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кожица_лука7"/>
          <p:cNvPicPr/>
          <p:nvPr/>
        </p:nvPicPr>
        <p:blipFill>
          <a:blip r:embed="rId1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2" name="click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4T16:30:00Z</dcterms:created>
  <dc:creator>Слюсарь Т.Д.</dc:creator>
  <dc:description/>
  <dc:language>en-US</dc:language>
  <cp:lastModifiedBy>777</cp:lastModifiedBy>
  <dcterms:modified xsi:type="dcterms:W3CDTF">2014-12-14T17:40:16Z</dcterms:modified>
  <cp:revision>21</cp:revision>
  <dc:subject>Клетка</dc:subject>
  <dc:title>Растительная клетка и ее жизнедеятельность</dc:title>
</cp:coreProperties>
</file>