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26D8-BE8D-454C-BC6A-E05E5833C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A894-1D29-443F-933B-64762899B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783B-05E8-4A0A-A172-D01DF3851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9222-F79C-4E72-8779-4A58F0C38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8EED-E004-44B2-A3F0-40B8EA421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4A9C-0D56-4794-B780-AC8357BD9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FFC0-3841-4D58-BE78-CB1C40FD6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47F0-BA77-4F8B-B21B-15A80C873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F186-A59D-479C-9D6F-14E7C3FD3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3748-7159-44B4-BBAE-75921817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A969-8CAA-4D9D-9558-1A81CFDD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B316-8B71-4403-AF6F-542B228C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A31A7-2556-49B5-A818-33D63517F12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8588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АДОУ ЦРР Д/С № 23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Исследовательская работа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276360" y="1557360"/>
            <a:ext cx="608652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ема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«Воздух - невидимка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13"/>
          <p:cNvSpPr/>
          <p:nvPr/>
        </p:nvSpPr>
        <p:spPr>
          <a:xfrm>
            <a:off x="4535640" y="4221000"/>
            <a:ext cx="460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полнила: Мульдиярова Софья, 5 ле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уководитель: Аникович Н.Н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6" descr="C:\Users\user\Desktop\Новая папка\DSC01207.JPG"/>
          <p:cNvPicPr/>
          <p:nvPr/>
        </p:nvPicPr>
        <p:blipFill>
          <a:blip r:embed="rId2"/>
          <a:stretch/>
        </p:blipFill>
        <p:spPr>
          <a:xfrm>
            <a:off x="214200" y="1500120"/>
            <a:ext cx="30546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01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верка пятой гипотезы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здух нужен все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395280" y="1844640"/>
            <a:ext cx="3240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395280" y="1289160"/>
            <a:ext cx="3889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395280" y="1289160"/>
            <a:ext cx="8569440" cy="19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бы узнать верна ли эта гипотеза мы провели опыт: сделали глубокий вдох… затем выдохнули. Задержали дыхание и почувствовали, что без воздуха нам плохо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Мы пришли к выводу:  воздух нужен, чтобы дыша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7" descr="C:\Users\user\Desktop\Новая папка\DSC01205.JPG"/>
          <p:cNvPicPr/>
          <p:nvPr/>
        </p:nvPicPr>
        <p:blipFill>
          <a:blip r:embed="rId2"/>
          <a:stretch/>
        </p:blipFill>
        <p:spPr>
          <a:xfrm>
            <a:off x="5000760" y="3429000"/>
            <a:ext cx="4000320" cy="3000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C:\Users\user\Desktop\Новая папка\DSC01203.JPG"/>
          <p:cNvPicPr/>
          <p:nvPr/>
        </p:nvPicPr>
        <p:blipFill>
          <a:blip r:embed="rId3"/>
          <a:stretch/>
        </p:blipFill>
        <p:spPr>
          <a:xfrm>
            <a:off x="357120" y="3143160"/>
            <a:ext cx="410220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01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верка четвертой гипотезы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здух можем ощуща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395280" y="1844640"/>
            <a:ext cx="3240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395280" y="1413000"/>
            <a:ext cx="820908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махали веером и ладонью около лица, подули на ладонь и почувствовали ветеро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Делаем вывод: движение воздуха мы можем ощуща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6" descr="C:\Users\user\Desktop\Новая папка\DSC01199.JPG"/>
          <p:cNvPicPr/>
          <p:nvPr/>
        </p:nvPicPr>
        <p:blipFill>
          <a:blip r:embed="rId2"/>
          <a:stretch/>
        </p:blipFill>
        <p:spPr>
          <a:xfrm>
            <a:off x="285840" y="2786040"/>
            <a:ext cx="4190760" cy="3143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C:\Users\user\Desktop\Новая папка\DSC01202.JPG"/>
          <p:cNvPicPr/>
          <p:nvPr/>
        </p:nvPicPr>
        <p:blipFill>
          <a:blip r:embed="rId3"/>
          <a:stretch/>
        </p:blipFill>
        <p:spPr>
          <a:xfrm>
            <a:off x="4857840" y="3429000"/>
            <a:ext cx="40003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01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верка пятой гипотезы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здух нужен все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395280" y="1844640"/>
            <a:ext cx="3240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395280" y="1289160"/>
            <a:ext cx="3889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395280" y="1289160"/>
            <a:ext cx="856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е животные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ышат.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 наблюдала, как дышат мои собака и кошка после пробежки: пасть приоткрыта, длинный язык свешивается и шевелится в такт дыхани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Воздух необходим всему живом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(человеку, животным, птицам, растениям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без дыхания нет жизн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79280" y="3645000"/>
            <a:ext cx="3449880" cy="2374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572000" y="3645000"/>
            <a:ext cx="3598920" cy="23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42600" y="785880"/>
            <a:ext cx="8001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детском саду я рассказала детям про все свойства воздуха,  с которыми я познакомилась. И вместе с Натальей Николаевной мы создали мини - музей «Воздух», и назвали его «Воздух – невидимка». С помощью этого музея все ребята из моей группы смогут познакомиться со свойствами воздух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395280" y="1844640"/>
            <a:ext cx="3240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395280" y="1289160"/>
            <a:ext cx="3889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395280" y="1289160"/>
            <a:ext cx="85694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7" descr="C:\Users\user\Desktop\Новая папка\DSC01188.JPG"/>
          <p:cNvPicPr/>
          <p:nvPr/>
        </p:nvPicPr>
        <p:blipFill>
          <a:blip r:embed="rId2"/>
          <a:stretch/>
        </p:blipFill>
        <p:spPr>
          <a:xfrm>
            <a:off x="357120" y="2357280"/>
            <a:ext cx="2968560" cy="3959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D:\DCIM\103MSDCF\DSC01212.JPG"/>
          <p:cNvPicPr/>
          <p:nvPr/>
        </p:nvPicPr>
        <p:blipFill>
          <a:blip r:embed="rId3"/>
          <a:stretch/>
        </p:blipFill>
        <p:spPr>
          <a:xfrm>
            <a:off x="4500720" y="2357280"/>
            <a:ext cx="384480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ребят, мы так же с Натальей Николаевной сделали схемы про воздух, по которым они легко смогут вспомнить о свойствах воздух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Rectangle 3" descr=""/>
          <p:cNvPicPr/>
          <p:nvPr/>
        </p:nvPicPr>
        <p:blipFill>
          <a:blip r:embed="rId2"/>
          <a:stretch/>
        </p:blipFill>
        <p:spPr>
          <a:xfrm>
            <a:off x="250920" y="2205000"/>
            <a:ext cx="4392360" cy="3041640"/>
          </a:xfrm>
          <a:prstGeom prst="rect">
            <a:avLst/>
          </a:prstGeom>
          <a:ln w="0">
            <a:noFill/>
          </a:ln>
        </p:spPr>
      </p:pic>
      <p:pic>
        <p:nvPicPr>
          <p:cNvPr id="116" name="Rectangle 3" descr=""/>
          <p:cNvPicPr/>
          <p:nvPr/>
        </p:nvPicPr>
        <p:blipFill>
          <a:blip r:embed="rId3"/>
          <a:stretch/>
        </p:blipFill>
        <p:spPr>
          <a:xfrm>
            <a:off x="5076720" y="3357720"/>
            <a:ext cx="381636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Rectangl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42600" y="499680"/>
            <a:ext cx="800100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днажды я смотрела мультфильм в детском саду «Почемучки. Что такое воздух?» В этом мультфильме я услышала, что воздух, это - то чем мы дышим, он не имеет запаха, вкуса и формы. Мне стало интересно, правда это или нет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4" descr="C:\Users\user\Desktop\Новая папка\DSC01210.JPG"/>
          <p:cNvPicPr/>
          <p:nvPr/>
        </p:nvPicPr>
        <p:blipFill>
          <a:blip r:embed="rId2"/>
          <a:stretch/>
        </p:blipFill>
        <p:spPr>
          <a:xfrm>
            <a:off x="2286000" y="2857680"/>
            <a:ext cx="4697280" cy="35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600" y="428760"/>
            <a:ext cx="80010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итая энциклопедию с Натальей Николаевной, я узнала, что воздух окружает нас повсюду: на улице, в группе, в любой комнате. Воздух нельзя увидеть, но его можно почувствовать, если резко взмахнуть рукой, резко наклониться, побежа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C:\Users\user\Desktop\Новая папка\DSC01176.JPG"/>
          <p:cNvPicPr/>
          <p:nvPr/>
        </p:nvPicPr>
        <p:blipFill>
          <a:blip r:embed="rId2"/>
          <a:stretch/>
        </p:blipFill>
        <p:spPr>
          <a:xfrm>
            <a:off x="214200" y="2714760"/>
            <a:ext cx="4357800" cy="3268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C:\Users\user\Desktop\Новая папка\DSC01175.JPG"/>
          <p:cNvPicPr/>
          <p:nvPr/>
        </p:nvPicPr>
        <p:blipFill>
          <a:blip r:embed="rId3"/>
          <a:stretch/>
        </p:blipFill>
        <p:spPr>
          <a:xfrm>
            <a:off x="5119560" y="3929040"/>
            <a:ext cx="36496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0920" y="-171360"/>
            <a:ext cx="80010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месте с мамой мы нашли в сети Интернет информацию о воздух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547640" y="1700280"/>
            <a:ext cx="5832720" cy="43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01000" cy="145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верка первой гипотезы.</a:t>
            </a:r>
            <a:br>
              <a:rPr sz="2400"/>
            </a:b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здух - это не твёрдое тело, не жидкость, а что – то другое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395280" y="1844640"/>
            <a:ext cx="3240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179280" y="1571760"/>
            <a:ext cx="8964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ы взяли в руку камень и попытались сжать его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Камень – это твёрдое тело. А воздух нельзя в  руку взять и сжать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Подтверждаем нашу гипотезу: воздух – не твёрдое тело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4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7" descr="C:\Users\user\Desktop\Новая папка\DSC01180.JPG"/>
          <p:cNvPicPr/>
          <p:nvPr/>
        </p:nvPicPr>
        <p:blipFill>
          <a:blip r:embed="rId2"/>
          <a:stretch/>
        </p:blipFill>
        <p:spPr>
          <a:xfrm>
            <a:off x="428760" y="3000240"/>
            <a:ext cx="2625480" cy="3500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C:\Users\user\Desktop\Новая папка\DSC01193.JPG"/>
          <p:cNvPicPr/>
          <p:nvPr/>
        </p:nvPicPr>
        <p:blipFill>
          <a:blip r:embed="rId3"/>
          <a:stretch/>
        </p:blipFill>
        <p:spPr>
          <a:xfrm>
            <a:off x="3714840" y="2857680"/>
            <a:ext cx="495288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800100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верка первой гипотезы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здух - это не твёрдое тело, не жидкость, а что – то другое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395280" y="1844640"/>
            <a:ext cx="3240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287280" y="1714680"/>
            <a:ext cx="8856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ы взяли стакан с водой, посмотрели, она умеет течь, журчать, струиться, бежать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здух не течёт, его нельзя пить, значит, он не жидкость. </a:t>
            </a:r>
            <a:br>
              <a:rPr sz="2400"/>
            </a:b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Можно сделать вывод: воздух не жидкость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6" descr="C:\Users\user\Desktop\Новая папка\DSC01183.JPG"/>
          <p:cNvPicPr/>
          <p:nvPr/>
        </p:nvPicPr>
        <p:blipFill>
          <a:blip r:embed="rId2"/>
          <a:stretch/>
        </p:blipFill>
        <p:spPr>
          <a:xfrm>
            <a:off x="428760" y="3071880"/>
            <a:ext cx="2714400" cy="3619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C:\Users\user\Desktop\Новая папка\DSC01194.JPG"/>
          <p:cNvPicPr/>
          <p:nvPr/>
        </p:nvPicPr>
        <p:blipFill>
          <a:blip r:embed="rId3"/>
          <a:stretch/>
        </p:blipFill>
        <p:spPr>
          <a:xfrm>
            <a:off x="4143240" y="3214800"/>
            <a:ext cx="431640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01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верка второй гипотезы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здух невиди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395280" y="1844640"/>
            <a:ext cx="3240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108000" y="1143000"/>
            <a:ext cx="903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ы взяли полиэтиленовый пакет он был пустой. Когда мы  начали скручивать пакет то он надулся, стал выпуклым. Значит в пакете что-то есть, но мы этого не видим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ким образом, наша вторая гипотеза подтвердилась – 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воздух прозрачный и невидимы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6" descr="C:\Users\user\Desktop\Новая папка\DSC01191.JPG"/>
          <p:cNvPicPr/>
          <p:nvPr/>
        </p:nvPicPr>
        <p:blipFill>
          <a:blip r:embed="rId2"/>
          <a:stretch/>
        </p:blipFill>
        <p:spPr>
          <a:xfrm>
            <a:off x="428760" y="2786040"/>
            <a:ext cx="2714400" cy="3619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C:\Users\user\Desktop\Новая папка\DSC01192.JPG"/>
          <p:cNvPicPr/>
          <p:nvPr/>
        </p:nvPicPr>
        <p:blipFill>
          <a:blip r:embed="rId3"/>
          <a:stretch/>
        </p:blipFill>
        <p:spPr>
          <a:xfrm>
            <a:off x="4714920" y="2786040"/>
            <a:ext cx="28573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01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верка третьей гипотезы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здух везд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395280" y="1844640"/>
            <a:ext cx="3240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395280" y="119700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ы взяли резиновую игрушку, сжали её в руке. Мы услышали свист. Это воздух с шумом выходит из игрушки. Закроем пальцем отверстие резиновой игрушки и попытаемся сжать её. Она не сжимается. Что же этому мешает? Возду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Вывод: находящийся в игрушке воздух мешает её сжа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6" descr="C:\Users\user\Desktop\Новая папка\DSC01195.JPG"/>
          <p:cNvPicPr/>
          <p:nvPr/>
        </p:nvPicPr>
        <p:blipFill>
          <a:blip r:embed="rId2"/>
          <a:stretch/>
        </p:blipFill>
        <p:spPr>
          <a:xfrm>
            <a:off x="214200" y="3429000"/>
            <a:ext cx="3619440" cy="2714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C:\Users\user\Desktop\Новая папка\DSC01197.JPG"/>
          <p:cNvPicPr/>
          <p:nvPr/>
        </p:nvPicPr>
        <p:blipFill>
          <a:blip r:embed="rId3"/>
          <a:stretch/>
        </p:blipFill>
        <p:spPr>
          <a:xfrm>
            <a:off x="4857840" y="3643200"/>
            <a:ext cx="37148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01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верка четвертой гипотезы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здух можем ощуща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395280" y="1844640"/>
            <a:ext cx="3240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395280" y="1413000"/>
            <a:ext cx="8748720" cy="19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 энциклопедий мы узнали, что  движение воздуха в природе называют ветром и его мы можем ощущать. Для того, чтобы это проверить мы взяли веер  и помахали им около лица. Мы ощутили, что дует ветеро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6" descr="C:\Users\user\Desktop\Новая папка\DSC01178.JPG"/>
          <p:cNvPicPr/>
          <p:nvPr/>
        </p:nvPicPr>
        <p:blipFill>
          <a:blip r:embed="rId2"/>
          <a:stretch/>
        </p:blipFill>
        <p:spPr>
          <a:xfrm>
            <a:off x="214200" y="3000240"/>
            <a:ext cx="3929040" cy="29466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C:\Users\user\Desktop\Новая папка\DSC01176.JPG"/>
          <p:cNvPicPr/>
          <p:nvPr/>
        </p:nvPicPr>
        <p:blipFill>
          <a:blip r:embed="rId3"/>
          <a:stretch/>
        </p:blipFill>
        <p:spPr>
          <a:xfrm>
            <a:off x="4786200" y="3429000"/>
            <a:ext cx="41911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ver</cp:lastModifiedBy>
  <dcterms:modified xsi:type="dcterms:W3CDTF">2015-01-18T13:16:34Z</dcterms:modified>
  <cp:revision>26</cp:revision>
  <dc:subject/>
  <dc:title>PowerPoint Presentation</dc:title>
</cp:coreProperties>
</file>