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CFBB-D358-4038-A809-301F6B92B5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0A0E-5EDC-4D0E-BB29-2AEC878874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3CEA-4F98-4840-B332-40C122C188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 - Антаркт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CD1-A2C0-4C8C-BB82-747184AD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4EF-D9FD-47CE-8B16-42D01388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15D-AD47-469D-A3E6-E11C1D00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3B0-4CFD-4A1B-996F-4B9A6572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6DA-9B36-4733-B8F5-C4E6DDCA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7B33-B890-4C97-9FE6-0E442B9D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D21F-F53C-4319-967F-D0271E60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0D31-84D6-4660-B900-111452EA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6C7F-A605-4161-B961-D77C54B1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A626-6D17-4290-8F3F-67D746FD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E5B0-8113-4CAB-A09E-184F215C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52F-D83B-4033-8063-F7A28D02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901D-3F94-46F2-AF5C-F9646EEA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8D67-912A-4DB5-9631-A0857D8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C750-6F83-4622-BE71-DD76F322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2A99-1442-4681-9CA8-40506C60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2729-519E-4248-B6AD-E5692B53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A59-F2A1-4BD2-AF59-090DF829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BA9-03FC-4702-A9D3-14DEEFB3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F5F-29B9-4322-91B1-44A76BE6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A3A-1426-41B5-9CA5-D108BE53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0BB-08C3-4A05-BAB9-F393E842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7DC-18A9-4B96-BB8F-B303B10E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5E1-1C1E-4CD3-91B7-B78350E0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329F-F744-4ED7-8C67-00C4E9D54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F9F1-3395-4B35-B5E6-DEEFA2DDC7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83;&#1085;&#1094;&#1077;" TargetMode="External"/><Relationship Id="rId2" Type="http://schemas.openxmlformats.org/officeDocument/2006/relationships/hyperlink" Target="http://ru.wikipedia.org/wiki/&#1057;&#1072;&#1090;&#1091;&#1088;&#1085;_%28&#1087;&#1083;&#1072;&#1085;&#1077;&#1090;&#1072;%29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4_&#1072;&#1074;&#1075;&#1091;&#1089;&#1090;&#1072;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89;&#1077;&#1082;&#1086;&#1084;&#1099;&#1077;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72;&#1088;&#1085;&#1077;&#1090;" TargetMode="External"/><Relationship Id="rId2" Type="http://schemas.openxmlformats.org/officeDocument/2006/relationships/hyperlink" Target="http://ru.wikipedia.org/wiki/&#1057;&#1072;&#1082;&#1089;&#1086;&#1092;&#1086;&#1085;" TargetMode="External"/><Relationship Id="rId3" Type="http://schemas.openxmlformats.org/officeDocument/2006/relationships/hyperlink" Target="http://ru.wikipedia.org/wiki/&#1060;&#1072;&#1075;&#1086;&#1090;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3026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Arial Black"/>
              </a:rPr>
              <a:t>ВСЕ О ЦИФРЕ</a:t>
            </a:r>
            <a:endParaRPr b="1" lang="en-US" sz="6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632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 Black"/>
              </a:rPr>
              <a:t>про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 Black"/>
              </a:rPr>
              <a:t>Сабиро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 Black"/>
              </a:rPr>
              <a:t>Камил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 Black"/>
              </a:rPr>
              <a:t>1 «а»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9" descr="6_4"/>
          <p:cNvPicPr/>
          <p:nvPr/>
        </p:nvPicPr>
        <p:blipFill>
          <a:blip r:embed="rId1"/>
          <a:stretch/>
        </p:blipFill>
        <p:spPr>
          <a:xfrm>
            <a:off x="1042920" y="1989000"/>
            <a:ext cx="3024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космос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39272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ята, вы знаете, что наша Земля – это третья по счёту планета от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Солнц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6-ая планета —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Сатур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турн – это та самая красивая планета солнечной системы, которая окружена удивительными кольцами. Она такая одн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сатурн_1"/>
          <p:cNvPicPr/>
          <p:nvPr/>
        </p:nvPicPr>
        <p:blipFill>
          <a:blip r:embed="rId3"/>
          <a:stretch/>
        </p:blipFill>
        <p:spPr>
          <a:xfrm>
            <a:off x="4788000" y="1844640"/>
            <a:ext cx="39272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Знаки Зодиак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11640" y="1413000"/>
            <a:ext cx="43927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естой по счету знак зодиака – Дева. К этому знаку относятся все, кто родился с 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24 авгус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23 сентяб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ди, появившиеся на свет под этим знаком, отличаются рассудительностью, благоразумием, и стремлением все дела доводить до конц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стараются во всем добиться порядка и очень дисциплинирован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deva_2"/>
          <p:cNvPicPr/>
          <p:nvPr/>
        </p:nvPicPr>
        <p:blipFill>
          <a:blip r:embed="rId2"/>
          <a:stretch/>
        </p:blipFill>
        <p:spPr>
          <a:xfrm>
            <a:off x="684360" y="1844640"/>
            <a:ext cx="300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Литература и цифра 6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5616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еще есть особый стихотворный размер – Гекзаметр. Каждая строчка такого стиха состоит из 6-ти кусочк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екзаметр возник в Древней Греции. Первый письменный дошедший до нас пример гекзаметра появляется в известных поэмах Гомера «Илиаде» и «Одиссе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греция_1"/>
          <p:cNvPicPr/>
          <p:nvPr/>
        </p:nvPicPr>
        <p:blipFill>
          <a:blip r:embed="rId1"/>
          <a:stretch/>
        </p:blipFill>
        <p:spPr>
          <a:xfrm>
            <a:off x="6659640" y="1844640"/>
            <a:ext cx="1809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Ура! Ура! Ура!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мы любим субботы – 6ой день недели. Потому что это выходной д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се мы любим июнь – 6-ой месяц. Потому что это первый месяц лето, и у нас начинаются КАНИКУЛЫ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каникулы"/>
          <p:cNvPicPr/>
          <p:nvPr/>
        </p:nvPicPr>
        <p:blipFill>
          <a:blip r:embed="rId1"/>
          <a:stretch/>
        </p:blipFill>
        <p:spPr>
          <a:xfrm rot="1351800">
            <a:off x="6162480" y="1079640"/>
            <a:ext cx="2000160" cy="2019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каникулы_3"/>
          <p:cNvPicPr/>
          <p:nvPr/>
        </p:nvPicPr>
        <p:blipFill>
          <a:blip r:embed="rId2"/>
          <a:stretch/>
        </p:blipFill>
        <p:spPr>
          <a:xfrm rot="20700600">
            <a:off x="4568760" y="3697200"/>
            <a:ext cx="21607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Знакомство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492280"/>
            <a:ext cx="76946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годня я вас познакомлю с цифрой 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 каждого из нас с ней много общ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ногие встают в 6 утра, чтобы успеть в школу или на раб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икому из нас не нужен шестой пале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 что еще мы знаем про эту цифр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6_1"/>
          <p:cNvPicPr/>
          <p:nvPr/>
        </p:nvPicPr>
        <p:blipFill>
          <a:blip r:embed="rId1"/>
          <a:stretch/>
        </p:blipFill>
        <p:spPr>
          <a:xfrm>
            <a:off x="6732720" y="189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А на что же, а на что же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Цифра 6 у нас похожа?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нтазируй! Представляй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идеи подавай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-то есть от буквы «Б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ба, Брюки, Блузочк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лько цифра – покруглей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тебе нагрузочк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есть на яблоко похоже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т же хвост, округлость тож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сестра её – девятк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, давайте по поряд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яблоко_2"/>
          <p:cNvPicPr/>
          <p:nvPr/>
        </p:nvPicPr>
        <p:blipFill>
          <a:blip r:embed="rId1"/>
          <a:stretch/>
        </p:blipFill>
        <p:spPr>
          <a:xfrm rot="1016400">
            <a:off x="2700000" y="4365720"/>
            <a:ext cx="2019240" cy="18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Б"/>
          <p:cNvPicPr/>
          <p:nvPr/>
        </p:nvPicPr>
        <p:blipFill>
          <a:blip r:embed="rId2"/>
          <a:stretch/>
        </p:blipFill>
        <p:spPr>
          <a:xfrm rot="20896800">
            <a:off x="826920" y="1844640"/>
            <a:ext cx="2089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6 и математик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6" name="Picture 10" descr="шестерка_2"/>
          <p:cNvPicPr/>
          <p:nvPr/>
        </p:nvPicPr>
        <p:blipFill>
          <a:blip r:embed="rId1"/>
          <a:stretch/>
        </p:blipFill>
        <p:spPr>
          <a:xfrm rot="20664600">
            <a:off x="611280" y="1484280"/>
            <a:ext cx="2019240" cy="2019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7960" y="1341360"/>
            <a:ext cx="3927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число между 5 и 7. Оно не обычное!. Это первое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овершен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исло. Что это значи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мотрите, 6 делится на 1, на 2 и на 3. А если сложить между собой все эти цифры, что мы получи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1+2+3 = 6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7" descr="123"/>
          <p:cNvPicPr/>
          <p:nvPr/>
        </p:nvPicPr>
        <p:blipFill>
          <a:blip r:embed="rId2"/>
          <a:stretch/>
        </p:blipFill>
        <p:spPr>
          <a:xfrm rot="903000">
            <a:off x="2484000" y="4076640"/>
            <a:ext cx="22100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6 в геометрии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еще 6 – это число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граней куб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у любого кубика посчитать все его грани, то их получится 6 шту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кубики_1"/>
          <p:cNvPicPr/>
          <p:nvPr/>
        </p:nvPicPr>
        <p:blipFill>
          <a:blip r:embed="rId1"/>
          <a:stretch/>
        </p:blipFill>
        <p:spPr>
          <a:xfrm>
            <a:off x="4917960" y="2362320"/>
            <a:ext cx="39276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6 и зоология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всех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насеком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6 ног. И у пчел, и у мух, и у бабочек, и у жуков, и у божьих коровок. У всех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ько не путайте с пауками – у них 8 ног! Но они к насекомым не относя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бабочка_1"/>
          <p:cNvPicPr/>
          <p:nvPr/>
        </p:nvPicPr>
        <p:blipFill>
          <a:blip r:embed="rId2"/>
          <a:stretch/>
        </p:blipFill>
        <p:spPr>
          <a:xfrm>
            <a:off x="1644480" y="1928880"/>
            <a:ext cx="2314800" cy="1971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божья коровка_2"/>
          <p:cNvPicPr/>
          <p:nvPr/>
        </p:nvPicPr>
        <p:blipFill>
          <a:blip r:embed="rId3"/>
          <a:stretch/>
        </p:blipFill>
        <p:spPr>
          <a:xfrm>
            <a:off x="5962680" y="1905120"/>
            <a:ext cx="1838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48355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6 и география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9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а земле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6 континен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(это отдельные большие куски суш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круженные водой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 algn="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 algn="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 algn="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верная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 algn="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Южная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 algn="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встр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 algn="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нтаркт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Теплых континентов – пя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Есть где людям погуля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-Значит, пять всего? - Пост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Есть еще один, шес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Там пустынные ме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Все покрыто слоем ль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В море ходят льдин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А на них пингв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5" descr="континенты_2"/>
          <p:cNvPicPr/>
          <p:nvPr/>
        </p:nvPicPr>
        <p:blipFill>
          <a:blip r:embed="rId1"/>
          <a:stretch/>
        </p:blipFill>
        <p:spPr>
          <a:xfrm>
            <a:off x="395280" y="1341360"/>
            <a:ext cx="2808360" cy="187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пингвины 2"/>
          <p:cNvPicPr/>
          <p:nvPr/>
        </p:nvPicPr>
        <p:blipFill>
          <a:blip r:embed="rId2"/>
          <a:stretch/>
        </p:blipFill>
        <p:spPr>
          <a:xfrm>
            <a:off x="5237280" y="4076640"/>
            <a:ext cx="26859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Музыка и цифра 6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4437000"/>
            <a:ext cx="800748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ие духовые интрументы имеют 6 отверстий (дырочек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кларн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саксоф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Arial"/>
                <a:hlinkClick r:id="rId3"/>
              </a:rPr>
              <a:t>фаго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все гитары делятся на шестиструнные гитары и семистру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гитара_2"/>
          <p:cNvPicPr/>
          <p:nvPr/>
        </p:nvPicPr>
        <p:blipFill>
          <a:blip r:embed="rId4"/>
          <a:stretch/>
        </p:blipFill>
        <p:spPr>
          <a:xfrm rot="19937400">
            <a:off x="1459080" y="2061720"/>
            <a:ext cx="2685960" cy="1704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Сакс_1"/>
          <p:cNvPicPr/>
          <p:nvPr/>
        </p:nvPicPr>
        <p:blipFill>
          <a:blip r:embed="rId5"/>
          <a:stretch/>
        </p:blipFill>
        <p:spPr>
          <a:xfrm rot="1656000">
            <a:off x="5614920" y="201420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И снова музык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161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Знаете, что такое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дуэт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Это когда музыкант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или певцы выступаю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вдвоем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Когда исполнителей трое – это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трио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А как называетс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ансамбль из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6 человек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Секстет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!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9" descr="дуэт_1"/>
          <p:cNvPicPr/>
          <p:nvPr/>
        </p:nvPicPr>
        <p:blipFill>
          <a:blip r:embed="rId1"/>
          <a:stretch/>
        </p:blipFill>
        <p:spPr>
          <a:xfrm>
            <a:off x="5724360" y="162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секстет_1"/>
          <p:cNvPicPr/>
          <p:nvPr/>
        </p:nvPicPr>
        <p:blipFill>
          <a:blip r:embed="rId2"/>
          <a:stretch/>
        </p:blipFill>
        <p:spPr>
          <a:xfrm>
            <a:off x="1187280" y="4365720"/>
            <a:ext cx="35290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4:53:37Z</dcterms:created>
  <dc:creator>urist</dc:creator>
  <dc:description/>
  <dc:language>en-US</dc:language>
  <cp:lastModifiedBy>3-10</cp:lastModifiedBy>
  <dcterms:modified xsi:type="dcterms:W3CDTF">2015-01-18T11:59:11Z</dcterms:modified>
  <cp:revision>16</cp:revision>
  <dc:subject/>
  <dc:title>Слайд 1</dc:title>
</cp:coreProperties>
</file>