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57E-B2AD-47B3-9410-1EF9BFA19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ippt.ru/katalog_programm/izoterapiya_rabota_s_risunkom_dlya_vzroslyh/" TargetMode="External"/><Relationship Id="rId2" Type="http://schemas.openxmlformats.org/officeDocument/2006/relationships/hyperlink" Target="http://ippt.ru/katalog_programm/psihologiya_tvorchestva_fototerapiya/" TargetMode="External"/><Relationship Id="rId3" Type="http://schemas.openxmlformats.org/officeDocument/2006/relationships/hyperlink" Target="http://ippt.ru/katalog_programm/pesochnaya_terapiya_v_rabote_s_detmi/" TargetMode="External"/><Relationship Id="rId4" Type="http://schemas.openxmlformats.org/officeDocument/2006/relationships/slide" Target="../slides/slide1.xml"/><Relationship Id="rId5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аемы коллеги, разрешите представить Вам презентацию темы по самообразованию «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ЗКОТЕРАП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боте с детьми дошкольного возраст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казкотерапия представляет собой направление арт-терапии, метод оказания психологической и психотерапевтической помощи людям с использованием уже существующих сказок, сочиненных сказкотерапевтом специально для ситуации клиента сказок, а также сочинения и дополнения сказ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казкотерапия –  это лечение, при котором для достижения терапевтического эффекта используются придуманные истории или обсуждаются поучительные народные сказк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казкотерапия –  это метод, при котором для достижения терапевтического эффекта используются придуманные истории или обсуждаются поучительные народные сказ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казкотерапия – это один из наиболее мягких и интересных способов оптимизации эмоционального состояния и разрешения затруд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Арт терапия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является одной из обширнейших областей современной психологической науки и представляет собой метод оказания психологической помощи с использованием творческих занятий (рисования, лепки, игры и др.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Calibri"/>
              </a:rPr>
              <a:t>В рамках арт-терапии выделяются также целые психологические направления в зависимости от основного типа творческих занятий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зотерапия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(рисуночная терапия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фототерапия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(творческие занятия фотографией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сочная терапия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куклотерап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игротерап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Музыкотерап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Танцевальная терапи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Цветотерап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Times New Roman"/>
              </a:rPr>
              <a:t>Это прекрасный способ преподнести «полезный» урок ребенку в простой форме с участием сказочных персонажей. Она заставляет задуматься, с ее помощью развивается интуиция и воображение. Наши предки понимали мудрость и ценность сказок, поэтому своим детям многие уроки они преподавали на уровне сказок. Выводы, которые дети делали после прочтения сказки, были наиболее эффективны. У  многих народов  мира сказка – самое лучшее воспитательное средств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каких случаях используется сказкотерапия для дошколь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казкотерапия может быть использована по отношению к любому нормально развивающемуся ребенку дошкольного возраста. При этом, данный вид терапии также создает условия для работы с детьми, имеющими поведенческие нарушения, особенности в психофизическом и эмоционально-волевом развитии. Это дети с нарушением слуха, зрения, интеллектуальной недостаточности, речи, аутистического спект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CD7-A563-48B9-9CFF-A28BA659E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ий этап. Обсуждение сказ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детьми обсуждаем - кого называют храбрым, кого трусливым; чем отличались герои друг от друга. Дети демонстрируют, сначала как ведет себя мышонок, как он боится, какое выражение его лица, а затем зайчик. Далее вспоминаем случаи, когда мы боялись и что при этом чувствовали. А когда были храбрыми, смелыми? Сравниваем эти чув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мы проговариваем, что ощущаем в разных состояниях. Какого цвета может быть страх, злость, трусость? Как они звучат, как пахнут? Какие на ощупь и на вкус? (Рисуем страх и храброе сердце –  если позволяет время.) Рассматриваем и обсуждаем по кругу. Затем мы проигрываем сказку с использованием кукол-марионеток. Роли зверей дети исполняют, используя мимику, жесты, пантомимику. Пробуем изменить конец сказки. Дети предлагают разные варианты превращения... Одновременно анализируем, что ожидает человека, который не измениться. А затем дети рассказывают как они в реальной жизни встречаются с чувством страха, тревоги, переживаний, какие поступки помогают справиться и стать храбр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7406-E56F-4273-B597-B3CF726B4F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 – СКАЗКОТЕРАПИЯ  в ДО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особ воспитания у ребенка особого отношения к миру принятого в обществе, способ передачи ребенку необходимых моральных норм и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ребенка развиваются фантазия, творчество. Дети учатся преодолевать трудности, бороться со страх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1FA-68A2-44F6-B8BC-38FDC88E7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сказк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глубоко пересекаются с нашими педагогическим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всех психических процессов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аналитических способностей (умения сравнивать, обобщать, находить причинно-следственные связи, совершенствование коммуникативных навы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нятие эмоционального и физического нап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09A-3DFA-4DBC-AD94-093269542C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роцессе работы важно соблюдать три вещи: Уместность Искренность Дозирова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авила организации сказкотерапии для дошколь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ростое прочтение сказки не несет в себе терапевтической нагруз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Следует обыграть, инсценировать, тщательно проанализировать, сделать оценки и выводы по ее содержа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держание сказки должно соответствовать возрасту, потребностям и возможностям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держание сказки и используемые методические приемы по ее анализу должны в полной мере решать поставленную задач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дача ребенку знаний, правил поведения, сглаживание конфликта в процессе знакомства с содержанием сказки и его анализом должно проходить в уместной, ненавязчивой, дружеской и искренней обстанов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накомство ребенка со сказкой должно быть дозированным. Сначала это может быть просто рассматривание иллюстраций к сказке и знакомство с ее героями. Затем описание и анализ поступков героев. После чего выражаем свое отношение к героям сказки и их поступкам, а также даем определение правильной модели повед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C34-718F-49C1-BD7E-63EB51D9BB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Развивающие и обучающие сказки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, позволяющие ребенку накапливать опыт об окружающих объектах и явлениях, правилах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Народные художественные сказки,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пособствующие воспитанию нравственных и эстетических чувств: взаимопомощи, поддержки, сопереживания, сочувствия, долга, ответственности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тсутствие злых героев, конфликтных ситуаций, борьбы добра со злом позволяет еще одной группе сказок - </a:t>
            </a:r>
            <a:r>
              <a:rPr b="0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медитативным сказкам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, создать атмосферу позитива, спокойствия, комфорта, расслабления, снятия напряжения и возб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Диагностические сказки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, позволяющие определить характер ребенка и его отношение к тому, что его окружает. Например, если девочка отдает предпочтение сказкам, где главным героем является зайка-трусишка, то можно предположить, что она достаточно застенчивая, спокойная и, возможно, боязли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сихологические сказки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оздают специфические условия для ребенка, которые способствуют преодолению вместе с героем общих страхов, адекватному переживанию чувства неудачи и победы, обретению уверенности в себ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6A04-9B16-488C-95F5-9103B1A8D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0CBA-25F9-479C-8187-E2832CAD0D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Сначала проводим настрой на совместную работу - ритуал «вхождения  в сказку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Arial"/>
              </a:rPr>
              <a:t>Детям очень нравится детям то, что любое занятие начинается и заканчивается определенным ритуалом. Они с удовольствием выполняют в начале каждого занятия упражнение на единение и эмпатию такие, как передача по кругу «волшебного» огонька свечи, «волшебной» палочки или цветка с добрыми пожеланиями друг дру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0FA-76F9-4B1C-A2F4-7004BDE27B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E70-763C-4171-AE74-E46ED8F7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43D-ABCE-4529-8517-5C4ED55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121-3E95-4EB0-A8AA-8AD479C1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702-106D-4AC3-9E1D-3B9B6361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648-36F3-485A-B09F-E17077C6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6D8-84A6-48E5-B02D-C15F318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E8A-AFB9-419D-B163-3638194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2DC-EE81-4649-B92C-62549922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25D-8312-430B-9B13-55E5245F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DE5-7106-438E-929C-A200D8B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F4E-8E38-4752-9066-FA692A7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2F3-D372-4352-B0C2-546D1BD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60B-D997-4649-8DDB-5048E40BD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-252360" y="12600"/>
            <a:ext cx="10001160" cy="727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166032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</a:rPr>
              <a:t>СКАЗКОТЕРАП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3924360" y="4149720"/>
            <a:ext cx="540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ru-RU" sz="2900" spc="-1" strike="noStrike">
                <a:solidFill>
                  <a:srgbClr val="ffffff"/>
                </a:solidFill>
                <a:latin typeface="Comic Sans MS"/>
                <a:ea typeface="Arial"/>
              </a:rPr>
              <a:t>Подготовила: Воспитатель МБДОУ г.Люберцы детский сад комбинированного вида № 5 «Золотой ключик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747720"/>
            <a:ext cx="914400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7030a0"/>
                </a:solidFill>
                <a:latin typeface="Comic Sans MS"/>
              </a:rPr>
              <a:t>3-ий этап работы обсуждение сказки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691920"/>
            <a:ext cx="8928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030a0"/>
                </a:solidFill>
                <a:latin typeface="Calibri"/>
              </a:rPr>
              <a:t>Вместе с детьми обсуждаем - кого называют храбрым, кого трусливым; чем отличались герои друг от друга. Дети демонстрируют, сначала как ведет себя мышонок, как он боится, какое выражение его лица, а затем зайчик. Далее вспоминаем случаи, когда мы боялись и что при этом чувствовали. А когда были храбрыми, смелыми? Сравниваем эти чувства. Далее мы проговариваем, что ощущаем в разных состояниях. Какого цвета может быть страх, злость, трусость? Как они звучат, как пахнут? Одновременно анализируем, что ожидает человека, который не измениться.  А затем дети рассказывают как они в реальной жизни встречаются с чувством страха, тревоги, переживаний, какие поступки помогают справиться и стать храбре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omic Sans MS"/>
              </a:rPr>
              <a:t>Ритуал выхода из сказ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3640" y="653760"/>
            <a:ext cx="8569080" cy="60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Calibri"/>
              </a:rPr>
              <a:t>1-ый вариант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: Мелодия для выхода из сказ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Calibri"/>
              </a:rPr>
              <a:t>Вариант 2-ой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:  Дети стоят в кругу и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роговаривают: «Мы стоим рука в руке – вместе мы большая лента, можем мы большими быть, можем маленькими стать, но один никто не будет»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Calibri"/>
              </a:rPr>
              <a:t>Вариант 3-ий: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Собрались все дети в кру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Я - твой друг и ты - мой друг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Дружно за руки возьмём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И друг другу улыбнём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Calibri"/>
              </a:rPr>
              <a:t>Вариант 4-ый: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«Мы берем с собой всё самое важное, что было сегодня с нами, всё, чему мы научились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_Tri_oreshka_dlya_Zolushki_-_Volshebnaya_muzyka__muzofon.com.mp3" descr=""/>
          <p:cNvPicPr/>
          <p:nvPr/>
        </p:nvPicPr>
        <p:blipFill>
          <a:blip r:embed="rId2"/>
          <a:stretch/>
        </p:blipFill>
        <p:spPr>
          <a:xfrm>
            <a:off x="7331040" y="836640"/>
            <a:ext cx="1746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mic Sans MS"/>
                <a:ea typeface="Cambria Math"/>
              </a:rPr>
              <a:t>ВЫВОД: «СКАЗКОТЕРАПИЯ  в ДОУ»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03280" y="765000"/>
            <a:ext cx="58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7030a0"/>
                </a:solidFill>
                <a:latin typeface="Calibri"/>
                <a:ea typeface="Cambria Math"/>
              </a:rPr>
              <a:t>Это способ воспитания у ребенка особого отношения к миру, принятого в обществе, способ передачи ребенку необходимых моральных норм и правил, общечеловеческих ценност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7030a0"/>
                </a:solidFill>
                <a:latin typeface="Calibri"/>
                <a:ea typeface="Cambria Math"/>
              </a:rPr>
              <a:t>В процессе слушания, придумывания и обсуждения сказки у ребенка развиваются фантазия, творчество. Он усваивает основные механизмы поиска и принятия решени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7030a0"/>
                </a:solidFill>
                <a:latin typeface="Calibri"/>
                <a:ea typeface="Cambria Math"/>
              </a:rPr>
              <a:t>Работа со сказкой направлена непосредственно на лечение и помощь ребенку. Создаются условия, в которых ребенок, работая со сказкой (читая, придумывая, разыгрывая, продолжая), находит решения своих жизненных проблем. Учится преодолевать трудности, бороться со страхам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-17640"/>
            <a:ext cx="92995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  <a:ea typeface="Arial"/>
              </a:rPr>
              <a:t>Задачи сказкотерап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05228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слухового и зрительного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наблюдательности и зрительно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аналитических способностей (умения сравнивать, обобщать, находить причинно-следственные связ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фантазии и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Снятие эмоционального и физического напря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умения быстро переключаться с активной деятельности на пассив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азвитие умения взаимодействовать с окружающими, совершенствование коммуникативных нав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108000" y="0"/>
            <a:ext cx="9252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mic Sans MS"/>
              </a:rPr>
              <a:t>Требования в работе со сказк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Уместность – психотерапевтическую сказку уместно использовать лишь тогда, когда произошла подходящая ситуация (конфликт и ссора детей, непослушание, тревожность и др.). В противном случае можно исказить всю иде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Искренность –  безусловно, от воспитателя требуется открытость и искренность повеств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Дозированность –  сказкотерапия побуждает к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размышлению.  Это длительны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        </a:t>
            </a: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роцесс . Поэтому нельз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        </a:t>
            </a: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«перегружать» детей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        </a:t>
            </a: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сихотерапевтическим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сказками, чтобы они не утрат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                                    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к ним чувствитель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5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300" spc="-1" strike="noStrike">
                <a:solidFill>
                  <a:srgbClr val="7030a0"/>
                </a:solidFill>
                <a:latin typeface="Comic Sans MS"/>
              </a:rPr>
              <a:t>Какие сказки можно использовать в ДОУ</a:t>
            </a:r>
            <a:r>
              <a:rPr b="1" i="1" lang="ru-RU" sz="3200" spc="-1" strike="noStrike">
                <a:solidFill>
                  <a:srgbClr val="7030a0"/>
                </a:solidFill>
                <a:latin typeface="Comic Sans MS"/>
              </a:rPr>
              <a:t>:</a:t>
            </a:r>
            <a:br>
              <a:rPr sz="3200"/>
            </a:br>
            <a:br>
              <a:rPr sz="3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252360" y="549000"/>
            <a:ext cx="964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1792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Развивающие и обучающие сказки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, позволяют накапливать опыт об окружающем мире, правилах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1792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Народные художественные сказки,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способствуют воспитанию нравственных  чувств: взаимопомощи, поддержки, сочувствия, долга, ответственности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1792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Медитативные сказки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, помогают расслабиться,  снять напря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1792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Диагностические сказки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, позволяют определить характер ребенка и его отношение к тому, что его окружа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1792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сихологические сказки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способствуют преодолению страхов, обретению уверенности в себе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080" y="-74880"/>
            <a:ext cx="91695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030a0"/>
                </a:solidFill>
                <a:latin typeface="Calibri"/>
              </a:rPr>
              <a:t>Оборудование для сказкотерапии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125000"/>
            <a:ext cx="86248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Куклы бибаб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(перчаточные  кукл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альчиковые кук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Иван\Desktop\Театр бибабо.jpg"/>
          <p:cNvPicPr/>
          <p:nvPr/>
        </p:nvPicPr>
        <p:blipFill>
          <a:blip r:embed="rId2"/>
          <a:stretch/>
        </p:blipFill>
        <p:spPr>
          <a:xfrm>
            <a:off x="5108400" y="763560"/>
            <a:ext cx="3384720" cy="336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Иван\Desktop\Пальчиковые куклы.jpg"/>
          <p:cNvPicPr/>
          <p:nvPr/>
        </p:nvPicPr>
        <p:blipFill>
          <a:blip r:embed="rId3"/>
          <a:stretch/>
        </p:blipFill>
        <p:spPr>
          <a:xfrm>
            <a:off x="3278160" y="4186080"/>
            <a:ext cx="35226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9325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030a0"/>
                </a:solidFill>
                <a:latin typeface="Calibri"/>
              </a:rPr>
              <a:t>Оборудование для сказкотерапии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Пластиковые и деревянные персонажи  людей и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Красочные карти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о сюжету ска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042920" y="1860480"/>
            <a:ext cx="2925720" cy="206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5580000" y="1832040"/>
            <a:ext cx="309564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4716360" y="3921120"/>
            <a:ext cx="213840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724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326880" y="765000"/>
            <a:ext cx="87854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  <a:ea typeface="Arial"/>
              </a:rPr>
              <a:t>1. Ритуал «вхождения  в сказку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  <a:ea typeface="Arial"/>
              </a:rPr>
              <a:t>2. Чтение сказки.  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  <a:ea typeface="Arial"/>
              </a:rPr>
              <a:t>3. Обсуждение сказ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  <a:ea typeface="Arial"/>
              </a:rPr>
              <a:t>4. В конце занятия - риту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  <a:ea typeface="Arial"/>
              </a:rPr>
              <a:t>«выхода из сказки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6880" y="-500040"/>
            <a:ext cx="88934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030a0"/>
                </a:solidFill>
                <a:latin typeface="Comic Sans MS"/>
              </a:rPr>
              <a:t>1-ый этап работы: ритуал вхождения в сказку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125360"/>
            <a:ext cx="856908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Музыкальное сопровождение, которое поможет детям настроиться на сказ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ожно использовать музыкальную игрушку, волшебную палочку или волшебный ключ от сказ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Игра «Волшебный клубочек», или стих «Сказка в гости к нам пришла, нам встречать её пора!», также новую сказку можно  «случайно найти»  в сказочной шкатулке, под «волшебным ковром» или в гости приходит Иван-Царевич (кукла бибабо) и приносит письмо. Дети заинтригованы и просят: «Почитайте! Почитайт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Начало сказки.mp3" descr=""/>
          <p:cNvPicPr/>
          <p:nvPr/>
        </p:nvPicPr>
        <p:blipFill>
          <a:blip r:embed="rId2"/>
          <a:stretch/>
        </p:blipFill>
        <p:spPr>
          <a:xfrm>
            <a:off x="5292720" y="543240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720" y="-458640"/>
            <a:ext cx="939636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omic Sans MS"/>
              </a:rPr>
              <a:t>2-й этап работы – чтение сказ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Например, сказка: «Как мышонок стал храбрым». Далее читаем сказку полностью, без обсуждения – это первый вариант работы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Или 2-ой вариант: в процессе чтения можно останавливаться на наиболее важных фрагментах и задавать вопрос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Calibri"/>
              </a:rPr>
              <a:t>Вопросы по анализу сказк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очему боялся мышоно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омог ли ему справиться со страхом зайчик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Почему не помог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Как справились со страхом звер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Чему удивился Крыс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?</a:t>
            </a:r>
            <a:br>
              <a:rPr sz="17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09:11:43Z</dcterms:created>
  <dc:creator/>
  <dc:description/>
  <dc:language>en-US</dc:language>
  <cp:lastModifiedBy/>
  <dcterms:modified xsi:type="dcterms:W3CDTF">2015-01-18T00:51:36Z</dcterms:modified>
  <cp:revision>8</cp:revision>
  <dc:subject/>
  <dc:title>СКАЗКОТЕРАПИЯ</dc:title>
</cp:coreProperties>
</file>