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88D-DB35-4BE3-96A9-A03BBDFF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C15-948D-48E2-8C3E-68ED3295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E04-DA5B-48EB-B5EB-6121743B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7BF-EAA8-4DE3-82C4-776191DD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7718-934F-41B7-940F-D63813A7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73F0-983E-4CA5-9037-DA8F4FD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019-3462-46B3-BAF0-9D86CF9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7AB2-E1D6-4435-8111-2AABB29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2290-DD91-40B7-8BD0-012EF0D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0A69-0E3C-46DA-B31F-6274689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AD7-8C54-4671-8501-053E2B6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D2F-A434-4077-A219-4D35FFD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5C7-7DE0-45C0-A830-B681408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98EA-A750-4750-A6F1-A4FB09F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DF8-0BB6-4168-BCBE-30E26B4C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6C78-5F59-46D6-8326-51696576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B6A7-CD12-410F-BFBD-5669C3AE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96B-2796-4F32-923D-A21A736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619-F308-40A2-B1A6-D63323CB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9D6-10B6-4F38-8212-BDEE64B9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AA3-FB1F-4BC8-A0FD-4DFF83FE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855-27B8-4E20-929A-641F8AB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BA6-681F-4A6F-B17D-D1F7E9E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AA5-DCA7-459E-9185-2A8C84D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96C-7DBD-46F2-A945-1A717FB732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3FF-AD91-4855-9513-666A8C57D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slide48.xml"/><Relationship Id="rId23" Type="http://schemas.openxmlformats.org/officeDocument/2006/relationships/slide" Target="slide50.xml"/><Relationship Id="rId24" Type="http://schemas.openxmlformats.org/officeDocument/2006/relationships/slide" Target="slide52.xml"/><Relationship Id="rId25" Type="http://schemas.openxmlformats.org/officeDocument/2006/relationships/slide" Target="slide54.xml"/><Relationship Id="rId26" Type="http://schemas.openxmlformats.org/officeDocument/2006/relationships/slide" Target="slide56.xml"/><Relationship Id="rId27" Type="http://schemas.openxmlformats.org/officeDocument/2006/relationships/slide" Target="slide58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" Target="slide72.xml"/><Relationship Id="rId35" Type="http://schemas.openxmlformats.org/officeDocument/2006/relationships/slide" Target="slide74.xml"/><Relationship Id="rId36" Type="http://schemas.openxmlformats.org/officeDocument/2006/relationships/slide" Target="slide76.xml"/><Relationship Id="rId3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5338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61"/>
                </a:solidFill>
                <a:latin typeface="Georgia"/>
              </a:rPr>
              <a:t>«Созвездие</a:t>
            </a:r>
            <a:br>
              <a:rPr sz="6600"/>
            </a:br>
            <a:r>
              <a:rPr b="1" lang="ru-RU" sz="6600" spc="-1" strike="noStrike">
                <a:solidFill>
                  <a:srgbClr val="ffff61"/>
                </a:solidFill>
                <a:latin typeface="Georgia"/>
              </a:rPr>
              <a:t> талантов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гра-за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 теме «Основные классы неорганической хим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втор: Чапурина 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читель ПСО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301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rId1" action="ppaction://hlinksldjump"/>
          </p:cNvPr>
          <p:cNvSpPr/>
          <p:nvPr/>
        </p:nvSpPr>
        <p:spPr>
          <a:xfrm>
            <a:off x="3581280" y="5410080"/>
            <a:ext cx="1332000" cy="126864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8" h="21600">
                <a:moveTo>
                  <a:pt x="0" y="0"/>
                </a:moveTo>
                <a:lnTo>
                  <a:pt x="22678" y="0"/>
                </a:lnTo>
                <a:lnTo>
                  <a:pt x="22678" y="21600"/>
                </a:lnTo>
                <a:lnTo>
                  <a:pt x="0" y="21600"/>
                </a:lnTo>
                <a:close/>
              </a:path>
              <a:path fill="lightenLess" w="22678" h="21600">
                <a:moveTo>
                  <a:pt x="0" y="0"/>
                </a:moveTo>
                <a:lnTo>
                  <a:pt x="22678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8" h="21600">
                <a:moveTo>
                  <a:pt x="22678" y="0"/>
                </a:moveTo>
                <a:lnTo>
                  <a:pt x="22678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8" h="21600">
                <a:moveTo>
                  <a:pt x="22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3520" y="129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йдите лишнюю формулу и дайте название этому веществ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3520" y="2971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СО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 S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, H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rId1" action="ppaction://hlinksldjump"/>
          </p:cNvPr>
          <p:cNvSpPr/>
          <p:nvPr/>
        </p:nvSpPr>
        <p:spPr>
          <a:xfrm>
            <a:off x="3505320" y="54100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295280" y="1905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ксид серы (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33526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19520" y="2819520"/>
          <a:ext cx="3504960" cy="1752480"/>
        </p:xfrm>
        <a:graphic>
          <a:graphicData uri="http://schemas.openxmlformats.org/drawingml/2006/table">
            <a:tbl>
              <a:tblPr/>
              <a:tblGrid>
                <a:gridCol w="1143000"/>
                <a:gridCol w="1193760"/>
                <a:gridCol w="11682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32"/>
          <p:cNvSpPr/>
          <p:nvPr/>
        </p:nvSpPr>
        <p:spPr>
          <a:xfrm>
            <a:off x="533520" y="10666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йдите выигрышный путь, который составляют оксиды, взаимодействующие с водой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rId1" action="ppaction://hlinksldjump"/>
          </p:cNvPr>
          <p:cNvSpPr/>
          <p:nvPr/>
        </p:nvSpPr>
        <p:spPr>
          <a:xfrm>
            <a:off x="35812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1905120"/>
          <a:ext cx="4419360" cy="2239920"/>
        </p:xfrm>
        <a:graphic>
          <a:graphicData uri="http://schemas.openxmlformats.org/drawingml/2006/table">
            <a:tbl>
              <a:tblPr/>
              <a:tblGrid>
                <a:gridCol w="1441440"/>
                <a:gridCol w="1504800"/>
                <a:gridCol w="147312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Line 23"/>
          <p:cNvSpPr/>
          <p:nvPr/>
        </p:nvSpPr>
        <p:spPr>
          <a:xfrm>
            <a:off x="1523880" y="3733920"/>
            <a:ext cx="6096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rId1" action="ppaction://hlinksldjump"/>
          </p:cNvPr>
          <p:cNvSpPr/>
          <p:nvPr/>
        </p:nvSpPr>
        <p:spPr>
          <a:xfrm>
            <a:off x="34290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33520" y="1066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 какой реакции из простых веществ образуются оксиды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676520" y="2590920"/>
            <a:ext cx="58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еакция соеди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еакция раз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еакция заме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rId1" action="ppaction://hlinksldjump"/>
          </p:cNvPr>
          <p:cNvSpPr/>
          <p:nvPr/>
        </p:nvSpPr>
        <p:spPr>
          <a:xfrm>
            <a:off x="3276720" y="54100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209680" y="1447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еакц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981080" y="2362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2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+ О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= 2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rId1" action="ppaction://hlinksldjump"/>
          </p:cNvPr>
          <p:cNvSpPr/>
          <p:nvPr/>
        </p:nvSpPr>
        <p:spPr>
          <a:xfrm>
            <a:off x="4343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295280" y="1066680"/>
            <a:ext cx="6172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б появиться я сум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каливают белый м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ня дает огонь в п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пламя маленькой св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тоит только сделать вдо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б я на свет явиться см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 в газированной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 в хлебе, в соде, я – вез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маю узнали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-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>
            <a:hlinkClick r:id="rId1" action="ppaction://hlinksldjump"/>
          </p:cNvPr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0" y="2057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29000" y="2743200"/>
            <a:ext cx="2362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>
            <a:hlinkClick r:id="rId1" action="ppaction://hlinksldjump"/>
          </p:cNvPr>
          <p:cNvSpPr/>
          <p:nvPr/>
        </p:nvSpPr>
        <p:spPr>
          <a:xfrm>
            <a:off x="34290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3880" y="14479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ы провели опрос 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н высветил состав так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ислород с водородом вместе – «о» и «а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уют дружную группу ОН (о-аш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за вещества с группой э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есть ли у них главная прим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133720" y="1828800"/>
            <a:ext cx="541008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Me(OH)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Приветствие ком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 rot="19813800">
            <a:off x="5943240" y="3352320"/>
            <a:ext cx="3200400" cy="307188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ман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№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 rot="1190400">
            <a:off x="5867280" y="2971800"/>
            <a:ext cx="3276720" cy="3048120"/>
          </a:xfrm>
          <a:prstGeom prst="irregularSeal1">
            <a:avLst/>
          </a:prstGeom>
          <a:solidFill>
            <a:srgbClr val="ffcc99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ман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№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 rot="1152000">
            <a:off x="5790960" y="3352320"/>
            <a:ext cx="3124080" cy="2853000"/>
          </a:xfrm>
          <a:prstGeom prst="irregularSeal1">
            <a:avLst/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ман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№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20999400">
            <a:off x="6081840" y="3352680"/>
            <a:ext cx="3047760" cy="2968920"/>
          </a:xfrm>
          <a:prstGeom prst="irregularSeal1">
            <a:avLst/>
          </a:prstGeom>
          <a:solidFill>
            <a:srgbClr val="ffff99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ман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№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3078 C 0.05122 0.02777 0.05278 0.02407 0.05573 0.02175 C 0.05764 0.02013 0.06094 0.02175 0.06233 0.01944 C 0.06459 0.0162 0.06459 0.01064 0.06563 0.00625 C 0.06459 -0.06968 0.06841 -0.11135 0.04393 -0.17362 C 0.04219 -0.18612 0.04063 -0.19144 0.03559 -0.20255 C 0.03386 -0.21297 0.03039 -0.22153 0.02726 -0.23149 C 0.02535 -0.24399 0.02414 -0.25672 0.01893 -0.26737 C 0.01632 -0.28218 0.00886 -0.29306 0.00226 -0.30487 C -0.00659 -0.32107 -0.01215 -0.33959 -0.02274 -0.35371 C -0.02621 -0.36899 -0.03784 -0.37848 -0.04618 -0.38936 C -0.06128 -0.40973 -0.03958 -0.38612 -0.05764 -0.40695 C -0.06493 -0.41551 -0.0743 -0.42107 -0.08264 -0.42709 C -0.0927 -0.4345 -0.10764 -0.45417 -0.1177 -0.45811 C -0.1618 -0.47524 -0.20416 -0.49468 -0.24774 -0.51366 C -0.27882 -0.52709 -0.3092 -0.54491 -0.34097 -0.55371 C -0.56198 -0.55139 -0.48767 -0.56088 -0.59097 -0.54028 C -0.61232 -0.53102 -0.63229 -0.51852 -0.65434 -0.51158 C -0.66302 -0.50556 -0.67239 -0.50394 -0.68107 -0.49815 C -0.68281 -0.497 -0.6842 -0.49514 -0.68611 -0.49375 C -0.68836 -0.49213 -0.69062 -0.49075 -0.6927 -0.48936 C -0.69809 -0.48218 -0.7026 -0.47825 -0.70937 -0.47362 C -0.71909 -0.45811 -0.72691 -0.44098 -0.73593 -0.42477 C -0.73767 -0.42153 -0.73784 -0.41713 -0.73941 -0.41366 C -0.74566 -0.4007 -0.75347 -0.38936 -0.75937 -0.37593 C -0.76736 -0.35788 -0.77378 -0.33889 -0.78107 -0.32038 C -0.79166 -0.22894 -0.78975 -0.31922 -0.78264 -0.09584 C -0.78229 -0.08288 -0.77222 -0.06413 -0.76927 -0.05163 C -0.76562 -0.03542 -0.76336 -0.01991 -0.75764 -0.00487 C -0.7533 0.02013 -0.74461 0.03402 -0.73437 0.05509 C -0.71823 0.08796 -0.69531 0.11157 -0.66597 0.11944 C -0.65434 0.11828 -0.6427 0.11759 -0.63107 0.11527 C -0.62187 0.11319 -0.6118 0.10694 -0.6026 0.10416 C -0.5993 0.103 -0.596 0.10254 -0.5927 0.10185 C -0.58715 0.10046 -0.57604 0.09745 -0.57604 0.09768 C -0.55451 0.08333 -0.53628 0.0655 -0.51597 0.04837 C -0.51076 0.04375 -0.50659 0.03703 -0.50104 0.03263 C -0.49826 0.03078 -0.49548 0.02847 -0.4927 0.02638 C -0.48611 0.00833 -0.47708 -0.00788 -0.46927 -0.025 C -0.45746 -0.08056 -0.46389 -0.13241 -0.46597 -0.19375 C -0.46614 -0.19769 -0.46823 -0.20116 -0.46927 -0.20487 C -0.47395 -0.22223 -0.4809 -0.24237 -0.48455 -0.26065 C -0.48993 -0.28727 -0.49791 -0.31204 -0.50451 -0.3382 C -0.51007 -0.36112 -0.51441 -0.38542 -0.52291 -0.40695 E">
                                      <p:cBhvr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2 0.07639 C 0.0776 0.01921 0.07777 -0.0375 0.07639 -0.09468 C 0.07586 -0.11412 0.0717 -0.12407 0.06649 -0.1412 C 0.06267 -0.1544 0.06128 -0.17014 0.05816 -0.18357 C 0.05086 -0.21482 0.04305 -0.2463 0.03472 -0.27708 C 0.0335 -0.28148 0.03264 -0.28565 0.03142 -0.29005 C 0.03055 -0.29329 0.02899 -0.29583 0.02812 -0.29931 C 0.02569 -0.30787 0.02135 -0.3257 0.02135 -0.32546 C 0.01666 -0.36644 0.00156 -0.39676 -0.01528 -0.43009 C -0.02813 -0.45579 -0.04462 -0.48171 -0.06354 -0.49907 C -0.07084 -0.50579 -0.07813 -0.51227 -0.08525 -0.51898 C -0.08924 -0.52269 -0.09236 -0.52778 -0.09688 -0.53009 C -0.10139 -0.53241 -0.10608 -0.5338 -0.11025 -0.53681 C -0.11441 -0.53982 -0.11771 -0.54514 -0.12188 -0.54792 C -0.13125 -0.5537 -0.14202 -0.5544 -0.15191 -0.55903 C -0.1724 -0.56852 -0.19271 -0.57986 -0.21354 -0.58796 C -0.21841 -0.58982 -0.22379 -0.59028 -0.22865 -0.59236 C -0.23872 -0.59676 -0.24861 -0.60278 -0.25851 -0.60787 C -0.27223 -0.61505 -0.27986 -0.61435 -0.29358 -0.61898 C -0.29914 -0.62083 -0.30469 -0.62361 -0.31025 -0.6257 C -0.31459 -0.62732 -0.3191 -0.6287 -0.32361 -0.63009 C -0.36025 -0.6294 -0.39688 -0.6294 -0.43351 -0.62801 C -0.43611 -0.62801 -0.44931 -0.62176 -0.45018 -0.6213 C -0.4658 -0.61505 -0.48004 -0.60602 -0.49532 -0.59907 C -0.50625 -0.59421 -0.52014 -0.59421 -0.53021 -0.58565 C -0.53264 -0.58357 -0.54896 -0.56644 -0.55365 -0.56134 C -0.55608 -0.5588 -0.55938 -0.55857 -0.56198 -0.55671 C -0.56927 -0.55139 -0.57032 -0.54676 -0.57691 -0.53912 C -0.58247 -0.53287 -0.59931 -0.51713 -0.60365 -0.50787 C -0.6158 -0.48195 -0.62917 -0.45787 -0.64184 -0.43241 C -0.64792 -0.42037 -0.65504 -0.40741 -0.66025 -0.39468 C -0.66702 -0.37847 -0.6592 -0.3875 -0.66858 -0.37894 C -0.67153 -0.36782 -0.67205 -0.35671 -0.67518 -0.3456 C -0.67639 -0.34144 -0.67865 -0.33241 -0.67865 -0.33218 C -0.67986 -0.31829 -0.67969 -0.3125 -0.68525 -0.30139 C -0.68577 -0.29676 -0.68681 -0.29236 -0.68698 -0.2882 C -0.68785 -0.27245 -0.68733 -0.25718 -0.68854 -0.24144 C -0.68889 -0.23657 -0.6908 -0.23264 -0.69184 -0.22824 C -0.69236 -0.2257 -0.69358 -0.2213 -0.69358 -0.22107 C -0.69132 -0.15 -0.69584 -0.13727 -0.68351 -0.0882 C -0.68125 -0.07917 -0.68021 -0.06574 -0.67518 -0.05903 C -0.67049 -0.03681 -0.66094 -0.0206 -0.65191 -0.00116 C -0.64861 0.00579 -0.64549 0.01412 -0.64028 0.01852 C -0.63316 0.025 -0.6257 0.03032 -0.61858 0.03657 C -0.61632 0.03866 -0.61459 0.0419 -0.61198 0.04305 C -0.6066 0.04583 -0.60087 0.04583 -0.59532 0.04768 C -0.58854 0.05023 -0.57518 0.05625 -0.57518 0.05648 C -0.53073 0.05555 -0.48629 0.05671 -0.44184 0.05417 C -0.43091 0.0537 -0.40191 0.0493 -0.38698 0.04305 C -0.37622 0.03889 -0.36962 0.03356 -0.35851 0.02963 C -0.34809 0.02639 -0.33907 0.01574 -0.32865 0.01204 C -0.29497 -0.00046 -0.32414 0.0125 -0.30851 0.00509 C -0.29914 -0.00417 -0.28976 -0.01157 -0.28021 -0.0213 C -0.27726 -0.02431 -0.27344 -0.02523 -0.27049 -0.02824 C -0.23959 -0.05602 -0.26598 -0.0375 -0.24358 -0.05255 C -0.22726 -0.07477 -0.24827 -0.04884 -0.22691 -0.06597 C -0.2191 -0.07199 -0.2125 -0.08079 -0.20521 -0.0882 C -0.19479 -0.09815 -0.19792 -0.08449 -0.18525 -0.10579 C -0.17136 -0.12917 -0.16059 -0.15532 -0.14688 -0.17894 C -0.14236 -0.18681 -0.1408 -0.19421 -0.13525 -0.20116 C -0.13143 -0.21157 -0.13004 -0.22292 -0.12518 -0.23264 C -0.12361 -0.24144 -0.12344 -0.25116 -0.12032 -0.25903 C -0.11927 -0.26204 -0.11771 -0.26505 -0.11702 -0.26806 C -0.11354 -0.27963 -0.11407 -0.29097 -0.10851 -0.30139 C -0.10729 -0.31505 -0.10243 -0.33866 -0.09879 -0.35232 C -0.09653 -0.36042 -0.09219 -0.36551 -0.09202 -0.37454 C -0.09132 -0.38495 -0.09202 -0.39537 -0.09202 -0.40579 E">
                                      <p:cBhvr>
                                        <p:cTn id="1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59 0.09328 C 0.06615 0.04629 0.06754 -0.00209 0.05556 -0.04653 C 0.05504 -0.07477 0.05539 -0.10301 0.05382 -0.13102 C 0.05348 -0.13889 0.04914 -0.14561 0.04723 -0.15325 C 0.04427 -0.16505 0.04393 -0.17639 0.03889 -0.18658 C 0.03698 -0.1963 0.03664 -0.20487 0.0323 -0.2132 C 0.02726 -0.24491 0.0342 -0.20556 0.02726 -0.23334 C 0.02431 -0.24514 0.02414 -0.25602 0.01893 -0.26667 C 0.01615 -0.28496 0.01129 -0.30625 0.00382 -0.32223 C 0.00261 -0.32477 0.00035 -0.32639 -0.00104 -0.32894 C -0.00798 -0.34144 -0.01111 -0.35325 -0.01944 -0.36436 C -0.02465 -0.37871 -0.03489 -0.38565 -0.04444 -0.39561 C -0.05347 -0.4051 -0.06302 -0.41158 -0.07274 -0.41991 C -0.09045 -0.43519 -0.07187 -0.42408 -0.08941 -0.43334 C -0.10034 -0.44746 -0.11284 -0.45811 -0.12777 -0.46227 C -0.13628 -0.46899 -0.14132 -0.475 -0.15104 -0.47778 C -0.16128 -0.4845 -0.1717 -0.4882 -0.18281 -0.49098 C -0.20642 -0.50417 -0.23177 -0.51135 -0.25607 -0.52223 C -0.31718 -0.52153 -0.3783 -0.522 -0.43941 -0.51991 C -0.45364 -0.51945 -0.4684 -0.50533 -0.48281 -0.50209 C -0.49531 -0.49537 -0.50833 -0.48774 -0.52118 -0.48218 C -0.52882 -0.47871 -0.54514 -0.47385 -0.55451 -0.46875 C -0.5651 -0.46297 -0.57482 -0.45649 -0.58611 -0.45325 C -0.59687 -0.44445 -0.6217 -0.42454 -0.62951 -0.41112 C -0.63316 -0.39584 -0.62812 -0.41366 -0.63611 -0.39769 C -0.63715 -0.39584 -0.63698 -0.39306 -0.63784 -0.39098 C -0.64132 -0.38149 -0.64305 -0.37917 -0.64774 -0.37107 C -0.6526 -0.33959 -0.64514 -0.37917 -0.65451 -0.35116 C -0.65573 -0.34769 -0.65486 -0.34352 -0.65607 -0.34005 C -0.6585 -0.33264 -0.66336 -0.32709 -0.66614 -0.31991 C -0.66961 -0.31042 -0.66979 -0.30047 -0.67274 -0.29098 C -0.67465 -0.28496 -0.67777 -0.2794 -0.67951 -0.27338 C -0.68055 -0.26968 -0.68177 -0.26598 -0.68281 -0.26227 C -0.68663 -0.23681 -0.68368 -0.24676 -0.68941 -0.23102 C -0.69253 -0.21042 -0.69843 -0.19028 -0.70451 -0.17107 C -0.71093 -0.12524 -0.7125 -0.07547 -0.70104 -0.03102 C -0.70052 -0.02662 -0.70034 -0.022 -0.69948 -0.01783 C -0.69878 -0.01459 -0.69687 -0.01204 -0.69618 -0.0088 C -0.69132 0.01527 -0.69809 -0.000699999999999999 -0.69114 0.01342 C -0.68645 0.03726 -0.68107 0.06018 -0.67274 0.08217 C -0.67222 0.08657 -0.67222 0.0912 -0.67118 0.0956 C -0.67014 0.10046 -0.66232 0.1155 -0.66111 0.11782 C -0.65156 0.13703 -0.63958 0.15671 -0.62274 0.16458 C -0.61666 0.17638 -0.60833 0.18564 -0.59774 0.18888 C -0.57586 0.18495 -0.56389 0.17638 -0.54618 0.15995 C -0.54062 0.15486 -0.53507 0.14953 -0.52951 0.14444 C -0.52517 0.1405 -0.51614 0.13333 -0.51614 0.13356 C -0.51319 0.12152 -0.50625 0.10648 -0.49948 0.09791 C -0.49635 0.07754 -0.48055 0.02222 -0.50104 0.02222 E">
                                      <p:cBhvr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5162 C 0.04774 0.04375 0.04826 0.03982 0.04653 0.025 C 0.04531 -0.02477 0.04792 -0.03125 0.0349 -0.06597 C 0.03212 -0.08611 0.02847 -0.10879 0.01997 -0.12616 C 0.01701 -0.14907 0.00885 -0.17685 0.0033 -0.1993 C 0.00156 -0.20602 0 -0.21273 -0.00174 -0.21944 C -0.00278 -0.22384 -0.00503 -0.23264 -0.00503 -0.23241 C -0.00677 -0.24907 -0.01094 -0.25741 -0.0151 -0.27268 C -0.02014 -0.2912 -0.01146 -0.2625 -0.0184 -0.29282 C -0.02274 -0.31227 -0.03194 -0.3294 -0.0401 -0.34606 C -0.04392 -0.36273 -0.05538 -0.3787 -0.06337 -0.39282 C -0.0684 -0.40162 -0.0717 -0.41273 -0.07674 -0.42153 C -0.0842 -0.43449 -0.08264 -0.42731 -0.09167 -0.43935 C -0.09913 -0.4493 -0.11128 -0.47361 -0.12014 -0.4794 C -0.13958 -0.49236 -0.11076 -0.47245 -0.13524 -0.49282 C -0.13837 -0.49537 -0.14219 -0.49676 -0.14514 -0.4993 C -0.16684 -0.51759 -0.18507 -0.54097 -0.21007 -0.55046 C -0.22309 -0.56088 -0.21441 -0.55555 -0.23177 -0.56157 C -0.2401 -0.56458 -0.25677 -0.5706 -0.25677 -0.57037 C -0.28003 -0.58819 -0.30868 -0.59699 -0.33507 -0.60162 C -0.39115 -0.5993 -0.4474 -0.59907 -0.50347 -0.59491 C -0.50764 -0.59467 -0.51111 -0.59004 -0.5151 -0.58819 C -0.53108 -0.58102 -0.55 -0.57222 -0.56667 -0.56829 C -0.58385 -0.55926 -0.60069 -0.5493 -0.6184 -0.54167 C -0.64358 -0.51435 -0.61128 -0.54745 -0.63507 -0.52824 C -0.64774 -0.51805 -0.65851 -0.50162 -0.6717 -0.49282 C -0.67274 -0.49051 -0.67378 -0.48819 -0.675 -0.48611 C -0.67656 -0.48356 -0.67865 -0.48194 -0.68003 -0.4794 C -0.68316 -0.47384 -0.68837 -0.46157 -0.68837 -0.46134 C -0.68889 -0.45856 -0.68941 -0.45555 -0.6901 -0.45278 C -0.69097 -0.44907 -0.69253 -0.44537 -0.6934 -0.44167 C -0.69618 -0.42963 -0.69635 -0.41296 -0.70347 -0.40393 C -0.71146 -0.33518 -0.71667 -0.25602 -0.69167 -0.19282 C -0.68993 -0.18055 -0.68559 -0.17129 -0.68333 -0.15949 C -0.68125 -0.14815 -0.67743 -0.13935 -0.675 -0.12824 C -0.6691 -0.10116 -0.67014 -0.10301 -0.65833 -0.07708 C -0.65017 -0.05926 -0.66007 -0.07801 -0.65174 -0.05717 C -0.64983 -0.05254 -0.6474 -0.04815 -0.64514 -0.04375 C -0.6441 -0.04143 -0.64167 -0.03727 -0.64167 -0.03704 C -0.63681 -0.0162 -0.64462 -0.04514 -0.63507 -0.02616 C -0.63385 -0.02361 -0.63472 -0.01967 -0.63333 -0.01713 C -0.62899 -0.00903 -0.62309 -0.00254 -0.6184 0.00509 C -0.61684 0.00764 -0.61528 0.01019 -0.61337 0.01181 C -0.61198 0.0132 -0.61007 0.0132 -0.60833 0.01389 C -0.58889 0.03403 -0.57413 0.05556 -0.55503 0.07616 C -0.55156 0.07986 -0.54705 0.08148 -0.5434 0.08496 C -0.53976 0.0882 -0.53698 0.09283 -0.53333 0.09607 C -0.51771 0.10972 -0.49948 0.11667 -0.48177 0.12292 C -0.47101 0.13241 -0.48368 0.12246 -0.46667 0.1294 C -0.45694 0.13333 -0.44861 0.14005 -0.43837 0.14283 C -0.42448 0.15208 -0.4401 0.14283 -0.4217 0.14954 C -0.39965 0.15764 -0.3783 0.16852 -0.35677 0.17847 C -0.24687 0.1713 -0.31198 0.1875 -0.26337 0.15625 C -0.25851 0.14954 -0.25521 0.14722 -0.24861 0.14514 C -0.24687 0.14283 -0.24531 0.14028 -0.2434 0.13843 C -0.24097 0.13588 -0.23767 0.13449 -0.23507 0.13171 C -0.23021 0.12616 -0.22153 0.10857 -0.2184 0.10278 C -0.21597 0.09815 -0.21458 0.08843 -0.21337 0.08287 C -0.20972 0.06644 -0.20747 0.04792 -0.2 0.03403 C -0.19809 0.02523 -0.19045 -0.00162 -0.20191 -0.00162 E">
                                      <p:cBhvr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>
            <a:hlinkClick r:id="rId1" action="ppaction://hlinksldjump"/>
          </p:cNvPr>
          <p:cNvSpPr/>
          <p:nvPr/>
        </p:nvSpPr>
        <p:spPr>
          <a:xfrm>
            <a:off x="35053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676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33520" y="1828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33520" y="129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йдите лишнюю формулу и дайте название этому веществ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838080" y="2819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80880" y="29718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NaOH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KCl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 Na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, BaCl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rId1" action="ppaction://hlinksldjump"/>
          </p:cNvPr>
          <p:cNvSpPr/>
          <p:nvPr/>
        </p:nvSpPr>
        <p:spPr>
          <a:xfrm>
            <a:off x="3200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38080" y="1752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Na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895480" y="1981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гидроксид натрия, щел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rId1" action="ppaction://hlinksldjump"/>
          </p:cNvPr>
          <p:cNvSpPr/>
          <p:nvPr/>
        </p:nvSpPr>
        <p:spPr>
          <a:xfrm>
            <a:off x="3581280" y="55897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09480" y="1295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берите для каждого основания характерные свойства. Буквы, соответствующие правильному ответу, дают название химического элемента, без которого невозможна жизнь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2666880"/>
          <a:ext cx="7696080" cy="3048120"/>
        </p:xfrm>
        <a:graphic>
          <a:graphicData uri="http://schemas.openxmlformats.org/drawingml/2006/table">
            <a:tbl>
              <a:tblPr/>
              <a:tblGrid>
                <a:gridCol w="2362320"/>
                <a:gridCol w="1295280"/>
                <a:gridCol w="1295280"/>
                <a:gridCol w="1447920"/>
                <a:gridCol w="1295280"/>
              </a:tblGrid>
              <a:tr h="48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ос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OH)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(OH)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(OH)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кисло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ъедающее 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 фенолфталеина окрашивается в крас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rId1" action="ppaction://hlinksldjump"/>
          </p:cNvPr>
          <p:cNvSpPr/>
          <p:nvPr/>
        </p:nvSpPr>
        <p:spPr>
          <a:xfrm>
            <a:off x="3200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05740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>
            <a:hlinkClick r:id="rId1" action="ppaction://hlinksldjump"/>
          </p:cNvPr>
          <p:cNvSpPr/>
          <p:nvPr/>
        </p:nvSpPr>
        <p:spPr>
          <a:xfrm>
            <a:off x="31240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1447920"/>
            <a:ext cx="662940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створ гидроксида калия вступает в химические реакции с веществами, формулы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) СО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б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) Са(ОН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aNO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)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">
            <a:hlinkClick r:id="rId1" action="ppaction://hlinksldjump"/>
          </p:cNvPr>
          <p:cNvSpPr/>
          <p:nvPr/>
        </p:nvSpPr>
        <p:spPr>
          <a:xfrm>
            <a:off x="3048120" y="54100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666880" y="1752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а,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>
            <a:hlinkClick r:id="rId1" action="ppaction://hlinksldjump"/>
          </p:cNvPr>
          <p:cNvSpPr/>
          <p:nvPr/>
        </p:nvSpPr>
        <p:spPr>
          <a:xfrm>
            <a:off x="30481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9480" y="1676520"/>
            <a:ext cx="82296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берите ряд формул, в котором все вещества являются осн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 Fe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ZnO, Cu(OH)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 Ba(NO3)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Ba(O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Fe(OH)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Na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 Zn(O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, H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rId1" action="ppaction://hlinksldjump"/>
          </p:cNvPr>
          <p:cNvSpPr/>
          <p:nvPr/>
        </p:nvSpPr>
        <p:spPr>
          <a:xfrm>
            <a:off x="3200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3372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>
            <a:hlinkClick r:id="rId1" action="ppaction://hlinksldjump"/>
          </p:cNvPr>
          <p:cNvSpPr/>
          <p:nvPr/>
        </p:nvSpPr>
        <p:spPr>
          <a:xfrm>
            <a:off x="31240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38080" y="1371600"/>
            <a:ext cx="73152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становит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створимое основание                      А. 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ерастворимое основание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 С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(OH)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.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. Ni(OH)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">
            <a:hlinkClick r:id="rId1" action="ppaction://hlinksldjump"/>
          </p:cNvPr>
          <p:cNvSpPr/>
          <p:nvPr/>
        </p:nvSpPr>
        <p:spPr>
          <a:xfrm>
            <a:off x="29718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447920" y="20574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-А,С 2-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,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Arial"/>
              </a:rPr>
              <a:t>Условия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7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лиц-турнир (по 3 во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ждая команда по очереди выбирает вопрос, через минуту отвечает любой член команды, который знает ответ. За  правильный ответ команда получает - очко, участник, ответивший правильно на вопрос– же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-банк (по 3 во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ждая команда  выбирает 3 вопроса, сразу отвечает любой член команды, который знает ответ. За  правильный ответ 3 вопросов команда получает – 3 очка, участник, ответивший правильно на вопрос– же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ичный зачет (по 3 во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ждая команда  выбирает участника, набравшего наибольшее количество жетонов. Участники по очереди открывают вопросы и отвечают на них самостоятельно. Выбирается лучший из луч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>
            <a:hlinkClick r:id="rId1" action="ppaction://hlinksldjump"/>
          </p:cNvPr>
          <p:cNvSpPr/>
          <p:nvPr/>
        </p:nvSpPr>
        <p:spPr>
          <a:xfrm>
            <a:off x="30481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066680" y="1295280"/>
            <a:ext cx="640080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Образуйте из с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-зот-ний- ще-а-маг-ная-за-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талл, при взаимодействии с кислотой выделяется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ислота, при взаимодействии которой с металлами не образуется вод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ип реакции между кислотой и метал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3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rId1" action="ppaction://hlinksldjump"/>
          </p:cNvPr>
          <p:cNvSpPr/>
          <p:nvPr/>
        </p:nvSpPr>
        <p:spPr>
          <a:xfrm>
            <a:off x="31240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600200" y="1447920"/>
            <a:ext cx="4952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г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зо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>
            <a:hlinkClick r:id="rId1" action="ppaction://hlinksldjump"/>
          </p:cNvPr>
          <p:cNvSpPr/>
          <p:nvPr/>
        </p:nvSpPr>
        <p:spPr>
          <a:xfrm>
            <a:off x="3200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533520" y="13716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09480" y="1447920"/>
            <a:ext cx="784872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кажите кислоту, которая не соответствует признаку, объединяющему их в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) Слабая кислота среди сильных: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NO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, H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, HCl, H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Двухосновная кисл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реди одноосновных: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I, HBr, HF ,H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rId1" action="ppaction://hlinksldjump"/>
          </p:cNvPr>
          <p:cNvSpPr/>
          <p:nvPr/>
        </p:nvSpPr>
        <p:spPr>
          <a:xfrm>
            <a:off x="29718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447920" y="1600200"/>
            <a:ext cx="52578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голь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ероводородная кислот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>
            <a:hlinkClick r:id="rId1" action="ppaction://hlinksldjump"/>
          </p:cNvPr>
          <p:cNvSpPr/>
          <p:nvPr/>
        </p:nvSpPr>
        <p:spPr>
          <a:xfrm>
            <a:off x="30481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600200" y="14479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ислоты входящие в состав «царской» во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>
            <a:hlinkClick r:id="rId1" action="ppaction://hlinksldjump"/>
          </p:cNvPr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295280" y="1523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а́рская во́дка — смесь концентрированных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зотно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(1 объём)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ляно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(3 объёма)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rId1" action="ppaction://hlinksldjump"/>
          </p:cNvPr>
          <p:cNvSpPr/>
          <p:nvPr/>
        </p:nvSpPr>
        <p:spPr>
          <a:xfrm>
            <a:off x="30481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43000" y="15238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50920" y="15238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формул кислот в следующем спис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371600" y="2286000"/>
            <a:ext cx="662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KOH, H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NaN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HN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CaCO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rId1" action="ppaction://hlinksldjump"/>
          </p:cNvPr>
          <p:cNvSpPr/>
          <p:nvPr/>
        </p:nvSpPr>
        <p:spPr>
          <a:xfrm>
            <a:off x="33526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429000" y="167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rId1" action="ppaction://hlinksldjump"/>
          </p:cNvPr>
          <p:cNvSpPr/>
          <p:nvPr/>
        </p:nvSpPr>
        <p:spPr>
          <a:xfrm>
            <a:off x="32767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14400" y="2133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838080" y="1719360"/>
            <a:ext cx="1943280" cy="50328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3"/>
          <p:cNvSpPr/>
          <p:nvPr/>
        </p:nvSpPr>
        <p:spPr>
          <a:xfrm>
            <a:off x="838080" y="243828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4"/>
          <p:cNvSpPr/>
          <p:nvPr/>
        </p:nvSpPr>
        <p:spPr>
          <a:xfrm>
            <a:off x="838080" y="3087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838080" y="380700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838080" y="4527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838080" y="517536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209680" y="1143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отнесите название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952880" y="1600200"/>
          <a:ext cx="2362320" cy="41148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Text Box 30"/>
          <p:cNvSpPr/>
          <p:nvPr/>
        </p:nvSpPr>
        <p:spPr>
          <a:xfrm>
            <a:off x="86709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7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rId1" action="ppaction://hlinksldjump"/>
          </p:cNvPr>
          <p:cNvSpPr/>
          <p:nvPr/>
        </p:nvSpPr>
        <p:spPr>
          <a:xfrm>
            <a:off x="6629400" y="36576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838080" y="1719360"/>
            <a:ext cx="1943280" cy="50328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838080" y="243828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838080" y="3087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838080" y="380700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838080" y="4527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838080" y="517536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895480" y="1676520"/>
          <a:ext cx="2667240" cy="396216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066680" y="990720"/>
            <a:ext cx="7621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965240" y="9907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окс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66680" y="1752480"/>
            <a:ext cx="762120" cy="609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9810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66680" y="2514600"/>
            <a:ext cx="762120" cy="609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057400" y="2514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066680" y="3352680"/>
            <a:ext cx="762120" cy="609840"/>
          </a:xfrm>
          <a:prstGeom prst="rect">
            <a:avLst/>
          </a:prstGeom>
          <a:solidFill>
            <a:srgbClr val="a4d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057400" y="4191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066680" y="4191120"/>
            <a:ext cx="7621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066680" y="4952880"/>
            <a:ext cx="762120" cy="6098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057400" y="3352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057400" y="4952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генетическая с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2209680" y="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емы зад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>
            <a:hlinkClick r:id="rId1" action="ppaction://hlinksldjump"/>
          </p:cNvPr>
          <p:cNvSpPr/>
          <p:nvPr/>
        </p:nvSpPr>
        <p:spPr>
          <a:xfrm>
            <a:off x="32004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04920" y="1371600"/>
            <a:ext cx="81532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ставьте возможные уравнения реакций взаимодействия перечисленных веществ с раствором серной кислоты. Из букв, соответствующих правильным ответам, вы составите название одного из элементов четвертого периода таблицы Д.И. Менделе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) Si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) Li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) Ва N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) НС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5) К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6) К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Si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7) Н N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8) Fе(ОН)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rId1" action="ppaction://hlinksldjump"/>
          </p:cNvPr>
          <p:cNvSpPr/>
          <p:nvPr/>
        </p:nvSpPr>
        <p:spPr>
          <a:xfrm>
            <a:off x="33526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20968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>
            <a:hlinkClick r:id="rId1" action="ppaction://hlinksldjump"/>
          </p:cNvPr>
          <p:cNvSpPr/>
          <p:nvPr/>
        </p:nvSpPr>
        <p:spPr>
          <a:xfrm>
            <a:off x="32004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523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Формулы только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лей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приведены в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) НСl, NaCl, HN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) H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H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) Ca(OH)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H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C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P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) N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NaN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>
            <a:hlinkClick r:id="rId1" action="ppaction://hlinksldjump"/>
          </p:cNvPr>
          <p:cNvSpPr/>
          <p:nvPr/>
        </p:nvSpPr>
        <p:spPr>
          <a:xfrm>
            <a:off x="34290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133720" y="1905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>
            <a:hlinkClick r:id="rId1" action="ppaction://hlinksldjump"/>
          </p:cNvPr>
          <p:cNvSpPr/>
          <p:nvPr/>
        </p:nvSpPr>
        <p:spPr>
          <a:xfrm>
            <a:off x="31240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38080" y="16002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пределите вещество, которое является лишним в каждой стр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. Na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PO4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  CaC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.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u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S   K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Ba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 MgC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rId1" action="ppaction://hlinksldjump"/>
          </p:cNvPr>
          <p:cNvSpPr/>
          <p:nvPr/>
        </p:nvSpPr>
        <p:spPr>
          <a:xfrm>
            <a:off x="31240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23880" y="15238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aCO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– нерастворимая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– растворимая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>
            <a:hlinkClick r:id="rId1" action="ppaction://hlinksldjump"/>
          </p:cNvPr>
          <p:cNvSpPr/>
          <p:nvPr/>
        </p:nvSpPr>
        <p:spPr>
          <a:xfrm>
            <a:off x="3429000" y="5181480"/>
            <a:ext cx="1332000" cy="126864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8" h="21600">
                <a:moveTo>
                  <a:pt x="0" y="0"/>
                </a:moveTo>
                <a:lnTo>
                  <a:pt x="22678" y="0"/>
                </a:lnTo>
                <a:lnTo>
                  <a:pt x="22678" y="21600"/>
                </a:lnTo>
                <a:lnTo>
                  <a:pt x="0" y="21600"/>
                </a:lnTo>
                <a:close/>
              </a:path>
              <a:path fill="lightenLess" w="22678" h="21600">
                <a:moveTo>
                  <a:pt x="0" y="0"/>
                </a:moveTo>
                <a:lnTo>
                  <a:pt x="22678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8" h="21600">
                <a:moveTo>
                  <a:pt x="22678" y="0"/>
                </a:moveTo>
                <a:lnTo>
                  <a:pt x="22678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8" h="21600">
                <a:moveTo>
                  <a:pt x="22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362320" y="1295280"/>
            <a:ext cx="4724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, конечно, очень нуж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ез меня не сваришь уж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засолишь огур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заправишь холод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о не только лишь в е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 живу в морско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Если льется слеза из гл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кус припомните вы с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то догадлив, говори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>
            <a:hlinkClick r:id="rId1" action="ppaction://hlinksldjump"/>
          </p:cNvPr>
          <p:cNvSpPr/>
          <p:nvPr/>
        </p:nvSpPr>
        <p:spPr>
          <a:xfrm>
            <a:off x="30481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9051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трия хлор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>
            <a:hlinkClick r:id="rId1" action="ppaction://hlinksldjump"/>
          </p:cNvPr>
          <p:cNvSpPr/>
          <p:nvPr/>
        </p:nvSpPr>
        <p:spPr>
          <a:xfrm>
            <a:off x="33526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533520" y="1066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айдите выигрышный путь, который составляют соли, растворимые в воде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828800" y="2362320"/>
          <a:ext cx="5562720" cy="2666880"/>
        </p:xfrm>
        <a:graphic>
          <a:graphicData uri="http://schemas.openxmlformats.org/drawingml/2006/table">
            <a:tbl>
              <a:tblPr/>
              <a:tblGrid>
                <a:gridCol w="1981080"/>
                <a:gridCol w="1828800"/>
                <a:gridCol w="175284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2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>
            <a:hlinkClick r:id="rId1" action="ppaction://hlinksldjump"/>
          </p:cNvPr>
          <p:cNvSpPr/>
          <p:nvPr/>
        </p:nvSpPr>
        <p:spPr>
          <a:xfrm>
            <a:off x="3276720" y="51055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523880" y="1676520"/>
          <a:ext cx="5562720" cy="2438280"/>
        </p:xfrm>
        <a:graphic>
          <a:graphicData uri="http://schemas.openxmlformats.org/drawingml/2006/table">
            <a:tbl>
              <a:tblPr/>
              <a:tblGrid>
                <a:gridCol w="1981440"/>
                <a:gridCol w="1828800"/>
                <a:gridCol w="175248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(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Line 28"/>
          <p:cNvSpPr/>
          <p:nvPr/>
        </p:nvSpPr>
        <p:spPr>
          <a:xfrm>
            <a:off x="990720" y="1905120"/>
            <a:ext cx="6553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>
            <a:hlinkClick r:id="rId1" action="ppaction://hlinksldjump"/>
          </p:cNvPr>
          <p:cNvSpPr/>
          <p:nvPr/>
        </p:nvSpPr>
        <p:spPr>
          <a:xfrm>
            <a:off x="250920" y="361800"/>
            <a:ext cx="1403280" cy="90828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3367" h="21600">
                <a:moveTo>
                  <a:pt x="0" y="0"/>
                </a:moveTo>
                <a:lnTo>
                  <a:pt x="33367" y="0"/>
                </a:lnTo>
                <a:lnTo>
                  <a:pt x="33367" y="21600"/>
                </a:lnTo>
                <a:lnTo>
                  <a:pt x="0" y="21600"/>
                </a:lnTo>
                <a:close/>
              </a:path>
              <a:path fill="lightenLess" w="33367" h="21600">
                <a:moveTo>
                  <a:pt x="0" y="0"/>
                </a:moveTo>
                <a:lnTo>
                  <a:pt x="33367" y="0"/>
                </a:lnTo>
                <a:lnTo>
                  <a:pt x="31967" y="1400"/>
                </a:lnTo>
                <a:lnTo>
                  <a:pt x="1400" y="1400"/>
                </a:lnTo>
                <a:close/>
              </a:path>
              <a:path fill="darken" w="33367" h="21600">
                <a:moveTo>
                  <a:pt x="33367" y="0"/>
                </a:moveTo>
                <a:lnTo>
                  <a:pt x="33367" y="21600"/>
                </a:lnTo>
                <a:lnTo>
                  <a:pt x="31967" y="20200"/>
                </a:lnTo>
                <a:lnTo>
                  <a:pt x="31967" y="1400"/>
                </a:lnTo>
                <a:close/>
              </a:path>
              <a:path fill="darkenLess" w="33367" h="21600">
                <a:moveTo>
                  <a:pt x="33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7" y="20200"/>
                </a:lnTo>
                <a:close/>
              </a:path>
              <a:path fill="lighten" w="33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>
            <a:hlinkClick r:id="rId2" action="ppaction://hlinksldjump"/>
          </p:cNvPr>
          <p:cNvSpPr/>
          <p:nvPr/>
        </p:nvSpPr>
        <p:spPr>
          <a:xfrm>
            <a:off x="250920" y="1414440"/>
            <a:ext cx="1403280" cy="90792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3380" h="21600">
                <a:moveTo>
                  <a:pt x="0" y="0"/>
                </a:moveTo>
                <a:lnTo>
                  <a:pt x="33380" y="0"/>
                </a:lnTo>
                <a:lnTo>
                  <a:pt x="33380" y="21600"/>
                </a:lnTo>
                <a:lnTo>
                  <a:pt x="0" y="21600"/>
                </a:lnTo>
                <a:close/>
              </a:path>
              <a:path fill="lightenLess" w="33380" h="21600">
                <a:moveTo>
                  <a:pt x="0" y="0"/>
                </a:moveTo>
                <a:lnTo>
                  <a:pt x="33380" y="0"/>
                </a:lnTo>
                <a:lnTo>
                  <a:pt x="31980" y="1400"/>
                </a:lnTo>
                <a:lnTo>
                  <a:pt x="1400" y="1400"/>
                </a:lnTo>
                <a:close/>
              </a:path>
              <a:path fill="darken" w="33380" h="21600">
                <a:moveTo>
                  <a:pt x="33380" y="0"/>
                </a:moveTo>
                <a:lnTo>
                  <a:pt x="33380" y="21600"/>
                </a:lnTo>
                <a:lnTo>
                  <a:pt x="31980" y="20200"/>
                </a:lnTo>
                <a:lnTo>
                  <a:pt x="31980" y="1400"/>
                </a:lnTo>
                <a:close/>
              </a:path>
              <a:path fill="darkenLess" w="33380" h="21600">
                <a:moveTo>
                  <a:pt x="3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0" y="20200"/>
                </a:lnTo>
                <a:close/>
              </a:path>
              <a:path fill="lighten" w="3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>
            <a:hlinkClick r:id="rId3" action="ppaction://hlinksldjump"/>
          </p:cNvPr>
          <p:cNvSpPr/>
          <p:nvPr/>
        </p:nvSpPr>
        <p:spPr>
          <a:xfrm>
            <a:off x="250920" y="2495520"/>
            <a:ext cx="1403280" cy="90792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3380" h="21600">
                <a:moveTo>
                  <a:pt x="0" y="0"/>
                </a:moveTo>
                <a:lnTo>
                  <a:pt x="33380" y="0"/>
                </a:lnTo>
                <a:lnTo>
                  <a:pt x="33380" y="21600"/>
                </a:lnTo>
                <a:lnTo>
                  <a:pt x="0" y="21600"/>
                </a:lnTo>
                <a:close/>
              </a:path>
              <a:path fill="lightenLess" w="33380" h="21600">
                <a:moveTo>
                  <a:pt x="0" y="0"/>
                </a:moveTo>
                <a:lnTo>
                  <a:pt x="33380" y="0"/>
                </a:lnTo>
                <a:lnTo>
                  <a:pt x="31980" y="1400"/>
                </a:lnTo>
                <a:lnTo>
                  <a:pt x="1400" y="1400"/>
                </a:lnTo>
                <a:close/>
              </a:path>
              <a:path fill="darken" w="33380" h="21600">
                <a:moveTo>
                  <a:pt x="33380" y="0"/>
                </a:moveTo>
                <a:lnTo>
                  <a:pt x="33380" y="21600"/>
                </a:lnTo>
                <a:lnTo>
                  <a:pt x="31980" y="20200"/>
                </a:lnTo>
                <a:lnTo>
                  <a:pt x="31980" y="1400"/>
                </a:lnTo>
                <a:close/>
              </a:path>
              <a:path fill="darkenLess" w="33380" h="21600">
                <a:moveTo>
                  <a:pt x="3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0" y="20200"/>
                </a:lnTo>
                <a:close/>
              </a:path>
              <a:path fill="lighten" w="3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4" action="ppaction://hlinksldjump"/>
          </p:cNvPr>
          <p:cNvSpPr/>
          <p:nvPr/>
        </p:nvSpPr>
        <p:spPr>
          <a:xfrm>
            <a:off x="250920" y="3575160"/>
            <a:ext cx="1403280" cy="90792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3380" h="21600">
                <a:moveTo>
                  <a:pt x="0" y="0"/>
                </a:moveTo>
                <a:lnTo>
                  <a:pt x="33380" y="0"/>
                </a:lnTo>
                <a:lnTo>
                  <a:pt x="33380" y="21600"/>
                </a:lnTo>
                <a:lnTo>
                  <a:pt x="0" y="21600"/>
                </a:lnTo>
                <a:close/>
              </a:path>
              <a:path fill="lightenLess" w="33380" h="21600">
                <a:moveTo>
                  <a:pt x="0" y="0"/>
                </a:moveTo>
                <a:lnTo>
                  <a:pt x="33380" y="0"/>
                </a:lnTo>
                <a:lnTo>
                  <a:pt x="31980" y="1400"/>
                </a:lnTo>
                <a:lnTo>
                  <a:pt x="1400" y="1400"/>
                </a:lnTo>
                <a:close/>
              </a:path>
              <a:path fill="darken" w="33380" h="21600">
                <a:moveTo>
                  <a:pt x="33380" y="0"/>
                </a:moveTo>
                <a:lnTo>
                  <a:pt x="33380" y="21600"/>
                </a:lnTo>
                <a:lnTo>
                  <a:pt x="31980" y="20200"/>
                </a:lnTo>
                <a:lnTo>
                  <a:pt x="31980" y="1400"/>
                </a:lnTo>
                <a:close/>
              </a:path>
              <a:path fill="darkenLess" w="33380" h="21600">
                <a:moveTo>
                  <a:pt x="3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0" y="20200"/>
                </a:lnTo>
                <a:close/>
              </a:path>
              <a:path fill="lighten" w="3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5" action="ppaction://hlinksldjump"/>
          </p:cNvPr>
          <p:cNvSpPr/>
          <p:nvPr/>
        </p:nvSpPr>
        <p:spPr>
          <a:xfrm>
            <a:off x="250920" y="4654440"/>
            <a:ext cx="1403280" cy="90828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3367" h="21600">
                <a:moveTo>
                  <a:pt x="0" y="0"/>
                </a:moveTo>
                <a:lnTo>
                  <a:pt x="33367" y="0"/>
                </a:lnTo>
                <a:lnTo>
                  <a:pt x="33367" y="21600"/>
                </a:lnTo>
                <a:lnTo>
                  <a:pt x="0" y="21600"/>
                </a:lnTo>
                <a:close/>
              </a:path>
              <a:path fill="lightenLess" w="33367" h="21600">
                <a:moveTo>
                  <a:pt x="0" y="0"/>
                </a:moveTo>
                <a:lnTo>
                  <a:pt x="33367" y="0"/>
                </a:lnTo>
                <a:lnTo>
                  <a:pt x="31967" y="1400"/>
                </a:lnTo>
                <a:lnTo>
                  <a:pt x="1400" y="1400"/>
                </a:lnTo>
                <a:close/>
              </a:path>
              <a:path fill="darken" w="33367" h="21600">
                <a:moveTo>
                  <a:pt x="33367" y="0"/>
                </a:moveTo>
                <a:lnTo>
                  <a:pt x="33367" y="21600"/>
                </a:lnTo>
                <a:lnTo>
                  <a:pt x="31967" y="20200"/>
                </a:lnTo>
                <a:lnTo>
                  <a:pt x="31967" y="1400"/>
                </a:lnTo>
                <a:close/>
              </a:path>
              <a:path fill="darkenLess" w="33367" h="21600">
                <a:moveTo>
                  <a:pt x="33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7" y="20200"/>
                </a:lnTo>
                <a:close/>
              </a:path>
              <a:path fill="lighten" w="33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6" action="ppaction://hlinksldjump"/>
          </p:cNvPr>
          <p:cNvSpPr/>
          <p:nvPr/>
        </p:nvSpPr>
        <p:spPr>
          <a:xfrm>
            <a:off x="250920" y="5735520"/>
            <a:ext cx="1403280" cy="90828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3367" h="21600">
                <a:moveTo>
                  <a:pt x="0" y="0"/>
                </a:moveTo>
                <a:lnTo>
                  <a:pt x="33367" y="0"/>
                </a:lnTo>
                <a:lnTo>
                  <a:pt x="33367" y="21600"/>
                </a:lnTo>
                <a:lnTo>
                  <a:pt x="0" y="21600"/>
                </a:lnTo>
                <a:close/>
              </a:path>
              <a:path fill="lightenLess" w="33367" h="21600">
                <a:moveTo>
                  <a:pt x="0" y="0"/>
                </a:moveTo>
                <a:lnTo>
                  <a:pt x="33367" y="0"/>
                </a:lnTo>
                <a:lnTo>
                  <a:pt x="31967" y="1400"/>
                </a:lnTo>
                <a:lnTo>
                  <a:pt x="1400" y="1400"/>
                </a:lnTo>
                <a:close/>
              </a:path>
              <a:path fill="darken" w="33367" h="21600">
                <a:moveTo>
                  <a:pt x="33367" y="0"/>
                </a:moveTo>
                <a:lnTo>
                  <a:pt x="33367" y="21600"/>
                </a:lnTo>
                <a:lnTo>
                  <a:pt x="31967" y="20200"/>
                </a:lnTo>
                <a:lnTo>
                  <a:pt x="31967" y="1400"/>
                </a:lnTo>
                <a:close/>
              </a:path>
              <a:path fill="darkenLess" w="33367" h="21600">
                <a:moveTo>
                  <a:pt x="33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7" y="20200"/>
                </a:lnTo>
                <a:close/>
              </a:path>
              <a:path fill="lighten" w="33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7" action="ppaction://hlinksldjump"/>
          </p:cNvPr>
          <p:cNvSpPr/>
          <p:nvPr/>
        </p:nvSpPr>
        <p:spPr>
          <a:xfrm>
            <a:off x="1763640" y="33336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8" action="ppaction://hlinksldjump"/>
          </p:cNvPr>
          <p:cNvSpPr/>
          <p:nvPr/>
        </p:nvSpPr>
        <p:spPr>
          <a:xfrm>
            <a:off x="1763640" y="141444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9" action="ppaction://hlinksldjump"/>
          </p:cNvPr>
          <p:cNvSpPr/>
          <p:nvPr/>
        </p:nvSpPr>
        <p:spPr>
          <a:xfrm>
            <a:off x="1763640" y="249408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>
            <a:hlinkClick r:id="rId10" action="ppaction://hlinksldjump"/>
          </p:cNvPr>
          <p:cNvSpPr/>
          <p:nvPr/>
        </p:nvSpPr>
        <p:spPr>
          <a:xfrm>
            <a:off x="1763640" y="357336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>
            <a:hlinkClick r:id="rId11" action="ppaction://hlinksldjump"/>
          </p:cNvPr>
          <p:cNvSpPr/>
          <p:nvPr/>
        </p:nvSpPr>
        <p:spPr>
          <a:xfrm>
            <a:off x="1763640" y="465444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>
            <a:hlinkClick r:id="rId12" action="ppaction://hlinksldjump"/>
          </p:cNvPr>
          <p:cNvSpPr/>
          <p:nvPr/>
        </p:nvSpPr>
        <p:spPr>
          <a:xfrm>
            <a:off x="1763640" y="573408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>
            <a:hlinkClick r:id="rId13" action="ppaction://hlinksldjump"/>
          </p:cNvPr>
          <p:cNvSpPr/>
          <p:nvPr/>
        </p:nvSpPr>
        <p:spPr>
          <a:xfrm>
            <a:off x="3203640" y="334800"/>
            <a:ext cx="1368360" cy="90828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37" h="21600">
                <a:moveTo>
                  <a:pt x="0" y="0"/>
                </a:moveTo>
                <a:lnTo>
                  <a:pt x="32537" y="0"/>
                </a:lnTo>
                <a:lnTo>
                  <a:pt x="32537" y="21600"/>
                </a:lnTo>
                <a:lnTo>
                  <a:pt x="0" y="21600"/>
                </a:lnTo>
                <a:close/>
              </a:path>
              <a:path fill="lightenLess" w="32537" h="21600">
                <a:moveTo>
                  <a:pt x="0" y="0"/>
                </a:moveTo>
                <a:lnTo>
                  <a:pt x="32537" y="0"/>
                </a:lnTo>
                <a:lnTo>
                  <a:pt x="31137" y="1400"/>
                </a:lnTo>
                <a:lnTo>
                  <a:pt x="1400" y="1400"/>
                </a:lnTo>
                <a:close/>
              </a:path>
              <a:path fill="darken" w="32537" h="21600">
                <a:moveTo>
                  <a:pt x="32537" y="0"/>
                </a:moveTo>
                <a:lnTo>
                  <a:pt x="32537" y="21600"/>
                </a:lnTo>
                <a:lnTo>
                  <a:pt x="31137" y="20200"/>
                </a:lnTo>
                <a:lnTo>
                  <a:pt x="31137" y="1400"/>
                </a:lnTo>
                <a:close/>
              </a:path>
              <a:path fill="darkenLess" w="32537" h="21600">
                <a:moveTo>
                  <a:pt x="32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7" y="20200"/>
                </a:lnTo>
                <a:close/>
              </a:path>
              <a:path fill="lighten" w="32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>
            <a:hlinkClick r:id="rId14" action="ppaction://hlinksldjump"/>
          </p:cNvPr>
          <p:cNvSpPr/>
          <p:nvPr/>
        </p:nvSpPr>
        <p:spPr>
          <a:xfrm>
            <a:off x="3203640" y="1415880"/>
            <a:ext cx="1368360" cy="90828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37" h="21600">
                <a:moveTo>
                  <a:pt x="0" y="0"/>
                </a:moveTo>
                <a:lnTo>
                  <a:pt x="32537" y="0"/>
                </a:lnTo>
                <a:lnTo>
                  <a:pt x="32537" y="21600"/>
                </a:lnTo>
                <a:lnTo>
                  <a:pt x="0" y="21600"/>
                </a:lnTo>
                <a:close/>
              </a:path>
              <a:path fill="lightenLess" w="32537" h="21600">
                <a:moveTo>
                  <a:pt x="0" y="0"/>
                </a:moveTo>
                <a:lnTo>
                  <a:pt x="32537" y="0"/>
                </a:lnTo>
                <a:lnTo>
                  <a:pt x="31137" y="1400"/>
                </a:lnTo>
                <a:lnTo>
                  <a:pt x="1400" y="1400"/>
                </a:lnTo>
                <a:close/>
              </a:path>
              <a:path fill="darken" w="32537" h="21600">
                <a:moveTo>
                  <a:pt x="32537" y="0"/>
                </a:moveTo>
                <a:lnTo>
                  <a:pt x="32537" y="21600"/>
                </a:lnTo>
                <a:lnTo>
                  <a:pt x="31137" y="20200"/>
                </a:lnTo>
                <a:lnTo>
                  <a:pt x="31137" y="1400"/>
                </a:lnTo>
                <a:close/>
              </a:path>
              <a:path fill="darkenLess" w="32537" h="21600">
                <a:moveTo>
                  <a:pt x="32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7" y="20200"/>
                </a:lnTo>
                <a:close/>
              </a:path>
              <a:path fill="lighten" w="32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>
            <a:hlinkClick r:id="rId15" action="ppaction://hlinksldjump"/>
          </p:cNvPr>
          <p:cNvSpPr/>
          <p:nvPr/>
        </p:nvSpPr>
        <p:spPr>
          <a:xfrm>
            <a:off x="3203640" y="2495520"/>
            <a:ext cx="1368360" cy="90792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50" h="21600">
                <a:moveTo>
                  <a:pt x="0" y="0"/>
                </a:moveTo>
                <a:lnTo>
                  <a:pt x="32550" y="0"/>
                </a:lnTo>
                <a:lnTo>
                  <a:pt x="32550" y="21600"/>
                </a:lnTo>
                <a:lnTo>
                  <a:pt x="0" y="21600"/>
                </a:lnTo>
                <a:close/>
              </a:path>
              <a:path fill="lightenLess" w="32550" h="21600">
                <a:moveTo>
                  <a:pt x="0" y="0"/>
                </a:moveTo>
                <a:lnTo>
                  <a:pt x="32550" y="0"/>
                </a:lnTo>
                <a:lnTo>
                  <a:pt x="31150" y="1400"/>
                </a:lnTo>
                <a:lnTo>
                  <a:pt x="1400" y="1400"/>
                </a:lnTo>
                <a:close/>
              </a:path>
              <a:path fill="darken" w="32550" h="21600">
                <a:moveTo>
                  <a:pt x="32550" y="0"/>
                </a:moveTo>
                <a:lnTo>
                  <a:pt x="32550" y="21600"/>
                </a:lnTo>
                <a:lnTo>
                  <a:pt x="31150" y="20200"/>
                </a:lnTo>
                <a:lnTo>
                  <a:pt x="31150" y="1400"/>
                </a:lnTo>
                <a:close/>
              </a:path>
              <a:path fill="darkenLess" w="32550" h="21600">
                <a:moveTo>
                  <a:pt x="32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50" y="20200"/>
                </a:lnTo>
                <a:close/>
              </a:path>
              <a:path fill="lighten" w="32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7">
            <a:hlinkClick r:id="rId16" action="ppaction://hlinksldjump"/>
          </p:cNvPr>
          <p:cNvSpPr/>
          <p:nvPr/>
        </p:nvSpPr>
        <p:spPr>
          <a:xfrm>
            <a:off x="3203640" y="3575160"/>
            <a:ext cx="1368360" cy="90792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50" h="21600">
                <a:moveTo>
                  <a:pt x="0" y="0"/>
                </a:moveTo>
                <a:lnTo>
                  <a:pt x="32550" y="0"/>
                </a:lnTo>
                <a:lnTo>
                  <a:pt x="32550" y="21600"/>
                </a:lnTo>
                <a:lnTo>
                  <a:pt x="0" y="21600"/>
                </a:lnTo>
                <a:close/>
              </a:path>
              <a:path fill="lightenLess" w="32550" h="21600">
                <a:moveTo>
                  <a:pt x="0" y="0"/>
                </a:moveTo>
                <a:lnTo>
                  <a:pt x="32550" y="0"/>
                </a:lnTo>
                <a:lnTo>
                  <a:pt x="31150" y="1400"/>
                </a:lnTo>
                <a:lnTo>
                  <a:pt x="1400" y="1400"/>
                </a:lnTo>
                <a:close/>
              </a:path>
              <a:path fill="darken" w="32550" h="21600">
                <a:moveTo>
                  <a:pt x="32550" y="0"/>
                </a:moveTo>
                <a:lnTo>
                  <a:pt x="32550" y="21600"/>
                </a:lnTo>
                <a:lnTo>
                  <a:pt x="31150" y="20200"/>
                </a:lnTo>
                <a:lnTo>
                  <a:pt x="31150" y="1400"/>
                </a:lnTo>
                <a:close/>
              </a:path>
              <a:path fill="darkenLess" w="32550" h="21600">
                <a:moveTo>
                  <a:pt x="32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50" y="20200"/>
                </a:lnTo>
                <a:close/>
              </a:path>
              <a:path fill="lighten" w="32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8">
            <a:hlinkClick r:id="rId17" action="ppaction://hlinksldjump"/>
          </p:cNvPr>
          <p:cNvSpPr/>
          <p:nvPr/>
        </p:nvSpPr>
        <p:spPr>
          <a:xfrm>
            <a:off x="3203640" y="4654440"/>
            <a:ext cx="1368360" cy="90828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37" h="21600">
                <a:moveTo>
                  <a:pt x="0" y="0"/>
                </a:moveTo>
                <a:lnTo>
                  <a:pt x="32537" y="0"/>
                </a:lnTo>
                <a:lnTo>
                  <a:pt x="32537" y="21600"/>
                </a:lnTo>
                <a:lnTo>
                  <a:pt x="0" y="21600"/>
                </a:lnTo>
                <a:close/>
              </a:path>
              <a:path fill="lightenLess" w="32537" h="21600">
                <a:moveTo>
                  <a:pt x="0" y="0"/>
                </a:moveTo>
                <a:lnTo>
                  <a:pt x="32537" y="0"/>
                </a:lnTo>
                <a:lnTo>
                  <a:pt x="31137" y="1400"/>
                </a:lnTo>
                <a:lnTo>
                  <a:pt x="1400" y="1400"/>
                </a:lnTo>
                <a:close/>
              </a:path>
              <a:path fill="darken" w="32537" h="21600">
                <a:moveTo>
                  <a:pt x="32537" y="0"/>
                </a:moveTo>
                <a:lnTo>
                  <a:pt x="32537" y="21600"/>
                </a:lnTo>
                <a:lnTo>
                  <a:pt x="31137" y="20200"/>
                </a:lnTo>
                <a:lnTo>
                  <a:pt x="31137" y="1400"/>
                </a:lnTo>
                <a:close/>
              </a:path>
              <a:path fill="darkenLess" w="32537" h="21600">
                <a:moveTo>
                  <a:pt x="32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7" y="20200"/>
                </a:lnTo>
                <a:close/>
              </a:path>
              <a:path fill="lighten" w="32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9">
            <a:hlinkClick r:id="rId18" action="ppaction://hlinksldjump"/>
          </p:cNvPr>
          <p:cNvSpPr/>
          <p:nvPr/>
        </p:nvSpPr>
        <p:spPr>
          <a:xfrm>
            <a:off x="3203640" y="5735520"/>
            <a:ext cx="1368360" cy="908280"/>
          </a:xfrm>
          <a:custGeom>
            <a:avLst/>
            <a:gdLst>
              <a:gd name="textAreaLeft" fmla="*/ 58680 w 1368360"/>
              <a:gd name="textAreaRight" fmla="*/ 1309680 w 1368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37" h="21600">
                <a:moveTo>
                  <a:pt x="0" y="0"/>
                </a:moveTo>
                <a:lnTo>
                  <a:pt x="32537" y="0"/>
                </a:lnTo>
                <a:lnTo>
                  <a:pt x="32537" y="21600"/>
                </a:lnTo>
                <a:lnTo>
                  <a:pt x="0" y="21600"/>
                </a:lnTo>
                <a:close/>
              </a:path>
              <a:path fill="lightenLess" w="32537" h="21600">
                <a:moveTo>
                  <a:pt x="0" y="0"/>
                </a:moveTo>
                <a:lnTo>
                  <a:pt x="32537" y="0"/>
                </a:lnTo>
                <a:lnTo>
                  <a:pt x="31137" y="1400"/>
                </a:lnTo>
                <a:lnTo>
                  <a:pt x="1400" y="1400"/>
                </a:lnTo>
                <a:close/>
              </a:path>
              <a:path fill="darken" w="32537" h="21600">
                <a:moveTo>
                  <a:pt x="32537" y="0"/>
                </a:moveTo>
                <a:lnTo>
                  <a:pt x="32537" y="21600"/>
                </a:lnTo>
                <a:lnTo>
                  <a:pt x="31137" y="20200"/>
                </a:lnTo>
                <a:lnTo>
                  <a:pt x="31137" y="1400"/>
                </a:lnTo>
                <a:close/>
              </a:path>
              <a:path fill="darkenLess" w="32537" h="21600">
                <a:moveTo>
                  <a:pt x="32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7" y="20200"/>
                </a:lnTo>
                <a:close/>
              </a:path>
              <a:path fill="lighten" w="32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>
            <a:hlinkClick r:id="rId19" action="ppaction://hlinksldjump"/>
          </p:cNvPr>
          <p:cNvSpPr/>
          <p:nvPr/>
        </p:nvSpPr>
        <p:spPr>
          <a:xfrm>
            <a:off x="4643280" y="33336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>
            <a:hlinkClick r:id="rId20" action="ppaction://hlinksldjump"/>
          </p:cNvPr>
          <p:cNvSpPr/>
          <p:nvPr/>
        </p:nvSpPr>
        <p:spPr>
          <a:xfrm>
            <a:off x="4643280" y="141444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2">
            <a:hlinkClick r:id="rId21" action="ppaction://hlinksldjump"/>
          </p:cNvPr>
          <p:cNvSpPr/>
          <p:nvPr/>
        </p:nvSpPr>
        <p:spPr>
          <a:xfrm>
            <a:off x="4643280" y="249408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3">
            <a:hlinkClick r:id="rId22" action="ppaction://hlinksldjump"/>
          </p:cNvPr>
          <p:cNvSpPr/>
          <p:nvPr/>
        </p:nvSpPr>
        <p:spPr>
          <a:xfrm>
            <a:off x="4643280" y="357336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4">
            <a:hlinkClick r:id="rId23" action="ppaction://hlinksldjump"/>
          </p:cNvPr>
          <p:cNvSpPr/>
          <p:nvPr/>
        </p:nvSpPr>
        <p:spPr>
          <a:xfrm>
            <a:off x="4643280" y="465444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5">
            <a:hlinkClick r:id="rId24" action="ppaction://hlinksldjump"/>
          </p:cNvPr>
          <p:cNvSpPr/>
          <p:nvPr/>
        </p:nvSpPr>
        <p:spPr>
          <a:xfrm>
            <a:off x="4643280" y="573408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6">
            <a:hlinkClick r:id="rId25" action="ppaction://hlinksldjump"/>
          </p:cNvPr>
          <p:cNvSpPr/>
          <p:nvPr/>
        </p:nvSpPr>
        <p:spPr>
          <a:xfrm>
            <a:off x="6083280" y="33480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7">
            <a:hlinkClick r:id="rId26" action="ppaction://hlinksldjump"/>
          </p:cNvPr>
          <p:cNvSpPr/>
          <p:nvPr/>
        </p:nvSpPr>
        <p:spPr>
          <a:xfrm>
            <a:off x="6083280" y="141588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8">
            <a:hlinkClick r:id="rId27" action="ppaction://hlinksldjump"/>
          </p:cNvPr>
          <p:cNvSpPr/>
          <p:nvPr/>
        </p:nvSpPr>
        <p:spPr>
          <a:xfrm>
            <a:off x="6083280" y="249552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>
            <a:hlinkClick r:id="rId28" action="ppaction://hlinksldjump"/>
          </p:cNvPr>
          <p:cNvSpPr/>
          <p:nvPr/>
        </p:nvSpPr>
        <p:spPr>
          <a:xfrm>
            <a:off x="6083280" y="357516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>
            <a:hlinkClick r:id="rId29" action="ppaction://hlinksldjump"/>
          </p:cNvPr>
          <p:cNvSpPr/>
          <p:nvPr/>
        </p:nvSpPr>
        <p:spPr>
          <a:xfrm>
            <a:off x="6083280" y="4656240"/>
            <a:ext cx="1366920" cy="90792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2516" h="21600">
                <a:moveTo>
                  <a:pt x="0" y="0"/>
                </a:moveTo>
                <a:lnTo>
                  <a:pt x="32516" y="0"/>
                </a:lnTo>
                <a:lnTo>
                  <a:pt x="32516" y="21600"/>
                </a:lnTo>
                <a:lnTo>
                  <a:pt x="0" y="21600"/>
                </a:lnTo>
                <a:close/>
              </a:path>
              <a:path fill="lightenLess" w="32516" h="21600">
                <a:moveTo>
                  <a:pt x="0" y="0"/>
                </a:moveTo>
                <a:lnTo>
                  <a:pt x="32516" y="0"/>
                </a:lnTo>
                <a:lnTo>
                  <a:pt x="31116" y="1400"/>
                </a:lnTo>
                <a:lnTo>
                  <a:pt x="1400" y="1400"/>
                </a:lnTo>
                <a:close/>
              </a:path>
              <a:path fill="darken" w="32516" h="21600">
                <a:moveTo>
                  <a:pt x="32516" y="0"/>
                </a:moveTo>
                <a:lnTo>
                  <a:pt x="32516" y="21600"/>
                </a:lnTo>
                <a:lnTo>
                  <a:pt x="31116" y="20200"/>
                </a:lnTo>
                <a:lnTo>
                  <a:pt x="31116" y="1400"/>
                </a:lnTo>
                <a:close/>
              </a:path>
              <a:path fill="darkenLess" w="32516" h="21600">
                <a:moveTo>
                  <a:pt x="32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6" y="20200"/>
                </a:lnTo>
                <a:close/>
              </a:path>
              <a:path fill="lighten" w="32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>
            <a:hlinkClick r:id="rId30" action="ppaction://hlinksldjump"/>
          </p:cNvPr>
          <p:cNvSpPr/>
          <p:nvPr/>
        </p:nvSpPr>
        <p:spPr>
          <a:xfrm>
            <a:off x="6083280" y="5735520"/>
            <a:ext cx="1366920" cy="908280"/>
          </a:xfrm>
          <a:custGeom>
            <a:avLst/>
            <a:gdLst>
              <a:gd name="textAreaLeft" fmla="*/ 58680 w 1366920"/>
              <a:gd name="textAreaRight" fmla="*/ 1308240 w 136692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>
            <a:hlinkClick r:id="rId31" action="ppaction://hlinksldjump"/>
          </p:cNvPr>
          <p:cNvSpPr/>
          <p:nvPr/>
        </p:nvSpPr>
        <p:spPr>
          <a:xfrm>
            <a:off x="7523280" y="333360"/>
            <a:ext cx="1331640" cy="90792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77" h="21600">
                <a:moveTo>
                  <a:pt x="0" y="0"/>
                </a:moveTo>
                <a:lnTo>
                  <a:pt x="31677" y="0"/>
                </a:lnTo>
                <a:lnTo>
                  <a:pt x="31677" y="21600"/>
                </a:lnTo>
                <a:lnTo>
                  <a:pt x="0" y="21600"/>
                </a:lnTo>
                <a:close/>
              </a:path>
              <a:path fill="lightenLess" w="31677" h="21600">
                <a:moveTo>
                  <a:pt x="0" y="0"/>
                </a:moveTo>
                <a:lnTo>
                  <a:pt x="31677" y="0"/>
                </a:lnTo>
                <a:lnTo>
                  <a:pt x="30277" y="1400"/>
                </a:lnTo>
                <a:lnTo>
                  <a:pt x="1400" y="1400"/>
                </a:lnTo>
                <a:close/>
              </a:path>
              <a:path fill="darken" w="31677" h="21600">
                <a:moveTo>
                  <a:pt x="31677" y="0"/>
                </a:moveTo>
                <a:lnTo>
                  <a:pt x="31677" y="21600"/>
                </a:lnTo>
                <a:lnTo>
                  <a:pt x="30277" y="20200"/>
                </a:lnTo>
                <a:lnTo>
                  <a:pt x="30277" y="1400"/>
                </a:lnTo>
                <a:close/>
              </a:path>
              <a:path fill="darkenLess" w="31677" h="21600">
                <a:moveTo>
                  <a:pt x="3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7" y="20200"/>
                </a:lnTo>
                <a:close/>
              </a:path>
              <a:path fill="lighten" w="3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>
            <a:hlinkClick r:id="rId32" action="ppaction://hlinksldjump"/>
          </p:cNvPr>
          <p:cNvSpPr/>
          <p:nvPr/>
        </p:nvSpPr>
        <p:spPr>
          <a:xfrm>
            <a:off x="7523280" y="1414440"/>
            <a:ext cx="1331640" cy="90792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77" h="21600">
                <a:moveTo>
                  <a:pt x="0" y="0"/>
                </a:moveTo>
                <a:lnTo>
                  <a:pt x="31677" y="0"/>
                </a:lnTo>
                <a:lnTo>
                  <a:pt x="31677" y="21600"/>
                </a:lnTo>
                <a:lnTo>
                  <a:pt x="0" y="21600"/>
                </a:lnTo>
                <a:close/>
              </a:path>
              <a:path fill="lightenLess" w="31677" h="21600">
                <a:moveTo>
                  <a:pt x="0" y="0"/>
                </a:moveTo>
                <a:lnTo>
                  <a:pt x="31677" y="0"/>
                </a:lnTo>
                <a:lnTo>
                  <a:pt x="30277" y="1400"/>
                </a:lnTo>
                <a:lnTo>
                  <a:pt x="1400" y="1400"/>
                </a:lnTo>
                <a:close/>
              </a:path>
              <a:path fill="darken" w="31677" h="21600">
                <a:moveTo>
                  <a:pt x="31677" y="0"/>
                </a:moveTo>
                <a:lnTo>
                  <a:pt x="31677" y="21600"/>
                </a:lnTo>
                <a:lnTo>
                  <a:pt x="30277" y="20200"/>
                </a:lnTo>
                <a:lnTo>
                  <a:pt x="30277" y="1400"/>
                </a:lnTo>
                <a:close/>
              </a:path>
              <a:path fill="darkenLess" w="31677" h="21600">
                <a:moveTo>
                  <a:pt x="3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7" y="20200"/>
                </a:lnTo>
                <a:close/>
              </a:path>
              <a:path fill="lighten" w="3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4">
            <a:hlinkClick r:id="rId33" action="ppaction://hlinksldjump"/>
          </p:cNvPr>
          <p:cNvSpPr/>
          <p:nvPr/>
        </p:nvSpPr>
        <p:spPr>
          <a:xfrm>
            <a:off x="7523280" y="2494080"/>
            <a:ext cx="1331640" cy="90792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77" h="21600">
                <a:moveTo>
                  <a:pt x="0" y="0"/>
                </a:moveTo>
                <a:lnTo>
                  <a:pt x="31677" y="0"/>
                </a:lnTo>
                <a:lnTo>
                  <a:pt x="31677" y="21600"/>
                </a:lnTo>
                <a:lnTo>
                  <a:pt x="0" y="21600"/>
                </a:lnTo>
                <a:close/>
              </a:path>
              <a:path fill="lightenLess" w="31677" h="21600">
                <a:moveTo>
                  <a:pt x="0" y="0"/>
                </a:moveTo>
                <a:lnTo>
                  <a:pt x="31677" y="0"/>
                </a:lnTo>
                <a:lnTo>
                  <a:pt x="30277" y="1400"/>
                </a:lnTo>
                <a:lnTo>
                  <a:pt x="1400" y="1400"/>
                </a:lnTo>
                <a:close/>
              </a:path>
              <a:path fill="darken" w="31677" h="21600">
                <a:moveTo>
                  <a:pt x="31677" y="0"/>
                </a:moveTo>
                <a:lnTo>
                  <a:pt x="31677" y="21600"/>
                </a:lnTo>
                <a:lnTo>
                  <a:pt x="30277" y="20200"/>
                </a:lnTo>
                <a:lnTo>
                  <a:pt x="30277" y="1400"/>
                </a:lnTo>
                <a:close/>
              </a:path>
              <a:path fill="darkenLess" w="31677" h="21600">
                <a:moveTo>
                  <a:pt x="3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7" y="20200"/>
                </a:lnTo>
                <a:close/>
              </a:path>
              <a:path fill="lighten" w="3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>
            <a:hlinkClick r:id="rId34" action="ppaction://hlinksldjump"/>
          </p:cNvPr>
          <p:cNvSpPr/>
          <p:nvPr/>
        </p:nvSpPr>
        <p:spPr>
          <a:xfrm>
            <a:off x="7523280" y="3573360"/>
            <a:ext cx="1331640" cy="90828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1664" h="21600">
                <a:moveTo>
                  <a:pt x="0" y="0"/>
                </a:moveTo>
                <a:lnTo>
                  <a:pt x="31664" y="0"/>
                </a:lnTo>
                <a:lnTo>
                  <a:pt x="31664" y="21600"/>
                </a:lnTo>
                <a:lnTo>
                  <a:pt x="0" y="21600"/>
                </a:lnTo>
                <a:close/>
              </a:path>
              <a:path fill="lightenLess" w="31664" h="21600">
                <a:moveTo>
                  <a:pt x="0" y="0"/>
                </a:moveTo>
                <a:lnTo>
                  <a:pt x="31664" y="0"/>
                </a:lnTo>
                <a:lnTo>
                  <a:pt x="30264" y="1400"/>
                </a:lnTo>
                <a:lnTo>
                  <a:pt x="1400" y="1400"/>
                </a:lnTo>
                <a:close/>
              </a:path>
              <a:path fill="darken" w="31664" h="21600">
                <a:moveTo>
                  <a:pt x="31664" y="0"/>
                </a:moveTo>
                <a:lnTo>
                  <a:pt x="31664" y="21600"/>
                </a:lnTo>
                <a:lnTo>
                  <a:pt x="30264" y="20200"/>
                </a:lnTo>
                <a:lnTo>
                  <a:pt x="30264" y="1400"/>
                </a:lnTo>
                <a:close/>
              </a:path>
              <a:path fill="darkenLess" w="31664" h="21600">
                <a:moveTo>
                  <a:pt x="3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64" y="20200"/>
                </a:lnTo>
                <a:close/>
              </a:path>
              <a:path fill="lighten" w="3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>
            <a:hlinkClick r:id="rId35" action="ppaction://hlinksldjump"/>
          </p:cNvPr>
          <p:cNvSpPr/>
          <p:nvPr/>
        </p:nvSpPr>
        <p:spPr>
          <a:xfrm>
            <a:off x="7523280" y="4654440"/>
            <a:ext cx="1331640" cy="90828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1664" h="21600">
                <a:moveTo>
                  <a:pt x="0" y="0"/>
                </a:moveTo>
                <a:lnTo>
                  <a:pt x="31664" y="0"/>
                </a:lnTo>
                <a:lnTo>
                  <a:pt x="31664" y="21600"/>
                </a:lnTo>
                <a:lnTo>
                  <a:pt x="0" y="21600"/>
                </a:lnTo>
                <a:close/>
              </a:path>
              <a:path fill="lightenLess" w="31664" h="21600">
                <a:moveTo>
                  <a:pt x="0" y="0"/>
                </a:moveTo>
                <a:lnTo>
                  <a:pt x="31664" y="0"/>
                </a:lnTo>
                <a:lnTo>
                  <a:pt x="30264" y="1400"/>
                </a:lnTo>
                <a:lnTo>
                  <a:pt x="1400" y="1400"/>
                </a:lnTo>
                <a:close/>
              </a:path>
              <a:path fill="darken" w="31664" h="21600">
                <a:moveTo>
                  <a:pt x="31664" y="0"/>
                </a:moveTo>
                <a:lnTo>
                  <a:pt x="31664" y="21600"/>
                </a:lnTo>
                <a:lnTo>
                  <a:pt x="30264" y="20200"/>
                </a:lnTo>
                <a:lnTo>
                  <a:pt x="30264" y="1400"/>
                </a:lnTo>
                <a:close/>
              </a:path>
              <a:path fill="darkenLess" w="31664" h="21600">
                <a:moveTo>
                  <a:pt x="3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64" y="20200"/>
                </a:lnTo>
                <a:close/>
              </a:path>
              <a:path fill="lighten" w="3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7">
            <a:hlinkClick r:id="rId36" action="ppaction://hlinksldjump"/>
          </p:cNvPr>
          <p:cNvSpPr/>
          <p:nvPr/>
        </p:nvSpPr>
        <p:spPr>
          <a:xfrm>
            <a:off x="7523280" y="5734080"/>
            <a:ext cx="1331640" cy="907920"/>
          </a:xfrm>
          <a:custGeom>
            <a:avLst/>
            <a:gdLst>
              <a:gd name="textAreaLeft" fmla="*/ 58680 w 1331640"/>
              <a:gd name="textAreaRight" fmla="*/ 1272960 w 133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77" h="21600">
                <a:moveTo>
                  <a:pt x="0" y="0"/>
                </a:moveTo>
                <a:lnTo>
                  <a:pt x="31677" y="0"/>
                </a:lnTo>
                <a:lnTo>
                  <a:pt x="31677" y="21600"/>
                </a:lnTo>
                <a:lnTo>
                  <a:pt x="0" y="21600"/>
                </a:lnTo>
                <a:close/>
              </a:path>
              <a:path fill="lightenLess" w="31677" h="21600">
                <a:moveTo>
                  <a:pt x="0" y="0"/>
                </a:moveTo>
                <a:lnTo>
                  <a:pt x="31677" y="0"/>
                </a:lnTo>
                <a:lnTo>
                  <a:pt x="30277" y="1400"/>
                </a:lnTo>
                <a:lnTo>
                  <a:pt x="1400" y="1400"/>
                </a:lnTo>
                <a:close/>
              </a:path>
              <a:path fill="darken" w="31677" h="21600">
                <a:moveTo>
                  <a:pt x="31677" y="0"/>
                </a:moveTo>
                <a:lnTo>
                  <a:pt x="31677" y="21600"/>
                </a:lnTo>
                <a:lnTo>
                  <a:pt x="30277" y="20200"/>
                </a:lnTo>
                <a:lnTo>
                  <a:pt x="30277" y="1400"/>
                </a:lnTo>
                <a:close/>
              </a:path>
              <a:path fill="darkenLess" w="31677" h="21600">
                <a:moveTo>
                  <a:pt x="3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7" y="20200"/>
                </a:lnTo>
                <a:close/>
              </a:path>
              <a:path fill="lighten" w="3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>
            <a:hlinkClick r:id="rId1" action="ppaction://hlinksldjump"/>
          </p:cNvPr>
          <p:cNvSpPr/>
          <p:nvPr/>
        </p:nvSpPr>
        <p:spPr>
          <a:xfrm>
            <a:off x="34290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752480" y="160020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143000" y="1523880"/>
            <a:ext cx="6629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ать названия веществ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3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>
            <a:hlinkClick r:id="rId1" action="ppaction://hlinksldjump"/>
          </p:cNvPr>
          <p:cNvSpPr/>
          <p:nvPr/>
        </p:nvSpPr>
        <p:spPr>
          <a:xfrm>
            <a:off x="3429000" y="5181480"/>
            <a:ext cx="1332000" cy="126864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8" h="21600">
                <a:moveTo>
                  <a:pt x="0" y="0"/>
                </a:moveTo>
                <a:lnTo>
                  <a:pt x="22678" y="0"/>
                </a:lnTo>
                <a:lnTo>
                  <a:pt x="22678" y="21600"/>
                </a:lnTo>
                <a:lnTo>
                  <a:pt x="0" y="21600"/>
                </a:lnTo>
                <a:close/>
              </a:path>
              <a:path fill="lightenLess" w="22678" h="21600">
                <a:moveTo>
                  <a:pt x="0" y="0"/>
                </a:moveTo>
                <a:lnTo>
                  <a:pt x="22678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8" h="21600">
                <a:moveTo>
                  <a:pt x="22678" y="0"/>
                </a:moveTo>
                <a:lnTo>
                  <a:pt x="22678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8" h="21600">
                <a:moveTo>
                  <a:pt x="22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676520" y="1828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219320" y="1828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итрат кальция, сульфит калия, карбонат лития, сульфат м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>
            <a:hlinkClick r:id="rId1" action="ppaction://hlinksldjump"/>
          </p:cNvPr>
          <p:cNvSpPr/>
          <p:nvPr/>
        </p:nvSpPr>
        <p:spPr>
          <a:xfrm>
            <a:off x="3276720" y="51814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057400" y="1143000"/>
            <a:ext cx="46483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отя я соль, но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ас удивлю сво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суду мыть, стирать б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гу (и это не вран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сть у меня одна сестра.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зжогу вылечить долж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то знает свойств моих прир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ветит сразу, кто я -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4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rId1" action="ppaction://hlinksldjump"/>
          </p:cNvPr>
          <p:cNvSpPr/>
          <p:nvPr/>
        </p:nvSpPr>
        <p:spPr>
          <a:xfrm>
            <a:off x="3505320" y="5334120"/>
            <a:ext cx="1371600" cy="1268280"/>
          </a:xfrm>
          <a:custGeom>
            <a:avLst/>
            <a:gdLst>
              <a:gd name="textAreaLeft" fmla="*/ 82080 w 1371600"/>
              <a:gd name="textAreaRight" fmla="*/ 1289520 w 13716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3359" h="21600">
                <a:moveTo>
                  <a:pt x="0" y="0"/>
                </a:moveTo>
                <a:lnTo>
                  <a:pt x="23359" y="0"/>
                </a:lnTo>
                <a:lnTo>
                  <a:pt x="23359" y="21600"/>
                </a:lnTo>
                <a:lnTo>
                  <a:pt x="0" y="21600"/>
                </a:lnTo>
                <a:close/>
              </a:path>
              <a:path fill="lightenLess" w="23359" h="21600">
                <a:moveTo>
                  <a:pt x="0" y="0"/>
                </a:moveTo>
                <a:lnTo>
                  <a:pt x="23359" y="0"/>
                </a:lnTo>
                <a:lnTo>
                  <a:pt x="21959" y="1400"/>
                </a:lnTo>
                <a:lnTo>
                  <a:pt x="1400" y="1400"/>
                </a:lnTo>
                <a:close/>
              </a:path>
              <a:path fill="darken" w="23359" h="21600">
                <a:moveTo>
                  <a:pt x="23359" y="0"/>
                </a:moveTo>
                <a:lnTo>
                  <a:pt x="23359" y="21600"/>
                </a:lnTo>
                <a:lnTo>
                  <a:pt x="21959" y="20200"/>
                </a:lnTo>
                <a:lnTo>
                  <a:pt x="21959" y="1400"/>
                </a:lnTo>
                <a:close/>
              </a:path>
              <a:path fill="darkenLess" w="23359" h="21600">
                <a:moveTo>
                  <a:pt x="23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9" y="20200"/>
                </a:lnTo>
                <a:close/>
              </a:path>
              <a:path fill="lighten" w="23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057400" y="1676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>
            <a:hlinkClick r:id="rId1" action="ppaction://hlinksldjump"/>
          </p:cNvPr>
          <p:cNvSpPr/>
          <p:nvPr/>
        </p:nvSpPr>
        <p:spPr>
          <a:xfrm>
            <a:off x="35053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371600"/>
            <a:ext cx="6019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ставьте формулы со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ульфид калия, нитрит магния, сульфат меди (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, фосфат алюминия, хлорид натрия, карбонат каль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5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>
            <a:hlinkClick r:id="rId1" action="ppaction://hlinksldjump"/>
          </p:cNvPr>
          <p:cNvSpPr/>
          <p:nvPr/>
        </p:nvSpPr>
        <p:spPr>
          <a:xfrm>
            <a:off x="37339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143000" y="1600200"/>
            <a:ext cx="6172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S,  MgN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, Cu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, AlP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, NaCl, CaC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">
            <a:hlinkClick r:id="rId1" action="ppaction://hlinksldjump"/>
          </p:cNvPr>
          <p:cNvSpPr/>
          <p:nvPr/>
        </p:nvSpPr>
        <p:spPr>
          <a:xfrm>
            <a:off x="35812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447920" y="1371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зовите образовавшиеся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95280" y="2133720"/>
          <a:ext cx="6782040" cy="289548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>
            <a:hlinkClick r:id="rId1" action="ppaction://hlinksldjump"/>
          </p:cNvPr>
          <p:cNvSpPr/>
          <p:nvPr/>
        </p:nvSpPr>
        <p:spPr>
          <a:xfrm>
            <a:off x="342900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95280" y="1752480"/>
          <a:ext cx="6782040" cy="338292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ксид к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к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к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ксид нат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нат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нат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ксид каль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каль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каль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rId1" action="ppaction://hlinksldjump"/>
          </p:cNvPr>
          <p:cNvSpPr/>
          <p:nvPr/>
        </p:nvSpPr>
        <p:spPr>
          <a:xfrm>
            <a:off x="3505320" y="54100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295280" y="121932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зовите формулы кислот соответствующих окс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сид серы (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, оксид азота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(V)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оксид углерода (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IV)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оксид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осфора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7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>
            <a:hlinkClick r:id="rId1" action="ppaction://hlinksldjump"/>
          </p:cNvPr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85800" y="2057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, HN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, 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,  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3429000" y="5257800"/>
            <a:ext cx="1523880" cy="1268280"/>
          </a:xfrm>
          <a:custGeom>
            <a:avLst/>
            <a:gdLst>
              <a:gd name="textAreaLeft" fmla="*/ 82080 w 1523880"/>
              <a:gd name="textAreaRight" fmla="*/ 1441800 w 152388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5952" h="21600">
                <a:moveTo>
                  <a:pt x="0" y="0"/>
                </a:moveTo>
                <a:lnTo>
                  <a:pt x="25952" y="0"/>
                </a:lnTo>
                <a:lnTo>
                  <a:pt x="25952" y="21600"/>
                </a:lnTo>
                <a:lnTo>
                  <a:pt x="0" y="21600"/>
                </a:lnTo>
                <a:close/>
              </a:path>
              <a:path fill="lightenLess" w="25952" h="21600">
                <a:moveTo>
                  <a:pt x="0" y="0"/>
                </a:moveTo>
                <a:lnTo>
                  <a:pt x="25952" y="0"/>
                </a:lnTo>
                <a:lnTo>
                  <a:pt x="24552" y="1400"/>
                </a:lnTo>
                <a:lnTo>
                  <a:pt x="1400" y="1400"/>
                </a:lnTo>
                <a:close/>
              </a:path>
              <a:path fill="darken" w="25952" h="21600">
                <a:moveTo>
                  <a:pt x="25952" y="0"/>
                </a:moveTo>
                <a:lnTo>
                  <a:pt x="25952" y="21600"/>
                </a:lnTo>
                <a:lnTo>
                  <a:pt x="24552" y="20200"/>
                </a:lnTo>
                <a:lnTo>
                  <a:pt x="24552" y="1400"/>
                </a:lnTo>
                <a:close/>
              </a:path>
              <a:path fill="darkenLess" w="25952" h="21600">
                <a:moveTo>
                  <a:pt x="2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52" y="20200"/>
                </a:lnTo>
                <a:close/>
              </a:path>
              <a:path fill="lighten" w="2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33520" y="14479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К какой группе оксидов относятся веще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Na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 К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О,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 Ca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">
            <a:hlinkClick r:id="rId1" action="ppaction://hlinksldjump"/>
          </p:cNvPr>
          <p:cNvSpPr/>
          <p:nvPr/>
        </p:nvSpPr>
        <p:spPr>
          <a:xfrm>
            <a:off x="3505320" y="5410080"/>
            <a:ext cx="1331640" cy="126864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2" h="21600">
                <a:moveTo>
                  <a:pt x="0" y="0"/>
                </a:moveTo>
                <a:lnTo>
                  <a:pt x="22672" y="0"/>
                </a:lnTo>
                <a:lnTo>
                  <a:pt x="22672" y="21600"/>
                </a:lnTo>
                <a:lnTo>
                  <a:pt x="0" y="21600"/>
                </a:lnTo>
                <a:close/>
              </a:path>
              <a:path fill="lightenLess" w="22672" h="21600">
                <a:moveTo>
                  <a:pt x="0" y="0"/>
                </a:moveTo>
                <a:lnTo>
                  <a:pt x="22672" y="0"/>
                </a:lnTo>
                <a:lnTo>
                  <a:pt x="21272" y="1400"/>
                </a:lnTo>
                <a:lnTo>
                  <a:pt x="1400" y="1400"/>
                </a:lnTo>
                <a:close/>
              </a:path>
              <a:path fill="darken" w="22672" h="21600">
                <a:moveTo>
                  <a:pt x="22672" y="0"/>
                </a:moveTo>
                <a:lnTo>
                  <a:pt x="22672" y="21600"/>
                </a:lnTo>
                <a:lnTo>
                  <a:pt x="21272" y="20200"/>
                </a:lnTo>
                <a:lnTo>
                  <a:pt x="21272" y="1400"/>
                </a:lnTo>
                <a:close/>
              </a:path>
              <a:path fill="darkenLess" w="22672" h="21600">
                <a:moveTo>
                  <a:pt x="2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2" y="20200"/>
                </a:lnTo>
                <a:close/>
              </a:path>
              <a:path fill="lighten" w="2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219320" y="175248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зовите общую формулу высших оксидов следующих химических элементов: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зот, фосфор, мышь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8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>
            <a:hlinkClick r:id="rId1" action="ppaction://hlinksldjump"/>
          </p:cNvPr>
          <p:cNvSpPr/>
          <p:nvPr/>
        </p:nvSpPr>
        <p:spPr>
          <a:xfrm>
            <a:off x="35053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2286000" y="1676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9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rId1" action="ppaction://hlinksldjump"/>
          </p:cNvPr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295280" y="1219320"/>
            <a:ext cx="6248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зовите формулы оснований соответствующих окс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сид меди (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, оксид калия, оксид бария, оксид алюм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9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838080" y="18288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u(OH)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, KOH, Ba(OH)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, Al(OH)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2004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62120" y="1447920"/>
            <a:ext cx="75438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ная классификацию неорганических соединений, распределите вещества по основным клас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)NaCl, 2)NaOH, 3)C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4)Ba(OH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5)H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6)Cu(OH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7)H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8)S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9)MgO, 10)L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O, 11)MgCl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12)Mg(OH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13)HN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4)Na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15)K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PO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, 16)H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0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297180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523880" y="17524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сиды (3,8,9,10), основания (2,4,6,12), кислоты (5,7,13,16) и соли (1,11,14,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30481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33520" y="19810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      Основный оксид     Основание    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талл    Кислотный оксид    Кислота        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1905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49528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70102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21337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51055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1"/>
          <p:cNvSpPr/>
          <p:nvPr/>
        </p:nvSpPr>
        <p:spPr>
          <a:xfrm>
            <a:off x="69343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2767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219320" y="2133720"/>
            <a:ext cx="5486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a – Na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 – NaOH – Na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 – 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– H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- Na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429000" y="5410080"/>
            <a:ext cx="1332000" cy="126864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8" h="21600">
                <a:moveTo>
                  <a:pt x="0" y="0"/>
                </a:moveTo>
                <a:lnTo>
                  <a:pt x="22678" y="0"/>
                </a:lnTo>
                <a:lnTo>
                  <a:pt x="22678" y="21600"/>
                </a:lnTo>
                <a:lnTo>
                  <a:pt x="0" y="21600"/>
                </a:lnTo>
                <a:close/>
              </a:path>
              <a:path fill="lightenLess" w="22678" h="21600">
                <a:moveTo>
                  <a:pt x="0" y="0"/>
                </a:moveTo>
                <a:lnTo>
                  <a:pt x="22678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8" h="21600">
                <a:moveTo>
                  <a:pt x="22678" y="0"/>
                </a:moveTo>
                <a:lnTo>
                  <a:pt x="22678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8" h="21600">
                <a:moveTo>
                  <a:pt x="22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609480" y="14479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609480" y="13716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овите соответствие между химической формулой вещества и классом неорганических соединений, к которому оно принадле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) M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Н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) Аl(ОН)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) NaOH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.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. щ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. 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. нерастворимые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2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276720" y="525780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7524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-В, 2-А, 3-Г, 4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>
            <a:hlinkClick r:id="rId1" action="ppaction://hlinksldjump"/>
          </p:cNvPr>
          <p:cNvSpPr/>
          <p:nvPr/>
        </p:nvSpPr>
        <p:spPr>
          <a:xfrm>
            <a:off x="38098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71600" y="20574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к группе основных окс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3429000" y="5410080"/>
            <a:ext cx="1332000" cy="126864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640"/>
              <a:gd name="textAreaBottom" fmla="*/ 1186560 h 1268640"/>
            </a:gdLst>
            <a:ahLst/>
            <a:rect l="textAreaLeft" t="textAreaTop" r="textAreaRight" b="textAreaBottom"/>
            <a:pathLst>
              <a:path w="22678" h="21600">
                <a:moveTo>
                  <a:pt x="0" y="0"/>
                </a:moveTo>
                <a:lnTo>
                  <a:pt x="22678" y="0"/>
                </a:lnTo>
                <a:lnTo>
                  <a:pt x="22678" y="21600"/>
                </a:lnTo>
                <a:lnTo>
                  <a:pt x="0" y="21600"/>
                </a:lnTo>
                <a:close/>
              </a:path>
              <a:path fill="lightenLess" w="22678" h="21600">
                <a:moveTo>
                  <a:pt x="0" y="0"/>
                </a:moveTo>
                <a:lnTo>
                  <a:pt x="22678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8" h="21600">
                <a:moveTo>
                  <a:pt x="22678" y="0"/>
                </a:moveTo>
                <a:lnTo>
                  <a:pt x="22678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8" h="21600">
                <a:moveTo>
                  <a:pt x="22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2133720" y="2666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rcRect l="-8995" t="0" r="0" b="0"/>
          <a:stretch/>
        </p:blipFill>
        <p:spPr>
          <a:xfrm>
            <a:off x="2590920" y="2286000"/>
            <a:ext cx="3686040" cy="14479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6"/>
          <p:cNvSpPr/>
          <p:nvPr/>
        </p:nvSpPr>
        <p:spPr>
          <a:xfrm>
            <a:off x="1752480" y="13716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йдите вещество 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3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0481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7432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3526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219320" y="121932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шла телеграмма: «Пропали вещества А и В, вместо них появилось неизвестное вещество 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ам надо разыскать эти вещества. Итак, вы отправляетесь на поис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SО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O —&gt; 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g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 + H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O —&gt;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+ В —&gt;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4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2767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1447920" y="1981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MgS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ульфат маг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2895480" y="525780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834240" cy="12621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3733920" y="2895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733920" y="281952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858000" y="274320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1371600" y="1600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йдите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5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/>
          <p:cNvSpPr/>
          <p:nvPr/>
        </p:nvSpPr>
        <p:spPr>
          <a:xfrm>
            <a:off x="31240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1905120"/>
            <a:ext cx="63244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 –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(OH)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Y – Ca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31240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72400" cy="12268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2819520" y="228600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019920" y="19810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2133720" y="1371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йдит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35053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447920" y="1600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,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>
            <a:hlinkClick r:id="rId1" action="ppaction://hlinksldjump"/>
          </p:cNvPr>
          <p:cNvSpPr/>
          <p:nvPr/>
        </p:nvSpPr>
        <p:spPr>
          <a:xfrm>
            <a:off x="3809880" y="5334120"/>
            <a:ext cx="1332000" cy="1268280"/>
          </a:xfrm>
          <a:custGeom>
            <a:avLst/>
            <a:gdLst>
              <a:gd name="textAreaLeft" fmla="*/ 82080 w 1332000"/>
              <a:gd name="textAreaRight" fmla="*/ 1249920 w 1332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85" h="21600">
                <a:moveTo>
                  <a:pt x="0" y="0"/>
                </a:moveTo>
                <a:lnTo>
                  <a:pt x="22685" y="0"/>
                </a:lnTo>
                <a:lnTo>
                  <a:pt x="22685" y="21600"/>
                </a:lnTo>
                <a:lnTo>
                  <a:pt x="0" y="21600"/>
                </a:lnTo>
                <a:close/>
              </a:path>
              <a:path fill="lightenLess" w="22685" h="21600">
                <a:moveTo>
                  <a:pt x="0" y="0"/>
                </a:moveTo>
                <a:lnTo>
                  <a:pt x="22685" y="0"/>
                </a:lnTo>
                <a:lnTo>
                  <a:pt x="21285" y="1400"/>
                </a:lnTo>
                <a:lnTo>
                  <a:pt x="1400" y="1400"/>
                </a:lnTo>
                <a:close/>
              </a:path>
              <a:path fill="darken" w="22685" h="21600">
                <a:moveTo>
                  <a:pt x="22685" y="0"/>
                </a:moveTo>
                <a:lnTo>
                  <a:pt x="22685" y="21600"/>
                </a:lnTo>
                <a:lnTo>
                  <a:pt x="21285" y="20200"/>
                </a:lnTo>
                <a:lnTo>
                  <a:pt x="21285" y="1400"/>
                </a:lnTo>
                <a:close/>
              </a:path>
              <a:path fill="darkenLess" w="22685" h="21600">
                <a:moveTo>
                  <a:pt x="22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5" y="20200"/>
                </a:lnTo>
                <a:close/>
              </a:path>
              <a:path fill="lighten" w="22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33520" y="129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К какой группе оксидов относятся веще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045520" y="2971800"/>
            <a:ext cx="44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 СО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 SO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>
            <a:hlinkClick r:id="rId1" action="ppaction://hlinksldjump"/>
          </p:cNvPr>
          <p:cNvSpPr/>
          <p:nvPr/>
        </p:nvSpPr>
        <p:spPr>
          <a:xfrm>
            <a:off x="3733920" y="5334120"/>
            <a:ext cx="1331640" cy="1268280"/>
          </a:xfrm>
          <a:custGeom>
            <a:avLst/>
            <a:gdLst>
              <a:gd name="textAreaLeft" fmla="*/ 82080 w 1331640"/>
              <a:gd name="textAreaRight" fmla="*/ 1249560 w 1331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2679" h="21600">
                <a:moveTo>
                  <a:pt x="0" y="0"/>
                </a:moveTo>
                <a:lnTo>
                  <a:pt x="22679" y="0"/>
                </a:lnTo>
                <a:lnTo>
                  <a:pt x="22679" y="21600"/>
                </a:lnTo>
                <a:lnTo>
                  <a:pt x="0" y="21600"/>
                </a:lnTo>
                <a:close/>
              </a:path>
              <a:path fill="lightenLess" w="22679" h="21600">
                <a:moveTo>
                  <a:pt x="0" y="0"/>
                </a:moveTo>
                <a:lnTo>
                  <a:pt x="22679" y="0"/>
                </a:lnTo>
                <a:lnTo>
                  <a:pt x="21279" y="1400"/>
                </a:lnTo>
                <a:lnTo>
                  <a:pt x="1400" y="1400"/>
                </a:lnTo>
                <a:close/>
              </a:path>
              <a:path fill="darken" w="22679" h="21600">
                <a:moveTo>
                  <a:pt x="22679" y="0"/>
                </a:moveTo>
                <a:lnTo>
                  <a:pt x="22679" y="21600"/>
                </a:lnTo>
                <a:lnTo>
                  <a:pt x="21279" y="20200"/>
                </a:lnTo>
                <a:lnTo>
                  <a:pt x="21279" y="1400"/>
                </a:lnTo>
                <a:close/>
              </a:path>
              <a:path fill="darkenLess" w="22679" h="21600">
                <a:moveTo>
                  <a:pt x="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9" y="20200"/>
                </a:lnTo>
                <a:close/>
              </a:path>
              <a:path fill="lighten" w="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62120" y="16002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к группе кислотных окс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777</cp:lastModifiedBy>
  <dcterms:modified xsi:type="dcterms:W3CDTF">2014-08-04T02:10:29Z</dcterms:modified>
  <cp:revision>11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