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.jpeg" ContentType="image/jpeg"/>
  <Override PartName="/ppt/media/image23.jpeg" ContentType="image/jpe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7AE5-486C-4F64-8CFF-B51F7398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5C67-F9C4-4D37-8D6A-A6FDEA1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75A9-5096-412C-9F6B-FD382DC5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4FE5-64DB-4CBA-9987-90AF1599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4B5D-FC38-446D-9B00-4DD2618A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90EC-7ED8-4D46-80A9-59850A86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79E8-D1F9-473B-BAFA-65008F7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B11B-4106-455A-8B6B-8BD7FE1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3EF0-074E-4A84-8959-5139329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5D30-5B7B-42D6-9492-0903744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B80-422D-4011-9C3D-80EC30C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5864-8163-40DD-9F81-EE74B15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6F6-B412-4E0E-9B35-E584471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672C-A235-41EC-B90A-CA38486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235B-B5F7-4784-9444-825D6EAD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D2FE-FEB1-42B9-A884-DA27B525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73D-77DB-4D46-B275-7F208AE2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C5D0-286F-479F-B524-3E0599CD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55AC-F668-41B0-8C22-81FD0F3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C0A3-2C4D-4DC4-9318-CAA4892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68FA-8CF1-42CD-A213-2191F0B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6014-FAAA-404F-A168-1CF4A41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0810-D509-460E-91EB-40A3BC0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2E56-82A6-45BF-86AB-4CBAC90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525-4991-4B45-AC6F-5FF8CE6B6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925-5FBD-4563-BE6A-768C0ECBFB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476360" y="1484280"/>
            <a:ext cx="69357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b5b8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2300" dir="20763565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Способы определения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b5b8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2300" dir="20763565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b5b8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2300" dir="20763565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объемов газов 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b5b8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2300" dir="20763565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b5b8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2300" dir="20763565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и жидкостей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b5b8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2300" dir="20763565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7128000" y="209520"/>
            <a:ext cx="2016000" cy="19242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5483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витационный счетч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63640" y="2349360"/>
            <a:ext cx="712944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тахометрическим прибором, в котором подвижный элемент вращается в газовых подшипниках. Скорость вращения подвижного элемента пропорциональна объемному расходу. Вторичный преобразователь преобразует скорость вращения в электрический сигнал, которых в электронном блоке преобразуется в измеренные количество пройденного газа. Результаты индицируются на индикаторе. Диапазон измеряемых расходов от 0,03 до 7 м 3/ч. Температура измеряемого газа от –50 до +50 0С. Температура окружающей среды –30 до +50 0С. Основная погрешность ± 1,5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арабанные счетч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03280" y="2752200"/>
            <a:ext cx="7632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ействия состоит в том, под действием перепада давления газа происходит вращение барабана, разделенного на несколько камер, измерительный объем которых ограничен уровнем затворной жидкости. При вращении барабана периодически разные камеры заполняются и опорожняются газом. Ранее выпускаемые барабанные газовые счетчики ГСБ-160 на пределы измерения 0,08-0,24 м 3/ч. ГСБ-400 на пределы 0,2-6 м 3/ч. - в настоящее время не выпускаются. Основная погрешность измерения 1,0%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ортные барабанные счетчики Ritter в России сертифицированы не все выпускаемые фирмой типоразмеры, как правило, используются в качестве образцовых средств. Основная погрешность измерения 0,2%. Диапазоны измерения всех семи типоразмеров от 1 л/ч до 18000 л/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2102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 rot="4602600">
            <a:off x="497160" y="545040"/>
            <a:ext cx="2448000" cy="13575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31640" y="0"/>
            <a:ext cx="525636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ходомеры постоянного перепада д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56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 действия расходомеров данного типа основан на том, что поплавок плавающий (подвешенный) в потоке изменяет свое положение по вертикали в зависимости от величины расхода газа. Для обеспечения линейности такого перемещения, площадь проходного сечения датчика расхода изменяется таким образом, чтобы перепад давления оставался постоянным. Это достигается тем, что трубка в которой перемещается поплавок выполнена конической с расширением конуса вверх (ротаметры типа РМ) или трубка выполнена с прорезью и поршень (плавок), поднимаясь вверх открывает для потока большее проходное сечение (ДПС-7,5, ДПС-10). Ротаметры выпускаются в основном для технологических целей, имеют, как правило, большую величину основной погрешности 2,5-4%, небольшой диапазон измерения от 1:5 до 1:10. Выпускаются ротаметры с коническими стеклами (РМ, РМФ, РСБ), пневматические (РП, РПФ, РПО) и электрические (РЭ, РЭВ) с индуктивным выход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2952720" cy="259092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79640" y="476280"/>
            <a:ext cx="505116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ходомеры переменного перепада д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76000" y="242100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сужающих устройств для измерения расхода и количества газа являлось до недавнего времени самым используемым. Однако малый диапазон измерения расхода (1:3) с приемлемой для коммерческого учета газа погрешностью ±1,5% ,а также разработка турбинных и ротационных счетчиков газа несколько ослабило позиции расходомеров на основе сужающих устрой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оследнее десятилетие за счет разработки новых датчиков давления с большими диапазонами измерения и Развития микропроцессорной техники появились и успешно внедряются несколько комплексов на базе сужающих устройств, такие как Гиперфлоу-3МП, Суперфлоу-2, массовый расходомер модели 3095 MV . Для трубопроводов большого диаметра, более 300-400 мм. данный метод измерения является вполне конкурент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920" y="110880"/>
            <a:ext cx="69343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иды расходомеров для жидкосте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1341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3534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урбинные первичны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образователи расхода</a:t>
            </a: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П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76360" y="17715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урбинных первичных преобразователях расх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вствительный эле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турбинка. По числу оборотов турбинки, угловая скорость которой пропорциональна скорости жидкости, протекающей через прибор, измеряется количество или расход жидкости. Турбинные расходомеры и счетчики количества изготавливаются для трубопроводов диаметром от 4 до 750 мм, для давлений до 250 МПа и температур от -240 до +700 °C . По расположению оси ЧЭ в потоке жидкости турбинные ППР делятся на две группы — аксиальные и тангенциальные . По расположению относительно оси трубопровода турбинные ППР могут быть с совпадающими осями, с пересекающимися осями и со скрещенными осями. Современные турбинные ППР обладают достаточно высокими метрологическими характеристика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применения турбинных ППР достаточно широка: горячая и холодная вода, нефтепродукты, криогенные жидкости и т.д. Эти преобразователи наиболее экономичны при измерении больших расходов, но применяются также для измерения малых, средних расходов и даже микрорасх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842920" y="-100080"/>
            <a:ext cx="4259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Шариковые ППР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76000" y="691920"/>
            <a:ext cx="7559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ариковых ППР ЧЭ — шарик, перемещающийся по окружности. Движение ЧЭ обеспечивается винтовым направляющим аппаратом, закручивающим поток, или тангенциальным подводом измеряемой жидкости. В шариковых ППР шарик, захватываемый закрученным потоком жидкости, движется со скоростью, пропорциональной окружной скорости потока, а значит и его объемному расходу. Центробежные силы удерживают шарик на периферии камеры преобразователя и препятствуют его уносу пото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инствами шариковых ППР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озможность изме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ных жидкос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стота констр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х недостаткам можно отне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вышенные гидравлические потер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зкий диапазон линейности статичес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характерист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зависимость показаний от вязк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яемой жид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01560" y="-171720"/>
            <a:ext cx="5194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торно-шаровые ПП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66764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торно-шаровых ППР, в отличие от шариковых, шарик или другой ЧЭ движется не по кругу, а вращается вокруг своей оси под действием потока измеряемой жидкости. Иногда такие ППР называют ППР с левитирующим шаром или с гидродинамическим подвешиванием ЧЭ. Они пока что не нашли широкого применения, однако существует несколько их разновидностей, отличающихся друг от друга способом приведения ЧЭ во вращ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реимуществам роторно-шаровых ППР можно отн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остоту конструк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озможность измерения расхода жидкостей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содержащих механические приме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это, им свойственны следующие недостат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висание ЧЭ в отверстии по оси потока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рекращение его вращ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величение амплитуды колебаний ЧЭ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ит к его ударам о стенки измеритель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р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ложности с обеспечением надеж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реобразователя частоты вращения ЧЭ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тный выходной сигнал в связи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м прецессии оси вращения Ч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11280" y="-171360"/>
            <a:ext cx="5194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торно-шаровые ПП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4413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мерные ПП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76000" y="69192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амерным ПП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можно отнести ППР, подвижные элементы (ЧЭ) которых приходят в движение (непрерывное или периодическое) под давлением измеряемой жидкости и при этом отмеряют определенные объемы или массы измеряемого вещест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ПР первой группы состоят из одной или нескольких последовательно опорожняющихся и заполняющихся измерительных камер. Кроме того, к этой же группе камерных ППР могут быть условно отнесены мерные емкости с сильфонным или клапанным опорожнением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ПР без подвижного разделительного элемента — наиболее точные. Они используются лишь для измерения небольших расходов и только при ограниченном давлении измеряемой жидкост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ПР второй группы отличаются большим количеством разновидностей ЧЭ и применяются чаще других. Они состоят из жесткой камеры, в которой при непрерывном перемещении одного или нескольких разделительных элементов (поршня, диска, роторов и т.п.) осуществляется отмеривание объемов жидкост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 недостаткам камерных ППР следует отнести сложность конструкции и чувствительность к механическим примесям в измеряемом поток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87280" y="1020600"/>
            <a:ext cx="7777440" cy="5648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хнические характеристики тахометрических ППР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сходоме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7129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ор для измерения расхода — объёма или массы среды, протекающей через прибор в единицу времени. Используется для контроля и учёта жидкости, пара или газа при их производстве, отпуске, потреблении и хранении, а также служит для регулирования технологических и теплоэнергетических процессов в автоматических системах контроля и регулирования. Расходомеры, работающие в течение произвольного промежутка времени, называются счётчиками жидкости и газа; они могут использоваться как самостоятельными приборы или входить в измерительный узел топливо-маслораздаточной колонки и т.п. установок. Иногда Расходомеры снабжают интеграторами — устройствами для суммирования измеряемых масс или объё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193920" y="115560"/>
            <a:ext cx="353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07640" y="936360"/>
            <a:ext cx="67899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определения объемов газов и жидкостей имеют как сходства, так и различ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а: расходомеры переменного перепада давления, постоянного перепада давления, электромагнитные (индукционные) расходомеры, турбинные, ультразвуковые,  вихревые, акустичес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я: жидкости: шариковые расходомеры, роторно-шаровые, камерные; газы:  ротационные расходомеры, вихревые, мембранные, струйные счетчики, левитационные, бараб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2124000" y="549360"/>
            <a:ext cx="6337440" cy="57020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6364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и были расмотренны идеи создания расходомера в бытовых и школьны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p_{\partial} \approx \xi \frac{ \rho V_o^2}{2}"/>
          <p:cNvPicPr/>
          <p:nvPr/>
        </p:nvPicPr>
        <p:blipFill>
          <a:blip r:embed="rId3"/>
          <a:stretch/>
        </p:blipFill>
        <p:spPr>
          <a:xfrm>
            <a:off x="2124000" y="4149720"/>
            <a:ext cx="2016360" cy="9428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63640" y="527688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  — плотность движущейся (набегающей) среды;   — скорость набегающего потока;     — коэффици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прибор также называется расходомером скоростного напора Прандтля, так как позволяет вычислить скорость, а, следовательно, и расход в заданном сеч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\rho~"/>
          <p:cNvPicPr/>
          <p:nvPr/>
        </p:nvPicPr>
        <p:blipFill>
          <a:blip r:embed="rId4"/>
          <a:stretch/>
        </p:blipFill>
        <p:spPr>
          <a:xfrm>
            <a:off x="2268360" y="5421240"/>
            <a:ext cx="146160" cy="204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V_o~"/>
          <p:cNvPicPr/>
          <p:nvPr/>
        </p:nvPicPr>
        <p:blipFill>
          <a:blip r:embed="rId5"/>
          <a:stretch/>
        </p:blipFill>
        <p:spPr>
          <a:xfrm>
            <a:off x="8244000" y="5362560"/>
            <a:ext cx="287280" cy="2491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\xi~"/>
          <p:cNvPicPr/>
          <p:nvPr/>
        </p:nvPicPr>
        <p:blipFill>
          <a:blip r:embed="rId6"/>
          <a:stretch/>
        </p:blipFill>
        <p:spPr>
          <a:xfrm>
            <a:off x="5207040" y="5637240"/>
            <a:ext cx="144360" cy="287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63640" y="981000"/>
            <a:ext cx="738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провести каллибровку и установить шкалы измерений на изготовленных приборах, кторые использовали один из следующих методов нельз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бину, барабан  (скорость их вращения в зависимости от проточного объема не определить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лавок (ход поплавка по штоку не определить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 (скорость его движения в зависимости от проточного объема не определ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08000" y="3716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подсказала трубка Прандт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00720" y="41497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56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зив из формулы скорость и зная сечение трубы мы сможем найти объем газа или жидкости прошедшего за определенное время по тру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5797440" y="650880"/>
            <a:ext cx="316728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нструктива расходомера потребовались следующие материал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стиковая трубк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ктельная трубочк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стилин для герметизации отверсти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жигалка (для зауживания одного конца коктельной трубочки и изгибания ее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ж (для проделывания отверстий в пластиковой трубе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н (для создания потока воздуха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нейка  (для измерени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lang="ru-RU" sz="1600" spc="-1" strike="noStrike">
                <a:solidFill>
                  <a:srgbClr val="000000"/>
                </a:solidFill>
                <a:latin typeface="SymbolPS"/>
                <a:ea typeface="SymbolPS"/>
              </a:rPr>
              <a:t>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838160" y="666720"/>
          <a:ext cx="3957840" cy="585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8160" y="666720"/>
                    <a:ext cx="39578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411280" y="182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разработали прибор  для решения этой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108000" y="81000"/>
            <a:ext cx="5111640" cy="38354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3784680" y="2708280"/>
            <a:ext cx="5251320" cy="39387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292720" y="26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раллельно был создан макет прибора с проволочной рамкой, 2 магнитами и ампперм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86064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тылка 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вляет трубу, п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отор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чет жидкость или газ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Они привод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во вращ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лоп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бины, котор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соедине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волоч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рамкой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вращении рамки 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агнитн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магни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озника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укционный ток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отор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ря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перм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337440" cy="57024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иды расходомеров для газов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1628640"/>
            <a:ext cx="6840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урбинн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тационный счетч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хрев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льтразвуков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мбранн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йн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витационный счетч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ные счетч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ходомеры постоянного перепада д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ходомеры переменного перепада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1341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 rot="201600">
            <a:off x="6588000" y="0"/>
            <a:ext cx="2305080" cy="2052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61840" y="40428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урбинные счетчик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31640" y="177300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чики выполнены в виде трубы, в которой расположена винтовая турбинка, как правило с небольшим перекрытием лопаток одной другую. В проточной части корпуса расположены обтекатели перекрывающие большую часть сечения трубопровода, чем обеспечивается дополнительное выравнивание эпюры скоростей потока и увеличение скорости течения газа. Кроме того происходит формирование турбулентного режима течения газа, за счет чего обеспечивает линейность характеристики счетчика газа в большом диапазоне. Высота турбинки как правило не превышает 25-30% радиуса. Имеют малый диапазон измерения 1: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скорости вращения в турбинки в объемные значения количества прошедшего газа осуществляется путем передачи вращения турбинки через магнитную муфту на счетный механизм, в котором путем подбора пар шестеренок (во время градуировки) обеспечивается линейная связь между скоростью вращением турбинки и количеством пройденного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 rot="21011400">
            <a:off x="6732360" y="115560"/>
            <a:ext cx="2209680" cy="1789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5492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тационный счетчик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63280" y="1844640"/>
            <a:ext cx="6923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ействия счетчика заключается в обкатывании двух роторов специально спрофилированной формы (напоминающую цифру «восемь»), друг по другу под действием потока газа. Синхронность обкатывания роторов обеспечивается специальными шестеренками соединенными с соответствующим ротором и между собой. Для обеспечения точности измерения профиль роторов и внутренняя поверхность корпуса счетчика должны быть выполнены с высокой точностью, что достигается применением специальных технологических приемов обработки этих поверхностей. Имеет большой диапазон измеряемых расходов (до 1:160) и малую погрешность при измерении переменных потоков. Возможно любое направление газа через счетчик, отсутствуют требования к наличию прямых участков перед и за сче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2006640" cy="26636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5040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ихревые счетч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814040" y="1267920"/>
            <a:ext cx="70786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    действия    основ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ффекте возникновения перио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к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хр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тека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ом    газа      тела      обтек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та   срыва   вихрей  пропорци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ьна скорости потока и, соответственно, объемному расходу. Индикацию вихрей может осуществляться термоанемометром (ВРСГ-1) или ультразвуком (ВИР-100, СВГ.М). По диапазону измерения счетчики занимают промежуточное значение между турбинными и ротационными до 1:50. В связи с тем, что в данном типе счетчиков отсутствуют подвижные элементы, нет необходимости в системе смазки, необходимой для турбинных и ротационных счетчиков. Используются для измерения количества кислорода. Также верхний предел измерения расхода для данного типа прибора выше, чем у турбинных, например для Ду=200 мм. турбинные счетчики применяются до 2500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час, а ВРСГ-1 до 5000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250640" cy="23749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43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ьтразвуковые счетч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63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ействия заключается в направ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ии ультразвукового луча в направлени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у  и  против  потока  и  определении раз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цы времени прохождения этих двух луч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ица во времени пропорциональна скорости течения газа. В настоящее время выпускаются ультразвуковые расходомеры «Гобой-1» на расходы 10, 16, 25, 40, 65, 100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ч , на трубопроводы от 25 до 80 мм., для абсолютных давлений до 2 кгс/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УБСГ-001на расходы от 0,1 до 16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ч., УБСГ-002 на расходы от 0,16 до 2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ч Ду=1.1/42 , (32 мм) и «ГАЗ-001» для трубопроводов большего диаметра (более 100 мм.) и для давлений до 60 кгс/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но полного типоразмерного ряда Производитель не опубликовал. Ультразвуковой расходомер-счетчик «Днепр-7» с накладными датчиками излучателями-приемниками. Принцип действия расходомера-счетчика основан на преобразовании доплеровской разности частот отражений ультразвука от движущихся неоднородностей потока, линейно зависящей от скорости движения пот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338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мбранные счетч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47640" y="2420640"/>
            <a:ext cx="71503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работы счетчика основан на перемещении подвижных перегородок (мембран) камер при поступлении газа в счетчик. Впуск и выпуск газа, расход которого необходимо измерить, вызывает переменное перемещение мембран и через систему рычагов и редуктор приводит в действие счетный механизм. Мембранные счетчики отличаются большим диапазоном измерения до 1:100, но рассчитаны для работы при низком давлении газа, как правило не более 0,5 кгс/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ембранные счетчики в основном предназначены для измерения расхода газа в домах, котеджах. Если турбинные и ротационные счетчики газа сопровождаются шумом, связанным с вращением подвижных элементов, то мембранные счетчики работают бесшумно. Они не требуют смазки во время эксплуатации, в то время как турбинные счетчики необходимо смазывать раз в квартал. Однако при больших расходах более 25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ч размеры счетчиков становятся довольно больши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 rot="1094400">
            <a:off x="7019640" y="260280"/>
            <a:ext cx="1747800" cy="2016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337080" cy="57024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63280" y="476280"/>
            <a:ext cx="490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руйные счетч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36480" y="2636640"/>
            <a:ext cx="7427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 работы основан на колебании струи газа в специальном струйном генераторе. Струя газа по переменно перебрасывается из одного устойчивого положения в другое и создает при этом пульсации давления и звука с частотой пропорциональной скорости течения газа и соответственно объемного расхода. В электронном преобразователе происходит вычисление количества пропущенного газа. В настоящее время серийно выпускаются толь две модификации струйных бытовых счетчиков газа СГ-1 для измерения расхода 0,03 – 1,2 м 3/ч и СГ-2 для 0,03 – 6,0 м 3/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 rot="582000">
            <a:off x="7019640" y="0"/>
            <a:ext cx="2008080" cy="2519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605360" y="6400800"/>
            <a:ext cx="15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мер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вание: СурФ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32:07Z</dcterms:created>
  <dc:creator>Максим Бабчик</dc:creator>
  <dc:description/>
  <dc:language>en-US</dc:language>
  <cp:lastModifiedBy>Максим Бабчик</cp:lastModifiedBy>
  <dcterms:modified xsi:type="dcterms:W3CDTF">2009-03-23T09:25:26Z</dcterms:modified>
  <cp:revision>26</cp:revision>
  <dc:subject/>
  <dc:title>Способы определения объемов газов и жидк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6000000000001023720</vt:lpwstr>
  </property>
  <property fmtid="{D5CDD505-2E9C-101B-9397-08002B2CF9AE}" pid="3" name="Version">
    <vt:r8>8</vt:r8>
  </property>
</Properties>
</file>