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145-1732-4BD4-AC37-DD2DFEF1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04E-2D13-4470-A17F-9083730C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4E9-F816-4D0A-96BD-6377CC08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87C-946B-4D6E-BF9C-F3105803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E5CE-573E-4AED-8D78-3FE22B8A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D3CD-F596-4B11-B394-CCA002F7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9E9A-5958-4ABE-B45F-1E49297E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185B-0C7D-4D95-87F7-992A2440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6DD9-AFE9-4E7E-AF8C-71BB0206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EAA0-FEF4-4BA0-BBD0-AFF73815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9D74-1936-4845-8702-F121FC01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D48-E941-421E-8DE8-D7A3A208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DBB7-56E4-4DB0-9EFA-C591E262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24CD-EA55-4118-B1D4-127B1D74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661D-4C68-417B-97B7-F7563738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6EA8-249C-47AB-AA56-475A1AA2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D3AD-5110-480F-83BB-CDE80C4F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8D0-FCB1-4F02-8A56-BB3D7BDB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AE2-50B6-4BE9-BCA8-EB77147B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658-73AE-45F9-AD73-7BFE69AD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D25-8142-4DE5-9132-D081E77F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301-520D-4AEF-A4BA-F8DEBB99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C92-A57F-4E63-9F4C-4C495C84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C86-1112-4DF6-8F6F-97C2E646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E389-4FEB-4770-94F8-1F10668DA1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D325-8FCA-45D3-B436-C9398865BE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тарый Нов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172200" y="3504960"/>
            <a:ext cx="2286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13 Январ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тарый Новый год - неофициальный праздник у народов бывшей Российской империи и других стран, где церковь не перешла на Григорианский календарь, Новый год по Юлианскому календарю («по старому стилю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 России праздник появился с 1918 года, в связи с введением в Советском государстве Григорианского календа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SNY(0)"/>
          <p:cNvPicPr/>
          <p:nvPr/>
        </p:nvPicPr>
        <p:blipFill>
          <a:blip r:embed="rId1"/>
          <a:stretch/>
        </p:blipFill>
        <p:spPr>
          <a:xfrm>
            <a:off x="4800600" y="533520"/>
            <a:ext cx="3790800" cy="2904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1797322"/>
          <p:cNvPicPr/>
          <p:nvPr/>
        </p:nvPicPr>
        <p:blipFill>
          <a:blip r:embed="rId2"/>
          <a:stretch/>
        </p:blipFill>
        <p:spPr>
          <a:xfrm>
            <a:off x="4648320" y="3581280"/>
            <a:ext cx="4047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Старый Новый год в Росс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 России традиция отмечать старый Новый год связана, помимо сохранения традиции, с тем, что Русская православная церковь продолжает встречать все церковные праздники по юлианскому календарю («старому стилю»). При этом современный Новый год выпадает на Рождественский пост — православный сорокодневный пост в честь Рожд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1263120763_f9a027ef7d0et"/>
          <p:cNvPicPr/>
          <p:nvPr/>
        </p:nvPicPr>
        <p:blipFill>
          <a:blip r:embed="rId1"/>
          <a:stretch/>
        </p:blipFill>
        <p:spPr>
          <a:xfrm>
            <a:off x="5257800" y="1600200"/>
            <a:ext cx="2971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Зарождение тради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радиция отмечать Новый год возникла в 1700 г. по указу Петра I (этой традиции более 300 лет). В его специальном указе было записано: «Поелику в России считают Новый год по-разному, с сего числа перестать дурить головы людям и считать Новый год повсеместно с первого января. А в знак доброго начинания и веселья поздравить друг друга с Новым годом, желая в делах благополучия и в семье благоденствия. В честь Нового года учинять украшения из елей, детей забавлять, на санках катать с гор. А взрослым людям пьянства и мордобоя не учинять — на то других дней хвата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Старый новый год"/>
          <p:cNvPicPr/>
          <p:nvPr/>
        </p:nvPicPr>
        <p:blipFill>
          <a:blip r:embed="rId1"/>
          <a:stretch/>
        </p:blipFill>
        <p:spPr>
          <a:xfrm>
            <a:off x="609480" y="3581280"/>
            <a:ext cx="4038840" cy="2697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b77ebb1faee7894389f003c9b5c75cf-1"/>
          <p:cNvPicPr/>
          <p:nvPr/>
        </p:nvPicPr>
        <p:blipFill>
          <a:blip r:embed="rId2"/>
          <a:stretch/>
        </p:blipFill>
        <p:spPr>
          <a:xfrm>
            <a:off x="4419720" y="3581280"/>
            <a:ext cx="4343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сле 1918 года, когда в России было введено новое летосчисление, возникла традиция отмечать новый Новый год (этой традиции менее 100 ле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g2012_thumb1"/>
          <p:cNvPicPr/>
          <p:nvPr/>
        </p:nvPicPr>
        <p:blipFill>
          <a:blip r:embed="rId1"/>
          <a:stretch/>
        </p:blipFill>
        <p:spPr>
          <a:xfrm>
            <a:off x="1905120" y="457200"/>
            <a:ext cx="533376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9T08:58:42Z</dcterms:created>
  <dc:creator>Пользователь</dc:creator>
  <dc:description/>
  <dc:language>en-US</dc:language>
  <cp:lastModifiedBy>Masha</cp:lastModifiedBy>
  <dcterms:modified xsi:type="dcterms:W3CDTF">2015-01-18T06:51:4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