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15.png" ContentType="image/png"/>
  <Override PartName="/ppt/media/image14.png" ContentType="image/png"/>
  <Override PartName="/ppt/media/image9.png" ContentType="image/pn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B5113-2735-4CF6-9CA5-5892FE10BAA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A0679-CFA5-428B-B149-392DCCCFE28E}" type="slidenum"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5F22-8A95-45CD-BBBD-E318B77EC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B9C0-8522-46E5-B13D-51E6DEA4A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AAE5-BE14-4DA4-ABED-1D308A866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7E5A-315F-47C3-98CE-01E51F1B7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9F5BD-7E5C-4049-9748-CD79FE01B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925FA-FF84-40FF-90CF-98352D2EF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46A57-F66E-4D3D-8178-107494D29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503BD-81DD-457D-8DAA-A7B0F20B3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E1247-EACA-4415-84D2-EBB503AE7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57EB4-7D6D-44AB-AE70-180B615D4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851F1-6F84-45EF-9EAB-0F6B8EFB1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0B36-3A65-486E-B227-5BB9939B3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E58FC-9B13-4C53-AC46-AF08904DC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A78AC-95EE-4FC5-B902-487B2D7B2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B4E57-3293-42E6-A112-EFF663DD6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7300D-CC4A-45CE-BDF7-41ED9E948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D654E-94B1-494F-9542-731C2D942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2453-DF6D-4C2D-9B43-74560ECE6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73DE-76D9-45CE-A273-2D51DB7F9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74F2-6529-4DF9-9BB4-D6A2AB6B5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4EB9-E98A-409C-8546-83D629350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F0A2-2006-4872-918E-A78F7B355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65A1-FB4B-4FAE-BDAD-50AD9559D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5BB1-9122-45B1-A883-48BC35C4A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752C6-79A3-4F5C-8B70-71EE86ED0D59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21C07-6BB0-4460-B5A5-F2058C145246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636120" y="1064520"/>
            <a:ext cx="822888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Психолого-педагогическая профилактика </a:t>
            </a:r>
            <a:br>
              <a:rPr sz="3200"/>
            </a:b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суицидальных явлений</a:t>
            </a: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  </a:t>
            </a:r>
            <a:br>
              <a:rPr sz="2400"/>
            </a:b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в подростковой среде</a:t>
            </a:r>
            <a:br>
              <a:rPr sz="24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3142800" y="4797360"/>
            <a:ext cx="6000840" cy="2060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Макарова Татьяна Петровна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заместитель директор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Педагог-психолог, высшей категори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ГАОУ ЦППРК «Росток»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1"/>
          <p:cNvSpPr/>
          <p:nvPr/>
        </p:nvSpPr>
        <p:spPr>
          <a:xfrm>
            <a:off x="1357200" y="2307240"/>
            <a:ext cx="728676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1. Изменение эмоций - постоянно пониженное настроение. Для ребенка характерна тоскливость. Он считает, что у него ничего не получится, он ни на что не способен. Ребенок подавлен, безразличен, ощущает вину перед окружающими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2. Изменение поведения - самоизоляция от семьи и близких. Наблюдается снижение повседневной активности, потеря интереса к ранее существовавшим привычкам, хобби, изменение привычек: несоблюдение правил личной гигиены, наплевательское отношение  к внешнему виду. Появляется стремление к тому, чтобы все  оставили его в покое, нарушение сна, аппетита. Подросток слушает грустную музыку, предпочитает темы разговора и чтения, связанные со смертью и самоубийствами. Явно настораживает приведение в порядок своих вещей, раздаривание их или уничтожение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3. Характерны высказывания: «лучше уже не будет», «хочу умереть», «скоро все закончится», «хорошо бы заснуть и не проснуться»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Внешние признаки депрессии не всегда отражают тяжесть состояния и риск суицидальных действий, поэтому оценить тяжесть депрессивного состояния может только специалист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Значительно увеличивается суицидальный риск у детей и подростков с девиантными формами поведения. Причем суицидальный риск возрастает по мере увеличения количества поведенческих проблем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Прямоугольник 2"/>
          <p:cNvSpPr/>
          <p:nvPr/>
        </p:nvSpPr>
        <p:spPr>
          <a:xfrm>
            <a:off x="1285920" y="500040"/>
            <a:ext cx="7358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Педагогам и родителям важно понимать вербальные и невербальные ключи - ранние маркеры-предвестники, свидетельствующие о риске совершения суицида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1"/>
          <p:cNvSpPr/>
          <p:nvPr/>
        </p:nvSpPr>
        <p:spPr>
          <a:xfrm>
            <a:off x="1214280" y="2331720"/>
            <a:ext cx="735840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Кто из учеников должен вызывать беспокойство?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Обратите внимание на подростков, страдающих от своей малоценности и низкой популярности в среде сверстников. Очень опасны для подростков мифы о суицидах, ведущих к свободе личности. Эти мифы очень активно внедряют в подростковую среду представителя различных деструктивных сект. Появление любых сектантов в окрестностях школы или в микрорайоне должно восприниматься как сигнал тревоги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Обычно выделяют следующие особенности суицидального поведения: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Эгоцентризм – погруженность в себя, сосредоточенность только на своих переживаниях, страданиях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Аутоагрессия – негативное отношение к себе, достигшее крайней степени, самообвинение, безмерное преувеличение своей вины, крайне негативная самооценка. Аутоагрессия практически всегда предшествует гетероагрессии в отношении с близкими: подозрительность, необоснованность обвинения, равнодушное отношение к болезни или смерти другого человека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Прямоугольник 2"/>
          <p:cNvSpPr/>
          <p:nvPr/>
        </p:nvSpPr>
        <p:spPr>
          <a:xfrm>
            <a:off x="500040" y="285840"/>
            <a:ext cx="8429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Признаки суицидального поведения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Сигналы беды - это, прежде всего, заметная перемена в обычных манерах поведения учащегося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346680" y="669960"/>
            <a:ext cx="8736480" cy="840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Педагогические ошибки как фактор деструктивного поведени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57120" y="2286000"/>
            <a:ext cx="850104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76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 u="sng">
                <a:solidFill>
                  <a:srgbClr val="003366"/>
                </a:solidFill>
                <a:uFillTx/>
                <a:latin typeface="Arial"/>
              </a:rPr>
              <a:t>1-ая группа</a:t>
            </a:r>
            <a:r>
              <a:rPr b="0" lang="ru-RU" sz="1900" spc="-1" strike="noStrike">
                <a:solidFill>
                  <a:srgbClr val="003366"/>
                </a:solidFill>
                <a:latin typeface="Arial"/>
              </a:rPr>
              <a:t> педагогических ошибок связана с  профессиональной непригодностью учителя и низким уровнем педагогического мастерства (грубость учителя, унижение ученика, “наклеивание ярлыков”, публичная компрометация учащегося, нарушение педагогического этикета, прямой диктат, месть или косвенное сведение счетов, запугивание). 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76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76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 u="sng">
                <a:solidFill>
                  <a:srgbClr val="003366"/>
                </a:solidFill>
                <a:uFillTx/>
                <a:latin typeface="Arial"/>
              </a:rPr>
              <a:t>2-ая группа</a:t>
            </a:r>
            <a:r>
              <a:rPr b="0" lang="ru-RU" sz="1900" spc="-1" strike="noStrike">
                <a:solidFill>
                  <a:srgbClr val="003366"/>
                </a:solidFill>
                <a:latin typeface="Arial"/>
              </a:rPr>
              <a:t> ошибок детерминирована определенной педагогической позицией учителя, что проявляется в его отношении к ученику: демонстрация превосходства, равнодушие к учебным успехам, предвзятое отношение, лицемерие, игнорирование учащегося. 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76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76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 u="sng">
                <a:solidFill>
                  <a:srgbClr val="003366"/>
                </a:solidFill>
                <a:uFillTx/>
                <a:latin typeface="Arial"/>
              </a:rPr>
              <a:t>3-я группа</a:t>
            </a:r>
            <a:r>
              <a:rPr b="0" lang="ru-RU" sz="1900" spc="-1" strike="noStrike">
                <a:solidFill>
                  <a:srgbClr val="003366"/>
                </a:solidFill>
                <a:latin typeface="Arial"/>
              </a:rPr>
              <a:t> ошибок – неправильное конструирование педагогических действий (обсуждения на занятиях самоубийств художественных героев, известных личностей, в ходе которых суицидальные поступки трактуются как нормальные, приемлемые, а иногда как высоконравственные образцы поведения в трудной ситуации).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76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611640" y="332280"/>
            <a:ext cx="800892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6666"/>
                </a:solidFill>
                <a:latin typeface="Arial"/>
              </a:rPr>
              <a:t>Что же делать?</a:t>
            </a:r>
            <a:endParaRPr b="1" lang="en-US" sz="6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Text Box 8"/>
          <p:cNvSpPr/>
          <p:nvPr/>
        </p:nvSpPr>
        <p:spPr>
          <a:xfrm>
            <a:off x="500040" y="2286000"/>
            <a:ext cx="80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Иногда, чтобы помочь сохранить жизнь, нужно просто выслушать подростка. Когда вы выслушиваете человека, то на психологическом уровне, вы выражаете свою заботу о нем, даете ему понять что вам не все равно, что происходит и что может случиться с ним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Text Box 9"/>
          <p:cNvSpPr/>
          <p:nvPr/>
        </p:nvSpPr>
        <p:spPr>
          <a:xfrm>
            <a:off x="642960" y="3500280"/>
            <a:ext cx="3384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3366"/>
                </a:solidFill>
                <a:uFillTx/>
                <a:latin typeface="Arial"/>
              </a:rPr>
              <a:t>Делать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Направьте на все свое внимание на человека которого вы выслушивает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Скажите ему/ей что вам не все равно, и что вы рады что сейчас разговариваете вмест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Задайте вопрос который поможет вам лучше понять переживания человек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Text Box 10"/>
          <p:cNvSpPr/>
          <p:nvPr/>
        </p:nvSpPr>
        <p:spPr>
          <a:xfrm>
            <a:off x="4000680" y="3470400"/>
            <a:ext cx="460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3366"/>
                </a:solidFill>
                <a:uFillTx/>
                <a:latin typeface="Arial"/>
              </a:rPr>
              <a:t>Чего не стоит делать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Пробовать «сходу» решить проблемы собеседник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Давать советы о которых вас не просили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Говорить о том, что чувства собеседника неправильные и малозначимые (например говорить что это пустяки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Рассказывать о собственных проблемах (Такой ход может усилить пессимистический настрой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AutoShape 11">
            <a:hlinkClick r:id="rId1" action="ppaction://hlinksldjump"/>
          </p:cNvPr>
          <p:cNvSpPr/>
          <p:nvPr/>
        </p:nvSpPr>
        <p:spPr>
          <a:xfrm>
            <a:off x="7596360" y="620640"/>
            <a:ext cx="649080" cy="576360"/>
          </a:xfrm>
          <a:custGeom>
            <a:avLst/>
            <a:gdLst>
              <a:gd name="textAreaLeft" fmla="*/ 37080 w 649080"/>
              <a:gd name="textAreaRight" fmla="*/ 612000 w 6490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4324" h="21600">
                <a:moveTo>
                  <a:pt x="0" y="0"/>
                </a:moveTo>
                <a:lnTo>
                  <a:pt x="24324" y="0"/>
                </a:lnTo>
                <a:lnTo>
                  <a:pt x="24324" y="21600"/>
                </a:lnTo>
                <a:lnTo>
                  <a:pt x="0" y="21600"/>
                </a:lnTo>
                <a:close/>
              </a:path>
              <a:path fill="lightenLess" w="24324" h="21600">
                <a:moveTo>
                  <a:pt x="0" y="0"/>
                </a:moveTo>
                <a:lnTo>
                  <a:pt x="24324" y="0"/>
                </a:lnTo>
                <a:lnTo>
                  <a:pt x="22924" y="1400"/>
                </a:lnTo>
                <a:lnTo>
                  <a:pt x="1400" y="1400"/>
                </a:lnTo>
                <a:close/>
              </a:path>
              <a:path fill="darken" w="24324" h="21600">
                <a:moveTo>
                  <a:pt x="24324" y="0"/>
                </a:moveTo>
                <a:lnTo>
                  <a:pt x="24324" y="21600"/>
                </a:lnTo>
                <a:lnTo>
                  <a:pt x="22924" y="20200"/>
                </a:lnTo>
                <a:lnTo>
                  <a:pt x="22924" y="1400"/>
                </a:lnTo>
                <a:close/>
              </a:path>
              <a:path fill="darkenLess" w="24324" h="21600">
                <a:moveTo>
                  <a:pt x="243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24" y="20200"/>
                </a:lnTo>
                <a:close/>
              </a:path>
              <a:path fill="lighten" w="243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24" h="21600">
                <a:moveTo>
                  <a:pt x="12162" y="3837"/>
                </a:moveTo>
                <a:lnTo>
                  <a:pt x="14738" y="6448"/>
                </a:lnTo>
                <a:lnTo>
                  <a:pt x="14738" y="4707"/>
                </a:lnTo>
                <a:lnTo>
                  <a:pt x="16514" y="4707"/>
                </a:lnTo>
                <a:lnTo>
                  <a:pt x="16514" y="8224"/>
                </a:lnTo>
                <a:lnTo>
                  <a:pt x="19125" y="10800"/>
                </a:lnTo>
                <a:lnTo>
                  <a:pt x="17471" y="10800"/>
                </a:lnTo>
                <a:lnTo>
                  <a:pt x="17471" y="17989"/>
                </a:lnTo>
                <a:lnTo>
                  <a:pt x="6853" y="17989"/>
                </a:lnTo>
                <a:lnTo>
                  <a:pt x="6853" y="10800"/>
                </a:lnTo>
                <a:lnTo>
                  <a:pt x="5199" y="10800"/>
                </a:lnTo>
                <a:close/>
              </a:path>
              <a:path fill="darkenLess" w="24324" h="21600">
                <a:moveTo>
                  <a:pt x="14738" y="6448"/>
                </a:moveTo>
                <a:lnTo>
                  <a:pt x="14738" y="4707"/>
                </a:lnTo>
                <a:lnTo>
                  <a:pt x="16514" y="4707"/>
                </a:lnTo>
                <a:lnTo>
                  <a:pt x="16514" y="8224"/>
                </a:lnTo>
                <a:close/>
              </a:path>
              <a:path fill="darkenLess" w="24324" h="21600">
                <a:moveTo>
                  <a:pt x="11239" y="14299"/>
                </a:moveTo>
                <a:lnTo>
                  <a:pt x="13084" y="14299"/>
                </a:lnTo>
                <a:lnTo>
                  <a:pt x="13084" y="17989"/>
                </a:lnTo>
                <a:lnTo>
                  <a:pt x="17471" y="17989"/>
                </a:lnTo>
                <a:lnTo>
                  <a:pt x="17471" y="10800"/>
                </a:lnTo>
                <a:lnTo>
                  <a:pt x="6853" y="10800"/>
                </a:lnTo>
                <a:lnTo>
                  <a:pt x="6853" y="17989"/>
                </a:lnTo>
                <a:lnTo>
                  <a:pt x="11239" y="17989"/>
                </a:ln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едагогическая поддержк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Обращайтесь к детям по имени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Не унижайте, не сравнивайте детей друг с другом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Учите смотреть на ситуацию с других сторон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Обучите детей и чаще используйте  релаксационные упражнения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Способствуйте повышению самооценки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Будьте внимательны к эмоциональному состоянию детей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Обсудите с детьми работу служб, способных оказать поддержку в кризисных ситуациях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Работайте с родителями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Что могут порекомендовать педагоги родителям уже сегодня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Быть самим позитивными!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Создать дом, полный любви и дружбы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Находить время для ежедневного общения с подростком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Воспитывать привычку рассказывать о достижениях,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а также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о тревогах, сомнениях, страхах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Не оставлять без внимания проблемы ребенк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Принимать ребенка таким, какой он есть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Помочь наполнить его день интересными событиями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Чаще говорить о будущем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540720" y="405360"/>
            <a:ext cx="80085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6666"/>
                </a:solidFill>
                <a:latin typeface="Arial"/>
              </a:rPr>
              <a:t>Притча</a:t>
            </a:r>
            <a:endParaRPr b="1" lang="en-US" sz="6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785880" y="2643120"/>
            <a:ext cx="81439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В болоте тонул человек. Он весь погрузился в трясину, и только голова его еще выглядывала. Несчастный орал во всю глотку, прося о помощи. Скоро целая толпа собралась на месте происшествия. Нашелся смельчак, пожелавший спасти тонущего. «Протяни мне руку! – кричал он ему. – Я вытащу тебя из болота.» Но тонущий взывал о помощи и ничего не делал для того, чтобы тот смог ему помочь. «Дай же мне руку» - все повторял ему человек. В ответ раздавались лишь жалобные крики о помощи. Тогда из толпы вышел еще один человек и сказал: «Ты же видишь, что он никак не может дать тебе руку. Протяни ему свою, тогда сможешь его спасти.»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1" name="Picture 7" descr="2445242722_7165f041f2_o"/>
          <p:cNvPicPr/>
          <p:nvPr/>
        </p:nvPicPr>
        <p:blipFill>
          <a:blip r:embed="rId1"/>
          <a:stretch/>
        </p:blipFill>
        <p:spPr>
          <a:xfrm>
            <a:off x="7000920" y="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Методы психологической реабилитации и коррекции дезадаптивных детей в условиях ГАОУ ЦППРК «Росток»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Тренинг снятия психоэмоционального напряжени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4" name="Picture 11" descr=""/>
          <p:cNvPicPr/>
          <p:nvPr/>
        </p:nvPicPr>
        <p:blipFill>
          <a:blip r:embed="rId1"/>
          <a:stretch/>
        </p:blipFill>
        <p:spPr>
          <a:xfrm>
            <a:off x="4788000" y="2492280"/>
            <a:ext cx="2305080" cy="17287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9" descr=""/>
          <p:cNvPicPr/>
          <p:nvPr/>
        </p:nvPicPr>
        <p:blipFill>
          <a:blip r:embed="rId2"/>
          <a:stretch/>
        </p:blipFill>
        <p:spPr>
          <a:xfrm>
            <a:off x="5580000" y="4575240"/>
            <a:ext cx="3168720" cy="17794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2" descr="S5020513"/>
          <p:cNvPicPr/>
          <p:nvPr/>
        </p:nvPicPr>
        <p:blipFill>
          <a:blip r:embed="rId3"/>
          <a:stretch/>
        </p:blipFill>
        <p:spPr>
          <a:xfrm>
            <a:off x="2843280" y="4508640"/>
            <a:ext cx="2421000" cy="18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Методы психологической реабилитации и коррекци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оциально-психологический тренинг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9" name="Picture 3" descr="C:\Documents and Settings\Admin\Мои документы\Мои рисунки\тренинг1.jpg"/>
          <p:cNvPicPr/>
          <p:nvPr/>
        </p:nvPicPr>
        <p:blipFill>
          <a:blip r:embed="rId1"/>
          <a:stretch/>
        </p:blipFill>
        <p:spPr>
          <a:xfrm rot="446400">
            <a:off x="5435640" y="2349000"/>
            <a:ext cx="3052800" cy="24973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8" descr="IMG_0179"/>
          <p:cNvPicPr/>
          <p:nvPr/>
        </p:nvPicPr>
        <p:blipFill>
          <a:blip r:embed="rId2"/>
          <a:stretch/>
        </p:blipFill>
        <p:spPr>
          <a:xfrm>
            <a:off x="5580000" y="4724280"/>
            <a:ext cx="2592360" cy="19432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9" descr="P5170116"/>
          <p:cNvPicPr/>
          <p:nvPr/>
        </p:nvPicPr>
        <p:blipFill>
          <a:blip r:embed="rId3"/>
          <a:stretch/>
        </p:blipFill>
        <p:spPr>
          <a:xfrm>
            <a:off x="2411280" y="4729320"/>
            <a:ext cx="252108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Методы психологической реабилитации и коррекци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Индивидуальные занятия  по компьютерным программам, основанным на БОС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«ИБИС», «Комфорт», «Протеус»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4" name="Picture 2" descr="C:\Documents and Settings\Чебурашка XD\Мои документы\Мои рисунки\Типа консилиум\IMG_0752.jpg"/>
          <p:cNvPicPr/>
          <p:nvPr/>
        </p:nvPicPr>
        <p:blipFill>
          <a:blip r:embed="rId1"/>
          <a:stretch/>
        </p:blipFill>
        <p:spPr>
          <a:xfrm>
            <a:off x="4724280" y="2755800"/>
            <a:ext cx="3267360" cy="24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оугольник 1"/>
          <p:cNvSpPr/>
          <p:nvPr/>
        </p:nvSpPr>
        <p:spPr>
          <a:xfrm>
            <a:off x="928800" y="2286000"/>
            <a:ext cx="75009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«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Не опекайте меня, не ходите за мной, не связывайте каждый мой шаг, не свивайте меня пеленками присмотра и недоверия, не напоминайте и словом о моей колыбели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Я самостоятельный человек. Я не хочу, чтобы меня вели за руку. Передо мной высокая гора. Это цель моей жизни. Я вижу ее, думаю о ней, хочу достичь ее, но взойти на эту вершину хочу самостоятельно. Я уже поднимаюсь, делаю первые шаги. И чем выше ступает моя нога, тем более широкий горизонт открывается мне, тем больше я вижу людей, тем больше познаю их, тем больше людей видят меня. От величин и безграничности того, что мне открывается, делается страшно. Мне необходима поддержка старшего друга. Я достигну своей вершины, если буду опираться на плечо сильного и мудрого человека. Но мне стыдно и боязно сказать об этом. Мне хочется, чтобы все считали, что я самостоятельно, своими силами доберусь до вершины»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Прямоугольник 2"/>
          <p:cNvSpPr/>
          <p:nvPr/>
        </p:nvSpPr>
        <p:spPr>
          <a:xfrm>
            <a:off x="357120" y="428760"/>
            <a:ext cx="8572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В. А. Сухомлинский глубоко подметил основное противоречи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во взаимоотношении подростка и взрослого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Методы психологической реабилитации и коррекци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Арт-терапи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7" name="Picture 8" descr=""/>
          <p:cNvPicPr/>
          <p:nvPr/>
        </p:nvPicPr>
        <p:blipFill>
          <a:blip r:embed="rId1"/>
          <a:stretch/>
        </p:blipFill>
        <p:spPr>
          <a:xfrm>
            <a:off x="4500720" y="2708280"/>
            <a:ext cx="3095640" cy="18622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8" descr="S5020382"/>
          <p:cNvPicPr/>
          <p:nvPr/>
        </p:nvPicPr>
        <p:blipFill>
          <a:blip r:embed="rId2"/>
          <a:stretch/>
        </p:blipFill>
        <p:spPr>
          <a:xfrm>
            <a:off x="5508720" y="4653000"/>
            <a:ext cx="2566800" cy="19256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9" descr="IMG_1863"/>
          <p:cNvPicPr/>
          <p:nvPr/>
        </p:nvPicPr>
        <p:blipFill>
          <a:blip r:embed="rId3"/>
          <a:stretch/>
        </p:blipFill>
        <p:spPr>
          <a:xfrm>
            <a:off x="2556000" y="4797360"/>
            <a:ext cx="2376360" cy="17827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0" descr="IMG_0187"/>
          <p:cNvPicPr/>
          <p:nvPr/>
        </p:nvPicPr>
        <p:blipFill>
          <a:blip r:embed="rId4"/>
          <a:stretch/>
        </p:blipFill>
        <p:spPr>
          <a:xfrm>
            <a:off x="900000" y="2881440"/>
            <a:ext cx="251964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Методы психологической реабилитации и коррекци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Телесно-ориентированная терапи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83" name="Picture 4" descr="G:\Сенсорка\IMG_1257.jpg"/>
          <p:cNvPicPr/>
          <p:nvPr/>
        </p:nvPicPr>
        <p:blipFill>
          <a:blip r:embed="rId1"/>
          <a:stretch/>
        </p:blipFill>
        <p:spPr>
          <a:xfrm>
            <a:off x="4846680" y="2494080"/>
            <a:ext cx="4059360" cy="26319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8" descr=""/>
          <p:cNvPicPr/>
          <p:nvPr/>
        </p:nvPicPr>
        <p:blipFill>
          <a:blip r:embed="rId2"/>
          <a:stretch/>
        </p:blipFill>
        <p:spPr>
          <a:xfrm>
            <a:off x="1403280" y="3860640"/>
            <a:ext cx="2076480" cy="27687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9" descr=""/>
          <p:cNvPicPr/>
          <p:nvPr/>
        </p:nvPicPr>
        <p:blipFill>
          <a:blip r:embed="rId3"/>
          <a:stretch/>
        </p:blipFill>
        <p:spPr>
          <a:xfrm>
            <a:off x="3924360" y="3860640"/>
            <a:ext cx="2022480" cy="26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Особенности  подросткового возраста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Биологическое развити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Психическое развити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Особенности социальной ситуаци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Organization Chart 1031"/>
          <p:cNvGrpSpPr/>
          <p:nvPr/>
        </p:nvGrpSpPr>
        <p:grpSpPr>
          <a:xfrm>
            <a:off x="533520" y="1663200"/>
            <a:ext cx="6962400" cy="4194720"/>
            <a:chOff x="533520" y="1663200"/>
            <a:chExt cx="6962400" cy="4194720"/>
          </a:xfrm>
        </p:grpSpPr>
        <p:cxnSp>
          <p:nvCxnSpPr>
            <p:cNvPr id="109" name="_s1028"/>
            <p:cNvCxnSpPr>
              <a:stCxn id="110" idx="1"/>
            </p:cNvCxnSpPr>
            <p:nvPr/>
          </p:nvCxnSpPr>
          <p:spPr>
            <a:xfrm rot="10800000">
              <a:off x="4399560" y="3683880"/>
              <a:ext cx="668160" cy="1722960"/>
            </a:xfrm>
            <a:prstGeom prst="bentConnector2">
              <a:avLst/>
            </a:prstGeom>
            <a:ln w="28440">
              <a:solidFill>
                <a:srgbClr val="003366"/>
              </a:solidFill>
              <a:miter/>
            </a:ln>
          </p:spPr>
        </p:cxnSp>
        <p:cxnSp>
          <p:nvCxnSpPr>
            <p:cNvPr id="111" name="_s1029"/>
            <p:cNvCxnSpPr/>
            <p:nvPr/>
          </p:nvCxnSpPr>
          <p:spPr>
            <a:xfrm flipV="1" rot="10800000">
              <a:off x="3933720" y="3758400"/>
              <a:ext cx="1147320" cy="2160"/>
            </a:xfrm>
            <a:prstGeom prst="bentConnector3">
              <a:avLst>
                <a:gd name="adj1" fmla="val 9227"/>
              </a:avLst>
            </a:prstGeom>
            <a:ln w="28440">
              <a:solidFill>
                <a:srgbClr val="003366"/>
              </a:solidFill>
              <a:miter/>
            </a:ln>
          </p:spPr>
        </p:cxnSp>
        <p:cxnSp>
          <p:nvCxnSpPr>
            <p:cNvPr id="112" name="_s1030"/>
            <p:cNvCxnSpPr>
              <a:endCxn id="113" idx="1"/>
            </p:cNvCxnSpPr>
            <p:nvPr/>
          </p:nvCxnSpPr>
          <p:spPr>
            <a:xfrm flipH="1" flipV="1" rot="5400000">
              <a:off x="3878280" y="2634480"/>
              <a:ext cx="1645560" cy="602280"/>
            </a:xfrm>
            <a:prstGeom prst="bentConnector2">
              <a:avLst/>
            </a:prstGeom>
            <a:ln w="28440">
              <a:solidFill>
                <a:srgbClr val="003366"/>
              </a:solidFill>
              <a:miter/>
            </a:ln>
          </p:spPr>
        </p:cxnSp>
        <p:sp>
          <p:nvSpPr>
            <p:cNvPr id="114" name="_s1031"/>
            <p:cNvSpPr/>
            <p:nvPr/>
          </p:nvSpPr>
          <p:spPr>
            <a:xfrm>
              <a:off x="533520" y="3310200"/>
              <a:ext cx="3321360" cy="9730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360" rIns="45360" tIns="22680" bIns="22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66"/>
                  </a:solidFill>
                  <a:latin typeface="Arial"/>
                </a:rPr>
                <a:t>Биологическое развитие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3" name="_s1032"/>
            <p:cNvSpPr/>
            <p:nvPr/>
          </p:nvSpPr>
          <p:spPr>
            <a:xfrm>
              <a:off x="5001840" y="1663200"/>
              <a:ext cx="2428560" cy="90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360" rIns="45360" tIns="22680" bIns="22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003366"/>
                  </a:solidFill>
                  <a:latin typeface="Arial"/>
                </a:rPr>
                <a:t>Гормональные 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Arial"/>
                </a:rPr>
                <a:t>перестройки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5" name="_s1033"/>
            <p:cNvSpPr/>
            <p:nvPr/>
          </p:nvSpPr>
          <p:spPr>
            <a:xfrm>
              <a:off x="5067720" y="3310200"/>
              <a:ext cx="2428200" cy="90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360" rIns="45360" tIns="22680" bIns="22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Arial"/>
                </a:rPr>
                <a:t>Развитие костной и 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Arial"/>
                </a:rPr>
                <a:t>мышечной систем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0" name="_s1034"/>
            <p:cNvSpPr/>
            <p:nvPr/>
          </p:nvSpPr>
          <p:spPr>
            <a:xfrm>
              <a:off x="5067720" y="4956840"/>
              <a:ext cx="2428200" cy="9010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360" rIns="45360" tIns="22680" bIns="22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Arial"/>
                </a:rPr>
                <a:t>Изменение деятельности 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Arial"/>
                </a:rPr>
                <a:t>внутренних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Arial"/>
                </a:rPr>
                <a:t>органов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6" name="Прямоугольник 2"/>
          <p:cNvSpPr/>
          <p:nvPr/>
        </p:nvSpPr>
        <p:spPr>
          <a:xfrm>
            <a:off x="1236240" y="357120"/>
            <a:ext cx="763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Times New Roman"/>
              </a:rPr>
              <a:t>Особенности  подросткового возраста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           </a:t>
            </a: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Психическое развитие</a:t>
            </a:r>
            <a:br>
              <a:rPr sz="3200"/>
            </a:b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характерно полярность психики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24000" y="1779480"/>
            <a:ext cx="4038480" cy="481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Целеустремленность, настойчивость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Повышенная самоуверенность, безаппеляционность в суждениях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Потребность в общении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Развязность в поведении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Нежность, ласковость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716000" y="2072880"/>
            <a:ext cx="403884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ahoma"/>
              </a:rPr>
              <a:t>импульсивность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ts val="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ahoma"/>
              </a:rPr>
              <a:t>ранимость и неуверенность в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ts val="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ts val="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ahoma"/>
              </a:rPr>
              <a:t>себе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Line 5"/>
          <p:cNvSpPr/>
          <p:nvPr/>
        </p:nvSpPr>
        <p:spPr>
          <a:xfrm>
            <a:off x="4211640" y="2708280"/>
            <a:ext cx="504720" cy="0"/>
          </a:xfrm>
          <a:prstGeom prst="line">
            <a:avLst/>
          </a:prstGeom>
          <a:ln w="57240">
            <a:solidFill>
              <a:srgbClr val="99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Line 6"/>
          <p:cNvSpPr/>
          <p:nvPr/>
        </p:nvSpPr>
        <p:spPr>
          <a:xfrm>
            <a:off x="4211640" y="3645000"/>
            <a:ext cx="504720" cy="0"/>
          </a:xfrm>
          <a:prstGeom prst="line">
            <a:avLst/>
          </a:prstGeom>
          <a:ln w="57240">
            <a:solidFill>
              <a:srgbClr val="99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Line 7"/>
          <p:cNvSpPr/>
          <p:nvPr/>
        </p:nvSpPr>
        <p:spPr>
          <a:xfrm>
            <a:off x="4284720" y="5084640"/>
            <a:ext cx="504720" cy="0"/>
          </a:xfrm>
          <a:prstGeom prst="line">
            <a:avLst/>
          </a:prstGeom>
          <a:ln w="57240">
            <a:solidFill>
              <a:srgbClr val="99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Line 8"/>
          <p:cNvSpPr/>
          <p:nvPr/>
        </p:nvSpPr>
        <p:spPr>
          <a:xfrm>
            <a:off x="4356000" y="5805360"/>
            <a:ext cx="505080" cy="0"/>
          </a:xfrm>
          <a:prstGeom prst="line">
            <a:avLst/>
          </a:prstGeom>
          <a:ln w="57240">
            <a:solidFill>
              <a:srgbClr val="99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Line 10"/>
          <p:cNvSpPr/>
          <p:nvPr/>
        </p:nvSpPr>
        <p:spPr>
          <a:xfrm>
            <a:off x="4500720" y="6381720"/>
            <a:ext cx="504720" cy="0"/>
          </a:xfrm>
          <a:prstGeom prst="line">
            <a:avLst/>
          </a:prstGeom>
          <a:ln w="57240">
            <a:solidFill>
              <a:srgbClr val="99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Rectangle 11"/>
          <p:cNvSpPr/>
          <p:nvPr/>
        </p:nvSpPr>
        <p:spPr>
          <a:xfrm>
            <a:off x="5364000" y="6093000"/>
            <a:ext cx="349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ahoma"/>
              </a:rPr>
              <a:t>недетская жестокость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Rectangle 12"/>
          <p:cNvSpPr/>
          <p:nvPr/>
        </p:nvSpPr>
        <p:spPr>
          <a:xfrm>
            <a:off x="5365440" y="53737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Rectangle 13"/>
          <p:cNvSpPr/>
          <p:nvPr/>
        </p:nvSpPr>
        <p:spPr>
          <a:xfrm>
            <a:off x="5364000" y="5589720"/>
            <a:ext cx="2006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ahoma"/>
              </a:rPr>
              <a:t>застенчивость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Rectangle 14"/>
          <p:cNvSpPr/>
          <p:nvPr/>
        </p:nvSpPr>
        <p:spPr>
          <a:xfrm>
            <a:off x="5651640" y="4869000"/>
            <a:ext cx="260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ahoma"/>
              </a:rPr>
              <a:t>желание уединиться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Arial Black"/>
              </a:rPr>
              <a:t>В этот период происходит рост самосознания, как внутренне освоенный опыт социальных отношений, </a:t>
            </a:r>
            <a:br>
              <a:rPr sz="2000"/>
            </a:br>
            <a:r>
              <a:rPr b="1" lang="ru-RU" sz="2000" spc="-1" strike="noStrike">
                <a:solidFill>
                  <a:srgbClr val="006666"/>
                </a:solidFill>
                <a:latin typeface="Arial Black"/>
              </a:rPr>
              <a:t>позволяющий глубже понять других и себя. </a:t>
            </a:r>
            <a:br>
              <a:rPr sz="2000"/>
            </a:br>
            <a:r>
              <a:rPr b="1" lang="ru-RU" sz="40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130" name="Organization Chart 8"/>
          <p:cNvGrpSpPr/>
          <p:nvPr/>
        </p:nvGrpSpPr>
        <p:grpSpPr>
          <a:xfrm>
            <a:off x="431640" y="1585800"/>
            <a:ext cx="8208360" cy="4462560"/>
            <a:chOff x="431640" y="1585800"/>
            <a:chExt cx="8208360" cy="4462560"/>
          </a:xfrm>
        </p:grpSpPr>
        <p:cxnSp>
          <p:nvCxnSpPr>
            <p:cNvPr id="131" name="_s2052"/>
            <p:cNvCxnSpPr>
              <a:stCxn id="132" idx="0"/>
              <a:endCxn id="133" idx="2"/>
            </p:cNvCxnSpPr>
            <p:nvPr/>
          </p:nvCxnSpPr>
          <p:spPr>
            <a:xfrm flipV="1" rot="16200000">
              <a:off x="5525640" y="2379600"/>
              <a:ext cx="893160" cy="287352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3366"/>
              </a:solidFill>
              <a:miter/>
            </a:ln>
          </p:spPr>
        </p:cxnSp>
        <p:cxnSp>
          <p:nvCxnSpPr>
            <p:cNvPr id="134" name="_s2053"/>
            <p:cNvCxnSpPr>
              <a:stCxn id="135" idx="0"/>
              <a:endCxn id="133" idx="2"/>
            </p:cNvCxnSpPr>
            <p:nvPr/>
          </p:nvCxnSpPr>
          <p:spPr>
            <a:xfrm flipV="1">
              <a:off x="4536000" y="3369960"/>
              <a:ext cx="3600" cy="893160"/>
            </a:xfrm>
            <a:prstGeom prst="bentConnector2">
              <a:avLst/>
            </a:prstGeom>
            <a:ln w="28440">
              <a:solidFill>
                <a:srgbClr val="003366"/>
              </a:solidFill>
              <a:miter/>
            </a:ln>
          </p:spPr>
        </p:cxnSp>
        <p:cxnSp>
          <p:nvCxnSpPr>
            <p:cNvPr id="136" name="_s2054"/>
            <p:cNvCxnSpPr>
              <a:stCxn id="137" idx="0"/>
              <a:endCxn id="133" idx="2"/>
            </p:cNvCxnSpPr>
            <p:nvPr/>
          </p:nvCxnSpPr>
          <p:spPr>
            <a:xfrm flipH="1" flipV="1" rot="5400000">
              <a:off x="2652840" y="2379960"/>
              <a:ext cx="893160" cy="287352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3366"/>
              </a:solidFill>
              <a:miter/>
            </a:ln>
          </p:spPr>
        </p:cxnSp>
        <p:sp>
          <p:nvSpPr>
            <p:cNvPr id="133" name="_s2055"/>
            <p:cNvSpPr/>
            <p:nvPr/>
          </p:nvSpPr>
          <p:spPr>
            <a:xfrm>
              <a:off x="3304440" y="158580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3366"/>
                  </a:solidFill>
                  <a:latin typeface="Arial"/>
                </a:rPr>
                <a:t>Самосознание</a:t>
              </a:r>
              <a:endParaRPr b="0" lang="en-US" sz="21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7" name="_s2056"/>
            <p:cNvSpPr/>
            <p:nvPr/>
          </p:nvSpPr>
          <p:spPr>
            <a:xfrm>
              <a:off x="431640" y="426348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3366"/>
                  </a:solidFill>
                  <a:latin typeface="Arial"/>
                </a:rPr>
                <a:t>Потребность </a:t>
              </a:r>
              <a:endParaRPr b="0" lang="en-US" sz="21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3366"/>
                  </a:solidFill>
                  <a:latin typeface="Arial"/>
                </a:rPr>
                <a:t>в признании</a:t>
              </a:r>
              <a:endParaRPr b="0" lang="en-US" sz="21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5" name="_s2057"/>
            <p:cNvSpPr/>
            <p:nvPr/>
          </p:nvSpPr>
          <p:spPr>
            <a:xfrm>
              <a:off x="3304440" y="426348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3366"/>
                  </a:solidFill>
                  <a:latin typeface="Arial"/>
                </a:rPr>
                <a:t>Осознание прав </a:t>
              </a:r>
              <a:endParaRPr b="0" lang="en-US" sz="21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3366"/>
                  </a:solidFill>
                  <a:latin typeface="Arial"/>
                </a:rPr>
                <a:t>и обязанностей</a:t>
              </a:r>
              <a:endParaRPr b="0" lang="en-US" sz="21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2" name="_s2058"/>
            <p:cNvSpPr/>
            <p:nvPr/>
          </p:nvSpPr>
          <p:spPr>
            <a:xfrm>
              <a:off x="6177600" y="426348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3366"/>
                  </a:solidFill>
                  <a:latin typeface="Arial"/>
                </a:rPr>
                <a:t>Осознание </a:t>
              </a:r>
              <a:endParaRPr b="0" lang="en-US" sz="21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3366"/>
                  </a:solidFill>
                  <a:latin typeface="Arial"/>
                </a:rPr>
                <a:t>времени</a:t>
              </a:r>
              <a:endParaRPr b="0" lang="en-US" sz="21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55000" y="433080"/>
            <a:ext cx="7731720" cy="137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Особенности социальной ситуаци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395280" y="1196640"/>
            <a:ext cx="813744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Tahoma"/>
              </a:rPr>
              <a:t>Ведущей деятельностью в этом возрасте является коммуникативная. Общаясь, в первую очередь, со своими сверстниками, подросток получает необходимые знания о жизни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3366"/>
                </a:solidFill>
                <a:latin typeface="Tahoma"/>
              </a:rPr>
              <a:t>Очень важным для подростка является мнение о нем группы, к которой он принадлежит. Сам факт принадлежности к определенной группе придает ему дополнительную уверенность в себе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3366"/>
                </a:solidFill>
                <a:latin typeface="Tahoma"/>
              </a:rPr>
              <a:t>Стремление к самостоятельности выражается в том, что контроль и помощь отвергаются. Все чаще от подростка можно слышать: "Я сам все знаю!"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Tahoma"/>
              </a:rPr>
              <a:t>Чувство взрослости: изменить они пока ничего не могут, но внешне подражают взрослым. 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Факторы, влияющие на вероятность возникновения депрессии в подростковом возрасте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сихотравм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роблемы в семье,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экономические затруднения,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здоровье родителей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Конфликты с преподавателям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ынужденная социальная изоляци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Низкая значимость среди сверстников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Низкая школьная неуспеваемость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52920" y="281520"/>
            <a:ext cx="9038160" cy="73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Times New Roman"/>
              </a:rPr>
              <a:t>Виды профилактики суицидального поведения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0" y="837720"/>
            <a:ext cx="91440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Первичная</a:t>
            </a:r>
            <a:r>
              <a:rPr b="1" lang="ru-RU" sz="26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3366"/>
                </a:solidFill>
                <a:latin typeface="Arial"/>
                <a:ea typeface="Times New Roman"/>
              </a:rPr>
              <a:t>диагностика и профилактика направлены на выявление, формирование и развитие тех черт личности, которые позволяют либо не позволяют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адекватно реагировать на возникающие ж</a:t>
            </a:r>
            <a:r>
              <a:rPr b="0" lang="ru-RU" sz="2600" spc="-1" strike="noStrike">
                <a:solidFill>
                  <a:srgbClr val="003366"/>
                </a:solidFill>
                <a:latin typeface="Arial"/>
                <a:ea typeface="Times New Roman"/>
              </a:rPr>
              <a:t>изненные трудности и превращать их в ситуации саморазвития. 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Вторичная</a:t>
            </a:r>
            <a:r>
              <a:rPr b="0" lang="ru-RU" sz="2600" spc="-1" strike="noStrike">
                <a:solidFill>
                  <a:srgbClr val="003366"/>
                </a:solidFill>
                <a:latin typeface="Arial"/>
                <a:ea typeface="Times New Roman"/>
              </a:rPr>
              <a:t> диагностика и профилактика  заключается в работе  с личностью, которая уже проявила признаки суицидального поведения.  Большинство существующих методик диагностики и профилактики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66"/>
                </a:solidFill>
                <a:latin typeface="Arial"/>
              </a:rPr>
              <a:t>        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Третичная</a:t>
            </a:r>
            <a:r>
              <a:rPr b="0" lang="ru-RU" sz="2600" spc="-1" strike="noStrike">
                <a:solidFill>
                  <a:srgbClr val="003366"/>
                </a:solidFill>
                <a:latin typeface="Arial"/>
                <a:ea typeface="Times New Roman"/>
              </a:rPr>
              <a:t> диагностика и профилактика заключается в предотвращении повторной суицидальной попытки (в случае, если предыдущая не удалась) и суицидального поведения у подростков очевидцев произошедшего случая.</a:t>
            </a:r>
            <a:r>
              <a:rPr b="0" lang="ru-RU" sz="2600" spc="-1" strike="noStrike">
                <a:solidFill>
                  <a:srgbClr val="006666"/>
                </a:solidFill>
                <a:latin typeface="Arial"/>
                <a:ea typeface="Times New Roman"/>
              </a:rPr>
              <a:t> 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8T10:17:56Z</dcterms:created>
  <dc:creator>Оксана</dc:creator>
  <dc:description/>
  <dc:language>en-US</dc:language>
  <cp:lastModifiedBy>2013</cp:lastModifiedBy>
  <dcterms:modified xsi:type="dcterms:W3CDTF">2014-12-19T09:22:57Z</dcterms:modified>
  <cp:revision>48</cp:revision>
  <dc:subject/>
  <dc:title>ДЕПРЕССИЯ  у детей и подростков</dc:title>
</cp:coreProperties>
</file>