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18.gif" ContentType="image/gif"/>
  <Override PartName="/ppt/media/image4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7.png" ContentType="image/png"/>
  <Override PartName="/ppt/media/image14.gif" ContentType="image/gif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4B1-3DC9-4247-9C54-0FC368EA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98F-4FE4-4822-81BB-6B4C42F9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A41-08F3-4594-A7B3-3EB505E4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A74-C8F4-46E0-B000-896F14B0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1B0B-9CE4-4CED-B7F9-A6E71077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208B-7752-4DA0-8427-0F3258BD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6C89-1081-41B0-ACA9-5E85BFC8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88A8-F8FE-458E-B503-1A34955A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7969-08EB-4320-BD67-2194AE34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9C5B-C7A9-4F85-AD60-49B16120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2169-164F-44BE-8308-F62D3AA0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6AE-4D1A-41A4-843C-A63C6F99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BE23-1D2D-46FE-B6BC-2336439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9A0C-CA32-4170-A0EC-94038086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FDD5-C28D-4F79-9E27-243FCD98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A3B2-40D5-449A-ADE8-5B108B65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45BB-E71B-4606-ACFC-E6700DDC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D464E-8A37-4B07-B852-A35FCC22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F048-E701-4829-B8B4-21254DA9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A493-2381-4E00-B1D2-AC42D64F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E2FF-ED7D-4FA1-AD37-05CAB58E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2C33-869C-4E5C-8F78-85E0EF8C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0DD-17B6-4B86-81D1-0D9D78AD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B01C-634D-44EE-A304-C24B2EE0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E0F6-5B44-4206-943D-A26D251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D1A1-B8AB-4CA4-AF2A-0AEBCE3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7079-7CAD-4C8F-A731-BF75020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58C1-3226-4469-98A8-963BCD7E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9BE3-F5DD-4E7B-B315-EE6B81F5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3E6B-1CE4-46E2-8803-FC150DF8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E5FC-65DA-4E41-8F39-ECF26D3F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E600-7B81-4759-8D98-AB1F1638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F611-99E5-42CF-A080-3470D096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585-1D8C-4B9A-B059-C9317A8A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8F61-5BFB-4198-85FC-91899642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B127-0FC2-4EE2-9F5B-19781D45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8228-8954-4889-8F28-E0B9FC8E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26CB-8FE6-46D2-8E36-568C1230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BC06-271B-44DE-A1ED-2D05641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60DD-7213-4819-9B83-055F2B9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740C8-D2DB-4A7B-84D7-ACD34FA6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CA7F0-71D2-4190-914A-74FB480B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05D4-D53E-4837-8227-BAEDF0ED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119A-C8EE-4F4F-BF8B-94699AE3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4F3-9F0D-4A77-B5C1-AD820AEF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6C6FB-DECA-4FA5-9534-555CAC05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F804-FDB5-4110-AE59-0E8C7061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C408E-AEAE-4A2B-8AD5-661A3559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E6A12-15E2-4B9F-B24A-FCD06F64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FCB7-B86D-4527-893E-9209BBA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1D7B-ACC2-440E-85EA-C16B44EE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2E7E-3AF7-4C4F-AA01-C7A53A9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E8F3-9F41-4D4F-B8B3-F4B0E31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AA55-443B-4F94-B4A5-8DCC3BC8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10BD-84B6-43C3-8DA0-2E4DC1C0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272-6E12-486E-AEA4-7DB8D2E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75FEE-975F-484D-8408-77928BC7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E2154-D350-4B46-A8BF-CDCBB4EC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A22F-2C49-48EA-BE5A-C7B6826C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5AC6-4C03-44B0-81E3-662D0E9B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5D0D3-6CC9-414C-81A8-095827D6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B5EF-7133-4521-9E12-5BF833FB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7966F-7BC8-4BD3-9255-2C0B344F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FC8FF-7FDD-4605-96C8-92A719B4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1A49-C721-40AA-97AA-9A0E5B03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AC241-4DFB-4313-AF50-5415039B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0D9-046B-46A2-96A1-5108B32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60DE-A667-4DA6-9C01-6DCCD13D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12DDC-079D-436A-9960-F5E6AC92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D8AAB-980F-47F3-B98B-0F8B137C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C76C-E5BE-439A-B1C4-071F8996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B5F02-CB28-4B77-8122-1D2EDE3D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B7BD6-FF1F-4BB7-B30F-049A7C8E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119C5-05CA-442B-A7FA-200A595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79BF0-EF69-400D-BB20-AFE8DC0B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B6D3-86D6-471A-9A7F-7385FF27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08DCB-04F6-4FD5-A840-989725B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7C1-FC2D-4963-9092-CFDF95D0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2D4BC-4459-49F6-9D2B-5CD7B6C9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0B1C2-1491-40B0-9EC5-1DFBF52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FE309-98F9-46A3-82EC-BB352DB5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2EA22-F944-444A-A42B-5F4B4B3A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F2BC8-5EFC-46A8-ADA4-F3CDF499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C3960-9092-4E3B-82DE-D8798E72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17816-6C8C-46AC-A169-C02F780B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ED7AC-6B3B-4646-AF06-90212FDB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0814A-2358-4155-9ABA-7FECCA9B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0A881-1648-433C-97B8-32AB837F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AB1-9FAA-419B-8CAD-58D25C6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A247E-FBE6-445E-9E30-03941DA8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C1149-FD67-4140-92F8-A7100AE5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E8913-E401-4F33-9140-62D4E872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0D95F-BE4F-4CE9-867F-99F58ED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D16EB-94DD-4487-B1F1-6D52423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2025-599A-4B8C-887F-5BDCBD4E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305AA-8B9F-4643-8C4F-B2A01609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675F-78C5-4E82-8358-1A444D2967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7DDC-6BFB-4F17-85D6-2EA4F127BD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9351-1918-4BB8-837A-837817E1B9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C10A-6FA8-4DC9-9514-416CE7686F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B6F0-49B2-4648-BA7C-2398E17359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1C3F-2610-4292-946B-54F15FF364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75F3-57BA-45EA-9992-99A70850AD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D82-5498-4DBD-908C-ADD16B8DBA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65040" y="1646280"/>
            <a:ext cx="8583840" cy="2724120"/>
          </a:xfrm>
          <a:prstGeom prst="rect">
            <a:avLst/>
          </a:prstGeom>
          <a:ln w="0">
            <a:noFill/>
          </a:ln>
        </p:spPr>
      </p:pic>
      <p:pic>
        <p:nvPicPr>
          <p:cNvPr id="371" name="TextBox 4" descr=""/>
          <p:cNvPicPr/>
          <p:nvPr/>
        </p:nvPicPr>
        <p:blipFill>
          <a:blip r:embed="rId2"/>
          <a:stretch/>
        </p:blipFill>
        <p:spPr>
          <a:xfrm>
            <a:off x="822240" y="324000"/>
            <a:ext cx="7828200" cy="96840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7" descr=""/>
          <p:cNvPicPr/>
          <p:nvPr/>
        </p:nvPicPr>
        <p:blipFill>
          <a:blip r:embed="rId3"/>
          <a:stretch/>
        </p:blipFill>
        <p:spPr>
          <a:xfrm>
            <a:off x="2840040" y="4657680"/>
            <a:ext cx="6310440" cy="5968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animashki-transport-932.gif"/>
          <p:cNvPicPr/>
          <p:nvPr/>
        </p:nvPicPr>
        <p:blipFill>
          <a:blip r:embed="rId4"/>
          <a:stretch/>
        </p:blipFill>
        <p:spPr>
          <a:xfrm rot="18757200">
            <a:off x="539640" y="5084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6"/>
          <p:cNvSpPr/>
          <p:nvPr/>
        </p:nvSpPr>
        <p:spPr>
          <a:xfrm>
            <a:off x="4084560" y="602136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314e"/>
                </a:solidFill>
                <a:latin typeface="Calibri"/>
              </a:rPr>
              <a:t>201</a:t>
            </a:r>
            <a:r>
              <a:rPr b="1" lang="en-US" sz="1800" spc="-1" strike="noStrike">
                <a:solidFill>
                  <a:srgbClr val="1d314e"/>
                </a:solidFill>
                <a:latin typeface="Calibri"/>
              </a:rPr>
              <a:t>4</a:t>
            </a:r>
            <a:r>
              <a:rPr b="1" lang="ru-RU" sz="1800" spc="-1" strike="noStrike">
                <a:solidFill>
                  <a:srgbClr val="1d314e"/>
                </a:solidFill>
                <a:latin typeface="Calibri"/>
              </a:rPr>
              <a:t> г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3" descr="C:\Users\О\Pictures\85889.png"/>
          <p:cNvPicPr/>
          <p:nvPr/>
        </p:nvPicPr>
        <p:blipFill>
          <a:blip r:embed="rId5"/>
          <a:stretch/>
        </p:blipFill>
        <p:spPr>
          <a:xfrm>
            <a:off x="5651640" y="5904000"/>
            <a:ext cx="2736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24000" y="549360"/>
            <a:ext cx="8362800" cy="54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c00000"/>
                </a:solidFill>
                <a:uFillTx/>
                <a:latin typeface="Calibri"/>
              </a:rPr>
              <a:t>Актуальность проекта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В связи с низким уровнем культуры поведения и высоким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количеством детей пострадавших в  результате дорожно-транспортных происшествий необходимо активизировать деятельность образовательных учреждений по обучению детей правилам безопасного поведения на транспорт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роект способствует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профилактике детского дорожно-транспортного травматизм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привлечению воспитанников к изучению и соблюдению правил дорожного движени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воспитанию культуры безопасного поведения на дорога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Рисунок 3" descr="animashki-transport-926.gif"/>
          <p:cNvPicPr/>
          <p:nvPr/>
        </p:nvPicPr>
        <p:blipFill>
          <a:blip r:embed="rId1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C:\Users\О\Pictures\85889.png"/>
          <p:cNvPicPr/>
          <p:nvPr/>
        </p:nvPicPr>
        <p:blipFill>
          <a:blip r:embed="rId2"/>
          <a:stretch/>
        </p:blipFill>
        <p:spPr>
          <a:xfrm>
            <a:off x="3059280" y="5877000"/>
            <a:ext cx="39733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78920" y="14810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Calibri"/>
              </a:rPr>
              <a:t>Вид проекта: </a:t>
            </a:r>
            <a:r>
              <a:rPr b="1" i="1" lang="ru-RU" sz="2700" spc="-1" strike="noStrike">
                <a:solidFill>
                  <a:srgbClr val="2b4a76"/>
                </a:solidFill>
                <a:latin typeface="Calibri"/>
              </a:rPr>
              <a:t>познавательно-исследовательский,  практико-ориентированн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Calibri"/>
              </a:rPr>
              <a:t>Тип проекта: </a:t>
            </a:r>
            <a:r>
              <a:rPr b="1" i="1" lang="ru-RU" sz="2700" spc="-1" strike="noStrike">
                <a:solidFill>
                  <a:srgbClr val="2b4a76"/>
                </a:solidFill>
                <a:latin typeface="Calibri"/>
              </a:rPr>
              <a:t>долгосрочный – 1 меся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b4a76"/>
                </a:solidFill>
                <a:latin typeface="Calibri"/>
              </a:rPr>
              <a:t> </a:t>
            </a:r>
            <a:r>
              <a:rPr b="1" i="1" lang="ru-RU" sz="2700" spc="-1" strike="noStrike">
                <a:solidFill>
                  <a:srgbClr val="c00000"/>
                </a:solidFill>
                <a:latin typeface="Calibri"/>
              </a:rPr>
              <a:t>Участники проекта: </a:t>
            </a:r>
            <a:r>
              <a:rPr b="1" i="1" lang="ru-RU" sz="2700" spc="-1" strike="noStrike">
                <a:solidFill>
                  <a:srgbClr val="2b4a76"/>
                </a:solidFill>
                <a:latin typeface="Calibri"/>
              </a:rPr>
              <a:t>воспитатели,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3" descr="animashki-transport-894.gif"/>
          <p:cNvPicPr/>
          <p:nvPr/>
        </p:nvPicPr>
        <p:blipFill>
          <a:blip r:embed="rId2"/>
          <a:stretch/>
        </p:blipFill>
        <p:spPr>
          <a:xfrm rot="1247400">
            <a:off x="1547640" y="4365720"/>
            <a:ext cx="2378160" cy="2303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Users\О\Pictures\85889.png"/>
          <p:cNvPicPr/>
          <p:nvPr/>
        </p:nvPicPr>
        <p:blipFill>
          <a:blip r:embed="rId3"/>
          <a:stretch/>
        </p:blipFill>
        <p:spPr>
          <a:xfrm>
            <a:off x="3983040" y="5013360"/>
            <a:ext cx="5160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8920" y="404640"/>
            <a:ext cx="87138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Цель проекта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формирование у детей навыков безопасного поведения на дорогах, расширение представлений детей о правилах дорожного движе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Задачи проекта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Способствовать созданию условий обеспечивающих освоение ребенком правил безопасного поведени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Способствовать формированию опыта безопасного поведения на транспорте и дорога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Систематизировать знания детей о видах общественного транспорта, профессиях, связанных с ни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Создавать условия для развития познавательных психических процессов в различных видах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4a76"/>
                </a:solidFill>
                <a:latin typeface="Calibri"/>
              </a:rPr>
              <a:t>Вызвать у детей желание  внимательно относиться к своему  здоровь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animashki-transport-958.gif"/>
          <p:cNvPicPr/>
          <p:nvPr/>
        </p:nvPicPr>
        <p:blipFill>
          <a:blip r:embed="rId1"/>
          <a:stretch/>
        </p:blipFill>
        <p:spPr>
          <a:xfrm>
            <a:off x="1476360" y="5300640"/>
            <a:ext cx="2921040" cy="1341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О\Pictures\85889.png"/>
          <p:cNvPicPr/>
          <p:nvPr/>
        </p:nvPicPr>
        <p:blipFill>
          <a:blip r:embed="rId2"/>
          <a:stretch/>
        </p:blipFill>
        <p:spPr>
          <a:xfrm>
            <a:off x="4572000" y="5373720"/>
            <a:ext cx="428472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5280" y="33336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Интеграция  образовательных областей  по ФГОС ДО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Социально-коммуникативное развитие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Познавательное развит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Речевое развит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Художественно-эстетическое развит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Физическое развит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ехнологии проект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Технология проектной деятельност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Личностно-ориентированные технологии: упражнения, наблюдения, игр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Социоигровые технологии: коллективные дела, сюжетно-ролевая игр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Здоровьесберегающие: пальчиковая гимнастика, дыхательная гимнасти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b4a76"/>
                </a:solidFill>
                <a:latin typeface="Calibri"/>
              </a:rPr>
              <a:t>Технологии моделиров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Рисунок 3" descr="animashki-transport-692.gif"/>
          <p:cNvPicPr/>
          <p:nvPr/>
        </p:nvPicPr>
        <p:blipFill>
          <a:blip r:embed="rId1"/>
          <a:stretch/>
        </p:blipFill>
        <p:spPr>
          <a:xfrm>
            <a:off x="6732720" y="5694480"/>
            <a:ext cx="2411280" cy="1163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Users\О\Pictures\85889.png"/>
          <p:cNvPicPr/>
          <p:nvPr/>
        </p:nvPicPr>
        <p:blipFill>
          <a:blip r:embed="rId2"/>
          <a:stretch/>
        </p:blipFill>
        <p:spPr>
          <a:xfrm>
            <a:off x="4067280" y="5950080"/>
            <a:ext cx="252072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944640"/>
          </a:xfrm>
          <a:prstGeom prst="rect">
            <a:avLst/>
          </a:prstGeom>
          <a:ln w="0">
            <a:noFill/>
          </a:ln>
        </p:spPr>
      </p:pic>
      <p:sp>
        <p:nvSpPr>
          <p:cNvPr id="390" name="Содержимое 9"/>
          <p:cNvSpPr/>
          <p:nvPr/>
        </p:nvSpPr>
        <p:spPr>
          <a:xfrm>
            <a:off x="539640" y="907920"/>
            <a:ext cx="8136000" cy="4753080"/>
          </a:xfrm>
          <a:prstGeom prst="flowChartPunchedTap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d314e"/>
                </a:solidFill>
                <a:latin typeface="Calibri"/>
              </a:rPr>
              <a:t>* </a:t>
            </a:r>
            <a:r>
              <a:rPr b="1" i="1" lang="ru-RU" sz="2300" spc="-1" strike="noStrike">
                <a:solidFill>
                  <a:srgbClr val="1d314e"/>
                </a:solidFill>
                <a:latin typeface="Calibri"/>
              </a:rPr>
              <a:t>Подбор иллюстративного материал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d314e"/>
                </a:solidFill>
                <a:latin typeface="Calibri"/>
              </a:rPr>
              <a:t>* Подбор методической литературы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d314e"/>
                </a:solidFill>
                <a:latin typeface="Calibri"/>
              </a:rPr>
              <a:t>конспекты бесед, занятий, досугов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d314e"/>
                </a:solidFill>
                <a:latin typeface="Calibri"/>
              </a:rPr>
              <a:t>* Перспективный план экскурсий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d314e"/>
                </a:solidFill>
                <a:latin typeface="Calibri"/>
              </a:rPr>
              <a:t>* Игровые ситуации с детьми на  специально оборудованной площадке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d314e"/>
                </a:solidFill>
                <a:latin typeface="Calibri"/>
              </a:rPr>
              <a:t>* Встреча с инспектором дорожного движения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867280" y="1481040"/>
            <a:ext cx="281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3" descr="C:\Users\О\Pictures\85889.png"/>
          <p:cNvPicPr/>
          <p:nvPr/>
        </p:nvPicPr>
        <p:blipFill>
          <a:blip r:embed="rId2"/>
          <a:stretch/>
        </p:blipFill>
        <p:spPr>
          <a:xfrm rot="1005600">
            <a:off x="80640" y="5317920"/>
            <a:ext cx="4284720" cy="119520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3" descr="animashki-transport-518.gif"/>
          <p:cNvPicPr/>
          <p:nvPr/>
        </p:nvPicPr>
        <p:blipFill>
          <a:blip r:embed="rId3"/>
          <a:stretch/>
        </p:blipFill>
        <p:spPr>
          <a:xfrm>
            <a:off x="4770360" y="4292640"/>
            <a:ext cx="37702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7:49:35Z</dcterms:created>
  <dc:creator>Людмила</dc:creator>
  <dc:description/>
  <dc:language>en-US</dc:language>
  <cp:lastModifiedBy>123</cp:lastModifiedBy>
  <dcterms:modified xsi:type="dcterms:W3CDTF">2015-01-18T14:17:15Z</dcterms:modified>
  <cp:revision>31</cp:revision>
  <dc:subject/>
  <dc:title>Проектная деятельность как средство реализации системно-деятельностного подхода в работе с детьми дошкольного возраста   «</dc:title>
</cp:coreProperties>
</file>