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wmf" ContentType="image/x-wmf"/>
  <Override PartName="/ppt/media/image5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0.jpeg" ContentType="image/jpeg"/>
  <Override PartName="/ppt/media/image1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B1FA-341B-49A6-994A-B0E93FC5A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A7D2-7335-4D5A-A21F-B71D3B57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F86F-9FEA-42D9-8020-59C13A0E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8050-CD2C-43AB-BCC3-8F2875C5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17DF-5C92-43F6-800A-6BD6C85C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A038-EE44-41D9-9118-F6ED24BB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DDBC-9C07-40D5-B43A-B0B367FB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D4CF-04C8-45E3-9C0F-FCFCBE9D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CCCE-372C-40F4-B303-0614D390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448E-66F9-4795-89B7-727B8345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E56E-842B-4047-A372-4EEB5257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45AB-4013-422B-88C0-53184601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59DF-B32C-4008-823A-DB04828DC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7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4076640"/>
            <a:ext cx="9144000" cy="1068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0" lang="tt-RU" sz="3200" spc="-1" strike="noStrike">
                <a:solidFill>
                  <a:srgbClr val="ff0066"/>
                </a:solidFill>
                <a:latin typeface="Arial"/>
              </a:rPr>
              <a:t>Габдулла Тукай иҗатында сатирик-юмористик тел-стиль чаралары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01920" y="0"/>
            <a:ext cx="3105360" cy="40496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Алынма сүзләрнең сатирик максатларда кулланылу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Тормыш көнкүрешләрен һәм аерым шәхесләрнең характерын яки эшен сурәтләгәндә, Г.Тукай төрле лексик катлау сүзләреннән файдалана. Күп очракларда дини сүзләр белән рус теле сүзләре бергә килеп сатирик эффект барлыкка китерәлә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Arial"/>
              </a:rPr>
              <a:t>Метаф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tt-RU" sz="3200" spc="-1" strike="noStrike" u="sng">
                <a:solidFill>
                  <a:srgbClr val="000000"/>
                </a:solidFill>
                <a:uFillTx/>
                <a:latin typeface="Arial"/>
              </a:rPr>
              <a:t>Милләт арысланнары 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сүз тезмәсе аша, без хезмәт иясе массасының азатлыгы өчен көрәшүче, белемгә өндәүче, капиталистик җәмгыятьнең кимчелекләрен фаш итүче халыкның актив көрәшчеләрен күз алдына китерәбе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Arial"/>
              </a:rPr>
              <a:t>Сатирик чагыштырул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Тукай иҗатында сатирик чагыштырулар-ны да еш күрергә була.  Дин башлык-ларын, байларны күз алдына китерү өчен “Качыр белән үрмәкүч” кыйссасын ала. Халык җилкәсендә яшәүче паразит байларны качыр белән чагышты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Тукайның иҗат гомере батырлыктан т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Язучының батырлыгы – ул хакыйкатьне курыкмый әйтү. Тукайның дошманнары күп булуның хикмәте дә шунда бит. Шигъри сөйләмнең образлылыгын көчәйтә торган стилистик алымнардан берсе булган кинаяләп әйтүнең төрлечә үрнәкләре дә шагыйрь иҗатында аз түг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Arial"/>
              </a:rPr>
              <a:t>Кулланылган әдәбия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Әдәбият белеме сүзле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Г.Тукай.Шигырьләр, поэмал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Г.Тукай. Мәкаләләр, хикәяләр, мәсәллә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Ә.Исхак. Тукайның шигъри осталыг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Хаков В.Х. Татар әдәби теле тарих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Хаков В.Х. Татар әдәби теле тарихы буенча очеркл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Хаков В.Х. Татар стилистикасына кере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спубликада җиңүчелә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076720" y="1268280"/>
            <a:ext cx="3749760" cy="4999320"/>
          </a:xfrm>
          <a:prstGeom prst="rect">
            <a:avLst/>
          </a:prstGeom>
          <a:ln w="0">
            <a:noFill/>
          </a:ln>
        </p:spPr>
      </p:pic>
      <p:pic>
        <p:nvPicPr>
          <p:cNvPr id="73" name="Rectangle 3" descr=""/>
          <p:cNvPicPr/>
          <p:nvPr/>
        </p:nvPicPr>
        <p:blipFill>
          <a:blip r:embed="rId3"/>
          <a:stretch/>
        </p:blipFill>
        <p:spPr>
          <a:xfrm>
            <a:off x="755640" y="907920"/>
            <a:ext cx="3809880" cy="2552760"/>
          </a:xfrm>
          <a:prstGeom prst="rect">
            <a:avLst/>
          </a:prstGeom>
          <a:ln w="0">
            <a:noFill/>
          </a:ln>
        </p:spPr>
      </p:pic>
    </p:spTree>
  </p:cSld>
  <p:transition advTm="15000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Arial"/>
              </a:rPr>
              <a:t>Уңышлары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427640" y="1197000"/>
            <a:ext cx="3809880" cy="2552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932360" y="3645000"/>
            <a:ext cx="3809880" cy="2552760"/>
          </a:xfrm>
          <a:prstGeom prst="rect">
            <a:avLst/>
          </a:prstGeom>
          <a:ln w="0">
            <a:noFill/>
          </a:ln>
        </p:spPr>
      </p:pic>
      <p:pic>
        <p:nvPicPr>
          <p:cNvPr id="77" name="Rectangle 3" descr=""/>
          <p:cNvPicPr/>
          <p:nvPr/>
        </p:nvPicPr>
        <p:blipFill>
          <a:blip r:embed="rId4"/>
          <a:stretch/>
        </p:blipFill>
        <p:spPr>
          <a:xfrm>
            <a:off x="684360" y="1197000"/>
            <a:ext cx="3006720" cy="4525920"/>
          </a:xfrm>
          <a:prstGeom prst="rect">
            <a:avLst/>
          </a:prstGeom>
          <a:ln w="0">
            <a:noFill/>
          </a:ln>
        </p:spPr>
      </p:pic>
    </p:spTree>
  </p:cSld>
  <p:transition advTm="15000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8064360" cy="426708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52" descr=""/>
          <p:cNvPicPr/>
          <p:nvPr/>
        </p:nvPicPr>
        <p:blipFill>
          <a:blip r:embed="rId3"/>
          <a:stretch/>
        </p:blipFill>
        <p:spPr>
          <a:xfrm>
            <a:off x="1746360" y="385920"/>
            <a:ext cx="5651280" cy="920520"/>
          </a:xfrm>
          <a:prstGeom prst="rect">
            <a:avLst/>
          </a:prstGeom>
          <a:ln w="0">
            <a:noFill/>
          </a:ln>
        </p:spPr>
      </p:pic>
    </p:spTree>
  </p:cSld>
  <p:transition advTm="1500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3"/>
          <p:cNvSpPr txBox="1"/>
          <p:nvPr/>
        </p:nvSpPr>
        <p:spPr>
          <a:xfrm>
            <a:off x="1619280" y="1052640"/>
            <a:ext cx="56768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66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ahoma"/>
              </a:rPr>
              <a:t>Игътибарыгыз өчен рәхмәт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66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82" name="Picture 4" descr="eeoaie2eoiaeuieee"/>
          <p:cNvPicPr/>
          <p:nvPr/>
        </p:nvPicPr>
        <p:blipFill>
          <a:blip r:embed="rId2"/>
          <a:stretch/>
        </p:blipFill>
        <p:spPr>
          <a:xfrm>
            <a:off x="2700360" y="2421000"/>
            <a:ext cx="3816360" cy="3195720"/>
          </a:xfrm>
          <a:prstGeom prst="rect">
            <a:avLst/>
          </a:prstGeom>
          <a:ln w="0">
            <a:noFill/>
          </a:ln>
        </p:spPr>
      </p:pic>
    </p:spTree>
  </p:cSld>
  <p:transition advTm="1000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Arial"/>
              </a:rPr>
              <a:t>Пла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336760" indent="-507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Кереш. Г.Тукайның тел концепциясе һәм әдәби телнең халыкчанлыгы өчен көрә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36760" indent="-507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Г.Тукайның тел осталыг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36760" indent="-507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Тукайда сатирик тел чарала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3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а) сүз уйна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3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б) икеләтә мәгънә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3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в) оксюморо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3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г) парод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3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д) иро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3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е) сатирик характеристикала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3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ж) алынма сүзләрнең сатирик максатларда кулланылу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3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з) метафорала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3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и) сатирик чагыштырул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3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. Йомгаклау. Г.Тукайның шигъри осталыг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3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3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ED00019_"/>
          <p:cNvPicPr/>
          <p:nvPr/>
        </p:nvPicPr>
        <p:blipFill>
          <a:blip r:embed="rId2"/>
          <a:stretch/>
        </p:blipFill>
        <p:spPr>
          <a:xfrm>
            <a:off x="0" y="0"/>
            <a:ext cx="2171880" cy="1905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3"/>
          <a:stretch/>
        </p:blipFill>
        <p:spPr>
          <a:xfrm>
            <a:off x="7164360" y="5195880"/>
            <a:ext cx="1979640" cy="1531800"/>
          </a:xfrm>
          <a:prstGeom prst="rect">
            <a:avLst/>
          </a:prstGeom>
          <a:ln w="0">
            <a:noFill/>
          </a:ln>
        </p:spPr>
      </p:pic>
    </p:spTree>
  </p:cSld>
  <p:transition advTm="1500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Габдулла Тукайның тел концепциясе һәм әдәби телнең халыкчанлыгы өчен көрәше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Г.Тукай татар телен үстерүгә һәм баетуга гаять зур өлеш керт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Бурычла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1.Г.Тукай иҗатын өйрән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2. Тел осталыгын тикшер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Габдулла Тукайның тел осталыг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Ул хәзерге әдәби телнең нигезен сал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Телнең киң мөмкинлекләреннән файдалана. Г.Тукай татар теленең сүзлек хәзинәсе белән оста эш итә. Шигырьләрендә диалекталь һәм гади сөйләм сүзләре дә шактый урын ала. Борынгы тел үзенчәлекләрен дә еш очратабыз . Архаик һәм диалекталь гади сөйләм үзенчәлекләре шагыйрь тарафыннан сатирик һәм ироник максатларда да файдаланы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Тукайда сатирик тел чаралар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Иҗтимагый тормыш кимчелекләрен фаш итү, буржуаз сыйныф вәкилләреннән көлү өчен еш кына сатирик тел чараларына мөрәҗәгать итә. Сатира тудыруда күчерелмә мәгънәдәге сүзләрдән аеруча киң файдала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Arial"/>
              </a:rPr>
              <a:t>Сүз уйна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йөз башы сатирик публицистикасын-да шактый киң таралган алым булып санала. Тукай сатирасы сүз уйнату алымына бик бай. Бу алым белән ул җөмләдәге аерым сүзләрне үзгәртеп, бөтенләй башка мәгънәдәге сүзләр яс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Arial"/>
              </a:rPr>
              <a:t>Парод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Татар әдәбиятында пародиянең иң ачык мисалын Г.Тукайның  “Яңа Кисекбаш...” поэмасында күрергә мөмкин. Ул дини эчтәлекле “Кисекбаш” китабының сюжетын, стилен саклап, эчтәлеге аңа бөтенләй капма-каршы булган әсәр я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Халык мәкальләренә нигезләнеп ясалган пародияләрне дә очратырга бу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Arial"/>
              </a:rPr>
              <a:t>Иро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Ирония юмористик һәм сатирик әсәрләрдә аеруча киң кулланыла. Аның бер һәм берничә сүз белән бирелеп, куш җәяләр эченә алынган формалары еш очры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Arial"/>
              </a:rPr>
              <a:t>Сатирик характеристикал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йөз башындагы татар публицисти-касы өчен политик характердагы көчле сатирик сурәтләүләр хас. Киңәйтелгән сатирик сурәтләүләрдә капиталистик җәмгыятьнең бозыклыгы, әшәкелеге, андагы тәртипләр, уку-укыту эшләре, хезмәт ияләрен рәхимсез эксплуата-цияләү – барысы да тәнкыйть ител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6:57:20Z</dcterms:created>
  <dc:creator>Хусаинов Ренат Зуфарович</dc:creator>
  <dc:description/>
  <dc:language>en-US</dc:language>
  <cp:lastModifiedBy>User</cp:lastModifiedBy>
  <dcterms:modified xsi:type="dcterms:W3CDTF">2013-02-20T13:17:41Z</dcterms:modified>
  <cp:revision>93</cp:revision>
  <dc:subject/>
  <dc:title>   </dc:title>
</cp:coreProperties>
</file>