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4.wmf" ContentType="image/x-wmf"/>
  <Override PartName="/ppt/media/image3.gif" ContentType="image/gif"/>
  <Override PartName="/ppt/media/image4.wmf" ContentType="image/x-wmf"/>
  <Override PartName="/ppt/media/image10.jpeg" ContentType="image/jpeg"/>
  <Override PartName="/ppt/media/image2.gif" ContentType="image/gif"/>
  <Override PartName="/ppt/media/image5.png" ContentType="image/png"/>
  <Override PartName="/ppt/media/image6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9F1-B3A8-4FEB-AAD5-93C40781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FF7-9131-44D1-9B96-5E6FD42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372-7FDC-4A21-80F0-B9E2DEE9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10D-640F-44B9-91F4-A9940297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72F-9563-40D5-8351-AE7B760C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E238-CF0A-4389-95CC-F8052A8F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3CE2-FFA1-4BF6-8EB3-A57EE436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A46-93B1-4E1D-BFEF-14E98548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F7F4-886D-468D-A785-12ED8E5D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7F5E-4A54-48D2-B4B0-8235CC4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A4ED-6249-4B48-89A5-2EDA03E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B04-C883-496F-B003-784184CF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93A-5755-42FE-9E80-B30C789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5097-0E49-4EAC-A0C0-C624E6E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580B-A6CE-44D4-ABBF-082BE76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62D0-1E16-483C-BB7B-FE96E67C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0AA5-8B3F-4B66-8981-31C19DFC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BC8-6284-4698-861C-ADC97B8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92A-57A3-4317-BE7E-3D4D3E9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5C1-18AB-4E97-BA18-90F41E3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3B8-E2BB-40FA-B247-94EE6665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874-DFC2-4BBD-BAB5-93A440B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D63-15B1-4DD4-B10B-01AAC5D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FE1-9C63-4D66-B2F6-3054906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0D9F-70A4-4CB0-A6B5-F26729037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7E7B-CD75-4521-AE7E-9AD15F4BB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stashkov.ru/foto/view/3013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funguru.ru/gallery/index.php?page=42" TargetMode="External"/><Relationship Id="rId4" Type="http://schemas.openxmlformats.org/officeDocument/2006/relationships/image" Target="../media/image7.jpe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8.png"/><Relationship Id="rId8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9" Type="http://schemas.microsoft.com/office/2007/relationships/media" Target="file:///tmp/home/.config/libreoffice/4/user/gallery/&#1047;&#1072;&#1087;&#1080;&#1089;&#1072;&#1085;&#1085;&#1099;&#1081;%20&#1079;&#1074;&#1091;&#1082;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eramikasever.ru/desc5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iketur.narod.ru/kotel/kotel.htm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3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162920" y="50292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0400" y="14479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57800" y="2286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828800" y="29718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05720" y="2209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22860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4495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43200" y="51814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81480" y="41911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8380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1096560"/>
            <a:ext cx="80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По дороге шли - шл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Белый гриб наш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Вот грибок, другой грибок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Полезайте в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                      </a:t>
            </a: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Дует ветер нам лиц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                      </a:t>
            </a: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Закачалось деревц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                     </a:t>
            </a: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Ветерок все тише - тиш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                     </a:t>
            </a:r>
            <a:r>
              <a:rPr b="1" i="1" lang="en-US" sz="3200" spc="-1" strike="noStrike">
                <a:solidFill>
                  <a:srgbClr val="ff66cc"/>
                </a:solidFill>
                <a:latin typeface="Tahoma"/>
              </a:rPr>
              <a:t>Деревцо все выше -    выш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411280" y="260280"/>
            <a:ext cx="4753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197000"/>
            <a:ext cx="1800000" cy="163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3"/>
          </p:cNvPr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84360" y="4221000"/>
            <a:ext cx="1800000" cy="16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7407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Совушка – сова большая голо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На пеньке си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о все стороны гляд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Глазами хлоп – хлоп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Ножками топ – то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Тишина стоит вокруг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ышли косари на луг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змах косой туда – сю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Делай раз делай д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907920"/>
            <a:ext cx="18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3"/>
          </p:cNvPr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11280" y="364500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333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5364000" y="4221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0" y="1628640"/>
            <a:ext cx="3681360" cy="5229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95640" y="1643040"/>
            <a:ext cx="45626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моги Незнайке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7"/>
          <a:stretch/>
        </p:blipFill>
        <p:spPr>
          <a:xfrm>
            <a:off x="6516720" y="443700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8"/>
          <a:stretch/>
        </p:blipFill>
        <p:spPr>
          <a:xfrm>
            <a:off x="6443640" y="5516640"/>
            <a:ext cx="85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37280" cy="792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оверь реш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5972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1- 7=5          12- 4= 8               15- 6=9          13- 8= 7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343720" cy="3927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1- 7=4     13 - 8=5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"/>
          <a:stretch/>
        </p:blipFill>
        <p:spPr>
          <a:xfrm>
            <a:off x="3995640" y="58341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179280" y="53737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956720" y="494172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596360" y="260280"/>
            <a:ext cx="1023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рассуждали при вычитан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14 – 6 =8        14 – 6 =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4     2        6     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618920" y="371628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371628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219280" y="3645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3716280"/>
            <a:ext cx="649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201080" cy="718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82160" cy="4680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3 – 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         14 – 7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1 – 4 =         17 – 8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1 – 3 =        12 – 4 =                  15 – 8 =        14 – 6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3789360"/>
          <a:ext cx="8064360" cy="7603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 вариа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793280" cy="957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оверь 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839000" cy="32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вариант                    2 вариант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8         7                        8          8                     7         9                        7          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16000" y="3068640"/>
          <a:ext cx="7416720" cy="1944720"/>
        </p:xfrm>
        <a:graphic>
          <a:graphicData uri="http://schemas.openxmlformats.org/drawingml/2006/table">
            <a:tbl>
              <a:tblPr/>
              <a:tblGrid>
                <a:gridCol w="3672000"/>
                <a:gridCol w="374472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179280" y="5445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8028000" y="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8286840" y="551664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4"/>
          <a:stretch/>
        </p:blipFill>
        <p:spPr>
          <a:xfrm>
            <a:off x="250920" y="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5"/>
          <a:stretch/>
        </p:blipFill>
        <p:spPr>
          <a:xfrm>
            <a:off x="1547640" y="5589720"/>
            <a:ext cx="857520" cy="1118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6"/>
          <a:stretch/>
        </p:blipFill>
        <p:spPr>
          <a:xfrm>
            <a:off x="7380360" y="5589720"/>
            <a:ext cx="857160" cy="111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7"/>
          <a:stretch/>
        </p:blipFill>
        <p:spPr>
          <a:xfrm>
            <a:off x="42847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8"/>
          <a:stretch/>
        </p:blipFill>
        <p:spPr>
          <a:xfrm>
            <a:off x="1835280" y="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9"/>
          <a:stretch/>
        </p:blipFill>
        <p:spPr>
          <a:xfrm>
            <a:off x="6877080" y="404640"/>
            <a:ext cx="10238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езнайка сочинил 14 стихов.                5 из них он прочитал Знайке. Сколько стихов ему еще осталось прочитать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4" descr="BD05092_"/>
          <p:cNvPicPr/>
          <p:nvPr/>
        </p:nvPicPr>
        <p:blipFill>
          <a:blip r:embed="rId1"/>
          <a:stretch/>
        </p:blipFill>
        <p:spPr>
          <a:xfrm>
            <a:off x="5796000" y="189000"/>
            <a:ext cx="3170160" cy="1584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2305080" cy="2637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20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4 – 5 = 9 (с.)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Ответ: 9 стихов осталось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72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Урок математики </a:t>
            </a:r>
            <a:br>
              <a:rPr sz="6000"/>
            </a:b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6400800" cy="2448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Вычитание с переходом через десяток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абота в тетради  с.42 п.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5            9               7               9            6               6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050920" y="551664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2050920" y="486900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42847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7164360" y="527688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7812000" y="206064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7"/>
          <a:stretch/>
        </p:blipFill>
        <p:spPr>
          <a:xfrm>
            <a:off x="395280" y="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8"/>
          <a:stretch/>
        </p:blipFill>
        <p:spPr>
          <a:xfrm>
            <a:off x="0" y="234936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9"/>
          <a:stretch/>
        </p:blipFill>
        <p:spPr>
          <a:xfrm>
            <a:off x="324000" y="3789360"/>
            <a:ext cx="85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42960" y="214200"/>
            <a:ext cx="56005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ahoma"/>
              </a:rPr>
              <a:t>Цели урока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9396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реплять знания приема вычитания с переходом через десяток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вторять состав чисел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шать задачи изученных видов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Арифметический  диктант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8 , 5,  6,  4, 1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179280" y="5445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179280" y="429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179280" y="285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4"/>
          <a:stretch/>
        </p:blipFill>
        <p:spPr>
          <a:xfrm>
            <a:off x="8286840" y="573876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916360" y="5084640"/>
            <a:ext cx="1714320" cy="1581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164360" y="3789360"/>
            <a:ext cx="1714680" cy="158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акие фигуры нарисованы?             Каких больше и на сколько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58920" y="2565360"/>
          <a:ext cx="1368360" cy="1224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2124000" y="314172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3588000">
            <a:off x="2878560" y="2626560"/>
            <a:ext cx="1255680" cy="1295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256536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696600">
            <a:off x="3982320" y="2892600"/>
            <a:ext cx="1282680" cy="1243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32133"/>
          <p:cNvPicPr/>
          <p:nvPr/>
        </p:nvPicPr>
        <p:blipFill>
          <a:blip r:embed="rId1"/>
          <a:stretch/>
        </p:blipFill>
        <p:spPr>
          <a:xfrm>
            <a:off x="6156360" y="4005360"/>
            <a:ext cx="27162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137800" cy="1676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Из квадратиков составили  узоры. Какой из них?                                       Как рассуждали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559720" cy="40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50920" y="2349360"/>
          <a:ext cx="792360" cy="64800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300720" y="2349360"/>
          <a:ext cx="1440000" cy="129564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740720" y="3645000"/>
          <a:ext cx="647640" cy="6476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771640" y="2349360"/>
            <a:ext cx="720720" cy="648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349360"/>
            <a:ext cx="720720" cy="648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2997360"/>
            <a:ext cx="648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4941720"/>
          <a:ext cx="792000" cy="71928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411280" y="4221000"/>
          <a:ext cx="792360" cy="72072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203640" y="4941720"/>
          <a:ext cx="720720" cy="71928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24360" y="4221000"/>
          <a:ext cx="792000" cy="720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716360" y="4941720"/>
          <a:ext cx="792360" cy="71928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08720" y="4221000"/>
          <a:ext cx="792000" cy="720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Состав числ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3213000"/>
            <a:ext cx="2089440" cy="1943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213000"/>
            <a:ext cx="2017800" cy="19447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Состав     чис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848720" cy="4503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03640" y="2205000"/>
          <a:ext cx="3097440" cy="3745080"/>
        </p:xfrm>
        <a:graphic>
          <a:graphicData uri="http://schemas.openxmlformats.org/drawingml/2006/table">
            <a:tbl>
              <a:tblPr/>
              <a:tblGrid>
                <a:gridCol w="1513080"/>
                <a:gridCol w="1584360"/>
              </a:tblGrid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971640" y="2133720"/>
          <a:ext cx="3313080" cy="381636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</a:tblGrid>
              <a:tr h="79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колько нужно вычесть из числа, чтобы осталось 10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032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2 ,  14,  13,  17,  16 , 19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4:27:02Z</dcterms:created>
  <dc:creator>1</dc:creator>
  <dc:description/>
  <dc:language>en-US</dc:language>
  <cp:lastModifiedBy>Ксения</cp:lastModifiedBy>
  <dcterms:modified xsi:type="dcterms:W3CDTF">2011-05-16T14:36:43Z</dcterms:modified>
  <cp:revision>12</cp:revision>
  <dc:subject/>
  <dc:title>Урок математики  в 1 классе</dc:title>
</cp:coreProperties>
</file>