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E0D-CF11-4943-B071-6E4D4B62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BF6-1749-4AF5-9BA5-8FD96C6D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460-3B83-42C6-887B-DD5092D0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DC2-FC0E-460D-9F59-E876FCD0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0FB-2F1C-40A2-8D0D-75695B7B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AB8-7364-4267-B72D-5A435AAF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233-1E1E-4427-B341-088C817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B2A-6661-47AF-8BEF-5A1904D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B57-5F7A-4725-B4EB-65D113B2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5BF-D693-448F-94F0-B5C8B97F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484-F8E6-42EF-A1B9-C3F0875F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96E-53D1-474E-BA5F-D5AA0308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F38-54ED-4723-AFAC-283AD191B9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7e7ff"/>
                </a:solidFill>
                <a:latin typeface="Arial"/>
              </a:rPr>
              <a:t>ЗАЧЕМ ЛЮДИ СПЯТ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7960" y="4876560"/>
            <a:ext cx="4267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мо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2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О №17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Каза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i"/>
          <p:cNvPicPr/>
          <p:nvPr/>
        </p:nvPicPr>
        <p:blipFill>
          <a:blip r:embed="rId1"/>
          <a:stretch/>
        </p:blipFill>
        <p:spPr>
          <a:xfrm>
            <a:off x="1752480" y="1523880"/>
            <a:ext cx="5105520" cy="3353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аконец, наступает четвертая стадия- глубокий сон, которая длится около 20 минут, после чего мы возвращаемся снова к поверхностному сну в первую, вторую стадию и так далее по кругу. В течении ночи такие циклы могут повторяться много раз. Сны мы чаще всего видим на этапе быстрого сна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post-3-13007386568330"/>
          <p:cNvPicPr/>
          <p:nvPr/>
        </p:nvPicPr>
        <p:blipFill>
          <a:blip r:embed="rId1"/>
          <a:stretch/>
        </p:blipFill>
        <p:spPr>
          <a:xfrm>
            <a:off x="1905120" y="274320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каждого человека есть свои биологические часы и людей условно поделили на «сов», « жаворонков» и    «голубей». «Жаворонки» легко встаю по утрам, «совы» наиболее активны с 18.00 до 23.00, встать утром им сложно. А проще всего «голубям»- они могут легко проснуться, когда ну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post313007387345252"/>
          <p:cNvPicPr/>
          <p:nvPr/>
        </p:nvPicPr>
        <p:blipFill>
          <a:blip r:embed="rId1"/>
          <a:stretch/>
        </p:blipFill>
        <p:spPr>
          <a:xfrm>
            <a:off x="1752480" y="289548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вота – это не только симптом скуки или сонливости, но и сложная операция по регулированию температуры мозга. При низкой температуре  мы зеваем ча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1298006198_49212906_files_forum"/>
          <p:cNvPicPr/>
          <p:nvPr/>
        </p:nvPicPr>
        <p:blipFill>
          <a:blip r:embed="rId1"/>
          <a:stretch/>
        </p:blipFill>
        <p:spPr>
          <a:xfrm>
            <a:off x="685800" y="220968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fd9305751416"/>
          <p:cNvPicPr/>
          <p:nvPr/>
        </p:nvPicPr>
        <p:blipFill>
          <a:blip r:embed="rId2"/>
          <a:stretch/>
        </p:blipFill>
        <p:spPr>
          <a:xfrm>
            <a:off x="3886200" y="2286000"/>
            <a:ext cx="396252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643808"/>
          <p:cNvPicPr/>
          <p:nvPr/>
        </p:nvPicPr>
        <p:blipFill>
          <a:blip r:embed="rId3"/>
          <a:stretch/>
        </p:blipFill>
        <p:spPr>
          <a:xfrm>
            <a:off x="762120" y="4419720"/>
            <a:ext cx="2361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сная информац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реднем за ночь человек 30 раз меняет положение тела, причем число принимаемых поз не превышает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article-2100988-11BB4430000005DC-366_634x423"/>
          <p:cNvPicPr/>
          <p:nvPr/>
        </p:nvPicPr>
        <p:blipFill>
          <a:blip r:embed="rId1"/>
          <a:stretch/>
        </p:blipFill>
        <p:spPr>
          <a:xfrm>
            <a:off x="228600" y="2590920"/>
            <a:ext cx="2438280" cy="224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455"/>
          <p:cNvPicPr/>
          <p:nvPr/>
        </p:nvPicPr>
        <p:blipFill>
          <a:blip r:embed="rId2"/>
          <a:stretch/>
        </p:blipFill>
        <p:spPr>
          <a:xfrm>
            <a:off x="5715000" y="2590920"/>
            <a:ext cx="3171960" cy="4057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3c2448ada468"/>
          <p:cNvPicPr/>
          <p:nvPr/>
        </p:nvPicPr>
        <p:blipFill>
          <a:blip r:embed="rId3"/>
          <a:stretch/>
        </p:blipFill>
        <p:spPr>
          <a:xfrm>
            <a:off x="2819520" y="2590920"/>
            <a:ext cx="2819160" cy="403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IMG_1385"/>
          <p:cNvPicPr/>
          <p:nvPr/>
        </p:nvPicPr>
        <p:blipFill>
          <a:blip r:embed="rId4"/>
          <a:stretch/>
        </p:blipFill>
        <p:spPr>
          <a:xfrm>
            <a:off x="228600" y="495288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яя эту работу, я узнала много нового и интересного. Я поняла, что сон необходим человеку, а особенно ребен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выполнения работы я использовала данные из интернета и сведения из энциклопед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овной мозг, так же, как и мышцы, нуждается в периодическом отдыхе. Самый лучший отдых – это сон. Человек может больше времени продержаться без пищи, чем без сна. Если человеку вообще не давать спать, то он может умере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452542"/>
          <p:cNvPicPr/>
          <p:nvPr/>
        </p:nvPicPr>
        <p:blipFill>
          <a:blip r:embed="rId1"/>
          <a:stretch/>
        </p:blipFill>
        <p:spPr>
          <a:xfrm>
            <a:off x="1676520" y="3048120"/>
            <a:ext cx="53337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сне мозг готовится к следующему рабочему дню, приводит себя в порядок. И в то же время он отдыхает. Во время сна поток крови через сосуды мозга уменьшается почти наполовину. Вот почему важно, как следует высп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TEtNDZiMj"/>
          <p:cNvPicPr/>
          <p:nvPr/>
        </p:nvPicPr>
        <p:blipFill>
          <a:blip r:embed="rId1"/>
          <a:stretch/>
        </p:blipFill>
        <p:spPr>
          <a:xfrm>
            <a:off x="1523880" y="3124080"/>
            <a:ext cx="5486400" cy="3505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слишком поздно засиживаться перед телевизором или за компьютером. Иначе мозг не успеет до утра отдохнуть как следует. Не выспавшийся человек с утра чувствует усталость. Сон даёт возможность организму отдохнуть, а мозгу – переработать полученную за день информ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158388_285117"/>
          <p:cNvPicPr/>
          <p:nvPr/>
        </p:nvPicPr>
        <p:blipFill>
          <a:blip r:embed="rId1"/>
          <a:stretch/>
        </p:blipFill>
        <p:spPr>
          <a:xfrm>
            <a:off x="304920" y="2666880"/>
            <a:ext cx="3962160" cy="385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0b068c62f5661c3533004c68e1df969a"/>
          <p:cNvPicPr/>
          <p:nvPr/>
        </p:nvPicPr>
        <p:blipFill>
          <a:blip r:embed="rId2"/>
          <a:stretch/>
        </p:blipFill>
        <p:spPr>
          <a:xfrm>
            <a:off x="4572000" y="2666880"/>
            <a:ext cx="4267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 наступлением темноты мы ложимся и засыпаем до утра, чтобы после восхода солнца с новыми силами продолжить активную жизнь. Во сне человек проводит около 1/3 своей жизни. Детям необходимо спать гораздо больше, чем взрослым, так как сон очень важен для роста. Часто даже говорят, что растем мы именно во сн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1328769484_rpgol"/>
          <p:cNvPicPr/>
          <p:nvPr/>
        </p:nvPicPr>
        <p:blipFill>
          <a:blip r:embed="rId1"/>
          <a:stretch/>
        </p:blipFill>
        <p:spPr>
          <a:xfrm>
            <a:off x="2057400" y="312408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е всего спят младенцы, девятилетнему ребенку следует спать около 11 часов, а старикам достаточно и 5-6 ча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0" descr="064"/>
          <p:cNvPicPr/>
          <p:nvPr/>
        </p:nvPicPr>
        <p:blipFill>
          <a:blip r:embed="rId1"/>
          <a:stretch/>
        </p:blipFill>
        <p:spPr>
          <a:xfrm>
            <a:off x="1676520" y="2590920"/>
            <a:ext cx="579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сна есть разные фазы, которые попеременно сменяют друг друга. Во время первой фазы сна замедляется биение сердца, расслабляются мышцы, а глазные яблоки производят медленные круговые движения. В этой фазе человека очень легко разбудить, и он даже может отрицать , что сп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172366_344603"/>
          <p:cNvPicPr/>
          <p:nvPr/>
        </p:nvPicPr>
        <p:blipFill>
          <a:blip r:embed="rId1"/>
          <a:stretch/>
        </p:blipFill>
        <p:spPr>
          <a:xfrm>
            <a:off x="1523880" y="2771640"/>
            <a:ext cx="59533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первой фазы наступает вторая, которая длится около получаса, также сопровождается медленными вращениями глазного яблока и постепенно подводит спящего к третьей фаз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375969264_4901b1de19_o"/>
          <p:cNvPicPr/>
          <p:nvPr/>
        </p:nvPicPr>
        <p:blipFill>
          <a:blip r:embed="rId1"/>
          <a:stretch/>
        </p:blipFill>
        <p:spPr>
          <a:xfrm>
            <a:off x="1905120" y="281952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ремя третьей фазы разбудить человека гораздо сложнее, мышцы становятся все более расслабленными, понижается температура тела, падает кровяное дв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ost-3-13007389505278"/>
          <p:cNvPicPr/>
          <p:nvPr/>
        </p:nvPicPr>
        <p:blipFill>
          <a:blip r:embed="rId1"/>
          <a:stretch/>
        </p:blipFill>
        <p:spPr>
          <a:xfrm>
            <a:off x="1752480" y="2209680"/>
            <a:ext cx="52387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-10</cp:lastModifiedBy>
  <dcterms:modified xsi:type="dcterms:W3CDTF">2015-01-18T12:01:5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