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F2A4DA8-E6CE-4DE7-A9AB-C983EC53D7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D1C3DC5-487C-4354-9185-C23EC78A9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DDC5DF3-C52F-4A2E-A7E5-6651822E43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C8C25F2-CE42-4B66-8FEF-65AFF05186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40121DF-165D-40EC-B18D-84FD37A69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1458C7E-AAA9-48F9-87D1-1516604C4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BE2-EBFD-4943-978D-8156655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928-94FF-41DD-BA35-8354A578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7BB-8B70-45C7-8EA3-C7A15949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081-6175-49B2-89D7-A083120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883E-1A97-46D3-9844-413FFCFB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512E-DF64-4DF5-9527-0931552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9B16-FDA6-42B3-AC37-946DC91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2EA-4EFF-4826-800B-F23834D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44C4-54B7-490D-B572-4E2AD78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3DED-5786-4B3D-B71D-EC388403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06C-BD1D-4D6F-8D02-52914EB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3D2-E93B-4FA6-A412-5014199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902-5EA8-42BD-BF06-34A7A8D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529B-873A-43B6-8B69-8B49F8F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199F-C9F4-4EAE-BF32-E3B5CA9B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B0F1-A11B-44F5-9899-E825FEC2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5A6-8C8E-4AF3-9DC2-D75F78E1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E74A-3E59-428B-9728-C2CB4C8B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9D20-E600-4919-8376-58BCDF0C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9E90-FB10-4B15-AC41-826BAAB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0D24-AB62-4434-89DB-5B67BAD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B4A5-4EC3-447D-AF0D-81D9B5F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93E-0DF2-4182-83C2-E304362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AA67-E84E-41C5-872D-338B5CC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385B-D062-4CD9-8D16-3F90FBC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404F-19CC-43E2-9952-839245D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9B8C-436B-486E-AC5C-EB673CF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98AC-A92C-485E-B403-DE70E994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8022-020C-4FA4-A9CC-3F6A8936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4F55-855E-43D8-85DF-8675192F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2F12-1185-4EBA-8B34-44C50E2F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776C-18C5-4B41-B47C-94B5E0D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F9E0-4D31-4811-A93C-12FCEFF0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916-090B-4EBD-958F-8C043CB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B92D-28B2-4B99-ACD8-A67DB66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8A1D-B61F-461A-AFCC-3592B62C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3D99-4799-42A4-9FFF-472C79A2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2DF0-9100-453D-B21E-339ADFD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6679-E174-45D7-B2ED-967D0B6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0EED-5D96-4163-9ADD-992D2AC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0C17-5E5B-4D12-8C48-097B9E52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6CF5-920E-4A66-8127-412DFE81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797E-AE9C-4454-9AA1-00273F61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B24-93F8-4CC1-8D15-19981AC9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2B7-2643-4488-947D-81F4D8E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2AA-EC3E-496B-AE8A-BC07527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71D-F1B0-4871-B26D-37326D4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B7D-C6CA-4AD1-8F9E-71BE3AF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F0BBF23-3995-4603-B957-3CBC36375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58A2B4D-239C-4E0C-9A0F-B1528406034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1CD6D77-12ED-40F0-B9A2-CB07B59DA58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E11E37A-D6B2-4630-BC8E-1A765D05118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¡Ay, me duel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25440" y="1979640"/>
            <a:ext cx="8855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280099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Formulad un consejo para los niños del grupo scout durante la marcha turís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¿Cómo curar diferentes enfermedades sin medicament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280099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El médico escolar recomendó que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00720" y="4402080"/>
            <a:ext cx="1090440" cy="11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¡Ay, me duel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25440" y="1777680"/>
            <a:ext cx="88552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spcBef>
                <a:spcPts val="876"/>
              </a:spcBef>
              <a:buClr>
                <a:srgbClr val="8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Calibri"/>
              </a:rPr>
              <a:t>SER</a:t>
            </a:r>
            <a:r>
              <a:rPr b="0" lang="ru-RU" sz="3500" spc="-1" strike="noStrike">
                <a:solidFill>
                  <a:srgbClr val="280099"/>
                </a:solidFill>
                <a:latin typeface="Calibri"/>
              </a:rPr>
              <a:t> VS </a:t>
            </a:r>
            <a:r>
              <a:rPr b="0" lang="ru-RU" sz="3500" spc="-1" strike="noStrike">
                <a:solidFill>
                  <a:srgbClr val="800000"/>
                </a:solidFill>
                <a:latin typeface="Calibri"/>
              </a:rPr>
              <a:t>ESTA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8000"/>
                </a:solidFill>
                <a:latin typeface="Calibri"/>
              </a:rPr>
              <a:t>El mundo ________ grande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8000"/>
                </a:solidFill>
                <a:latin typeface="Calibri"/>
              </a:rPr>
              <a:t>El sol ________ amarillo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8000"/>
                </a:solidFill>
                <a:latin typeface="Calibri"/>
              </a:rPr>
              <a:t>¡Qué guapa ________ 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8000"/>
                </a:solidFill>
                <a:latin typeface="Calibri"/>
              </a:rPr>
              <a:t>El queso _________ duro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¡Ay, me duel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04720" y="1623960"/>
            <a:ext cx="86756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808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8080"/>
                </a:solidFill>
                <a:latin typeface="Calibri"/>
              </a:rPr>
              <a:t>SER + adj. = cualidades permanent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4700b8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4700b8"/>
                </a:solidFill>
                <a:latin typeface="Calibri"/>
              </a:rPr>
              <a:t>ESTAR + adj. = cualidad temporal,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4700b8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4700b8"/>
                </a:solidFill>
                <a:latin typeface="Calibri"/>
              </a:rPr>
              <a:t>                               </a:t>
            </a:r>
            <a:r>
              <a:rPr b="0" lang="ru-RU" sz="3500" spc="-1" strike="noStrike">
                <a:solidFill>
                  <a:srgbClr val="4700b8"/>
                </a:solidFill>
                <a:latin typeface="Calibri"/>
              </a:rPr>
              <a:t>estado momentáneo,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4700b8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4700b8"/>
                </a:solidFill>
                <a:latin typeface="Calibri"/>
              </a:rPr>
              <a:t>                                    </a:t>
            </a:r>
            <a:r>
              <a:rPr b="0" lang="ru-RU" sz="3500" spc="-1" strike="noStrike">
                <a:solidFill>
                  <a:srgbClr val="4700b8"/>
                </a:solidFill>
                <a:latin typeface="Calibri"/>
              </a:rPr>
              <a:t>resultado de un proces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¡Ay, me duel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197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En noviembre de 2010 la UNESCO decidió incluir a la dieta mediterránea en la Lista del Patrimonio Cultural Inmaterial de la Human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720720" y="3780000"/>
            <a:ext cx="8854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¿POR 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780000" y="450072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7443720" y="720720"/>
            <a:ext cx="15559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¡Ay, me duel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7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spcBef>
                <a:spcPts val="876"/>
              </a:spcBef>
              <a:buClr>
                <a:srgbClr val="ff6633"/>
              </a:buClr>
              <a:buSzPct val="45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La tarea de casa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20720" y="2768760"/>
            <a:ext cx="885492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. Ej 28 p. 72 del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. Ej 41 p. 79-80 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3. Escribir 10 consej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¿Cómo seguir la dieta mediterráne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usando el Imperfecto de Subjun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6659640" y="1979640"/>
            <a:ext cx="2216160" cy="15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7:57:34Z</dcterms:created>
  <dc:creator>marina </dc:creator>
  <dc:description/>
  <dc:language>en-US</dc:language>
  <cp:lastModifiedBy>Azer Samedov</cp:lastModifiedBy>
  <dcterms:modified xsi:type="dcterms:W3CDTF">2015-01-18T10:33:04Z</dcterms:modified>
  <cp:revision>2</cp:revision>
  <dc:subject/>
  <dc:title>¡Ay, me duele!</dc:title>
</cp:coreProperties>
</file>