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97E-8D41-4B49-830B-0B23895D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1BF-059A-493D-B918-08A7DC9B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C18-5C36-4CD4-A5CA-0EEE34D8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161-0CCD-43E4-B1E2-C8A46147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5594-B6EE-49ED-B869-85FA9F39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904B-2ACF-4257-8C2B-73610B26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32BF-B865-4781-BB24-E8AF548E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8DD8-6AF5-4C0C-9A88-E8FECD3D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17D5-87D1-42BE-9C37-A2AF294A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B49A-09D5-4B56-9C0F-BB903985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13C8-CA85-4492-B97F-4292884C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F59-03D5-4294-B408-6CEEE694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205D-D127-4014-9B07-D98B6D87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5E6F-F685-470D-9990-E43DC140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3B7C-E25A-45FA-B4B9-3F3E9FBD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DCF3-015E-4D8B-9A09-83FA8950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8A6E-4EC5-4435-B01A-9A6F7E18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68A-E260-4E0D-A6B5-57E63DE0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CFA-AB63-4F66-8DC1-81DE0FFB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465-67F6-4782-8FA9-DB107A6F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FB6-2A3B-45D3-B3F1-23A8F8C8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1C7-6751-4BC3-BDF3-4FB123F3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BC6-DBE9-4EF2-B723-CAF9E41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918-E10A-4B59-AE31-70482937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B769-E2AA-4063-8BAB-DFE45B134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78D6-8205-42F4-8FC7-B0214B41A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eec94"/>
                </a:solidFill>
                <a:latin typeface="Times New Roman"/>
              </a:rPr>
              <a:t>живопись</a:t>
            </a:r>
            <a:endParaRPr b="1" lang="en-US" sz="11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13-15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ec94"/>
                </a:solidFill>
                <a:latin typeface="Times New Roman"/>
              </a:rPr>
              <a:t>Живопись – иконы и фрески использовались для украшения построенных соборов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 творчество художников в этот период влияли традиции местных живописных школ домонгольского периода и в то же время образовавшаяся общерусская живописная школа. Это ярко проявилось в творчестве Феофана Грека, приехавшего из Византии, и Андрея Рубле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В Новгороде Феофан Грек создал ряд выдающихся произведений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6840" y="1413000"/>
            <a:ext cx="8218440" cy="3240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фрески в церкви Спаса на Ильине улице, для которых характерны необычайная выразительность, аскетизм и суровость ликов святых, четкость рисунка, смелость длинных мазков кисти и чистота красок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1336680"/>
            <a:ext cx="828036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В Москве Феофан Грек расписал церковь Рождества Богородицы, Архангельский собор, а также вместе с Андреем Рублевым и старцем Прохором Благовещенский собор в Кремле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397044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3280" y="1699920"/>
            <a:ext cx="4043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103640" cy="4392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103640" cy="44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Московская школа живописи сформировалась благодаря творчеству выдающегося художника Средневековья Андрея Рублева. Его иконам и фрескам присущи смелость и новизна композиций, утонченность рисунка, мягкость колорита и, главное, высокий философский смысл, человечность, лиризм и одухотворенность.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367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Лучший образец – икона Троица для иконостаса Троицкого собора Троице – Сергиевой Лавры (ныне хранится в Третьяковской галерее)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38289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ec94"/>
                </a:solidFill>
                <a:latin typeface="Times New Roman"/>
              </a:rPr>
              <a:t>Сохранились также иконы Звенигородского чина (находятся в Третьяковской галерее) и фрески Успенского собора во Владимире. Традиции живописи Андрея Рублева легли в основу деятельности многих поколений русских иконописцев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2160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92360" y="2204640"/>
            <a:ext cx="18716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2519640" cy="381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2570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воды. Несмотря на монгольское нашествие и золотоордынское иго, русская культура возродилась на своей традиционной основе и сохранила свой самобытный характер. Образование единого государства и освобождение от ордынцев создали благоприятные условия для дальнейшего культурного возрождения и складыванияединой национальной общерусской куль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8:29:23Z</dcterms:created>
  <dc:creator>GOE</dc:creator>
  <dc:description/>
  <dc:language>en-US</dc:language>
  <cp:lastModifiedBy>GOE</cp:lastModifiedBy>
  <dcterms:modified xsi:type="dcterms:W3CDTF">2015-01-13T18:56:55Z</dcterms:modified>
  <cp:revision>2</cp:revision>
  <dc:subject/>
  <dc:title>живопись</dc:title>
</cp:coreProperties>
</file>