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01BA-AF43-4452-8AB0-27427DB5C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2646-0BC9-482A-A1BD-1B2FAD12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E4A5-515E-4753-86FF-A3987D363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AED3-D086-4EA0-AD93-E450EF1F4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C9AB-1540-47BE-A132-C9BFEE9B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A677-4E2B-469D-B546-E21C06B1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FE8B-056B-4F0B-BDE7-1D3F7620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6239-5877-467C-B62A-53BFD6C2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CA40-CA9B-4901-9B47-85EA0582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FEAD-75E1-414F-A065-C3436EA5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7355-B4F7-40D1-B50D-8A28962F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401B-1C36-4132-B3BC-85410AB0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EC40-AD50-469B-B745-118123923854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930920"/>
            <a:ext cx="9144000" cy="18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400" spc="-1" strike="noStrike">
                <a:solidFill>
                  <a:srgbClr val="0000ff"/>
                </a:solidFill>
                <a:latin typeface="Arial"/>
              </a:rPr>
              <a:t>Детёныши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400" spc="-1" strike="noStrike">
                <a:solidFill>
                  <a:srgbClr val="0000ff"/>
                </a:solidFill>
                <a:latin typeface="Arial"/>
              </a:rPr>
              <a:t>животных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47640" y="206280"/>
            <a:ext cx="6121440" cy="4591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244000" y="7174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12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195640" y="115920"/>
            <a:ext cx="4262400" cy="5977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84320" y="6216480"/>
            <a:ext cx="881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лошадь и новорожд</a:t>
            </a: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ё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ный жеребён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459640" y="724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75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54160" y="2349360"/>
            <a:ext cx="3916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молодо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жира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437000" y="0"/>
            <a:ext cx="4707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8675640" y="724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568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6985080" cy="5450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55166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рысёно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244000" y="7174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603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55166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малыш пантер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7417080" cy="5470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81200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997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495680" y="331920"/>
            <a:ext cx="4469040" cy="6192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2505240"/>
            <a:ext cx="45720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ff0000"/>
                </a:solidFill>
                <a:latin typeface="Arial"/>
              </a:rPr>
              <a:t>гепард с детёнышем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956720" y="7174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374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7620120" cy="5139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920" y="5589720"/>
            <a:ext cx="9129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свинья с поросятам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596360" y="7174080"/>
            <a:ext cx="35208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485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7993080" cy="5994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59500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белый медвежонок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c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мамо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8101080" y="724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462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775640" cy="5259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5543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зебра с малышо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596360" y="724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702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42920" y="115920"/>
            <a:ext cx="7164360" cy="5373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5543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коала с малышо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812000" y="7174080"/>
            <a:ext cx="360360" cy="35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87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351320" y="189000"/>
            <a:ext cx="4605480" cy="6335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2297160"/>
            <a:ext cx="4356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кенгуру с кенгурёнко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в сумк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028000" y="7174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74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0:32:21Z</dcterms:created>
  <dc:creator> </dc:creator>
  <dc:description/>
  <dc:language>en-US</dc:language>
  <cp:lastModifiedBy>Татьяна</cp:lastModifiedBy>
  <dcterms:modified xsi:type="dcterms:W3CDTF">2015-01-18T12:59:45Z</dcterms:modified>
  <cp:revision>58</cp:revision>
  <dc:subject/>
  <dc:title>детеныши животных 42</dc:title>
</cp:coreProperties>
</file>