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4DF05-039F-4A89-BFD0-F7117FBCA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6E4A2-16CD-44B2-BF9C-5670BF48C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D2517-70AB-4F4E-AC42-3D0B870C2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849AF-04E1-4FD1-B15F-C15B417BF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FA442-363F-44EB-B1AB-441FD9180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67F0C-38FA-45D6-84AD-E7090D39B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AC10B-56AA-479F-8161-A9D5771D2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01FA8-8081-4786-A016-6179FE704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EB9D4-7B9C-4C18-89BA-5976EB5A1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D3037-C39D-4E27-BCF5-6A9E631E9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60BD2-C480-4C3C-A5AD-604B56D66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7C1ED-E397-4117-94A0-2D380D84A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83C86-F211-4796-826A-56A2CEEB9A22}" type="slidenum">
              <a:rPr b="0" lang="uk-U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4930920"/>
            <a:ext cx="9144000" cy="18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400" spc="-1" strike="noStrike">
                <a:solidFill>
                  <a:srgbClr val="0000ff"/>
                </a:solidFill>
                <a:latin typeface="Arial"/>
              </a:rPr>
              <a:t>Детёныши</a:t>
            </a: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400" spc="-1" strike="noStrike">
                <a:solidFill>
                  <a:srgbClr val="0000ff"/>
                </a:solidFill>
                <a:latin typeface="Arial"/>
              </a:rPr>
              <a:t>животных</a:t>
            </a: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547640" y="206280"/>
            <a:ext cx="6121440" cy="45910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8244000" y="717408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812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68360" y="333360"/>
            <a:ext cx="7993080" cy="52848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5805360"/>
            <a:ext cx="9144000" cy="9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500" spc="-1" strike="noStrike">
                <a:solidFill>
                  <a:srgbClr val="ff0000"/>
                </a:solidFill>
                <a:latin typeface="Arial"/>
              </a:rPr>
              <a:t>детёныш  тюленя</a:t>
            </a:r>
            <a:r>
              <a:rPr b="1" lang="en-US" sz="55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5500" spc="-1" strike="noStrike">
                <a:solidFill>
                  <a:srgbClr val="ff0000"/>
                </a:solidFill>
                <a:latin typeface="Arial"/>
              </a:rPr>
              <a:t>(белёк) 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8459640" y="7029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2693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550224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00"/>
                </a:solidFill>
                <a:latin typeface="Arial"/>
              </a:rPr>
              <a:t>слонёнок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405080" y="620640"/>
          <a:ext cx="6335640" cy="491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5080" y="620640"/>
                    <a:ext cx="6335640" cy="491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8604360" y="7245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556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55897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00"/>
                </a:solidFill>
                <a:latin typeface="Arial"/>
              </a:rPr>
              <a:t>медвежонок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771480" y="260280"/>
            <a:ext cx="7545600" cy="55800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8244000" y="71010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1579" fill="hold"/>
                                        <p:tgtEl>
                                          <p:spTgt spid="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55600" y="5759280"/>
            <a:ext cx="86281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Arial"/>
              </a:rPr>
              <a:t>детёныш крокодил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24000" y="112680"/>
            <a:ext cx="8496000" cy="58374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8172360" y="7029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2114" fill="hold"/>
                                        <p:tgtEl>
                                          <p:spTgt spid="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554688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00"/>
                </a:solidFill>
                <a:latin typeface="Arial"/>
              </a:rPr>
              <a:t>тигрёнок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971640" y="260280"/>
            <a:ext cx="7272360" cy="5454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8101080" y="7245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1533" fill="hold"/>
                                        <p:tgtEl>
                                          <p:spTgt spid="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551664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00"/>
                </a:solidFill>
                <a:latin typeface="Arial"/>
              </a:rPr>
              <a:t>белый тигрёнок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912960" y="260280"/>
            <a:ext cx="7259400" cy="54453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8101080" y="717408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1626" fill="hold"/>
                                        <p:tgtEl>
                                          <p:spTgt spid="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280" y="2781360"/>
            <a:ext cx="4385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00"/>
                </a:solidFill>
                <a:latin typeface="Arial"/>
              </a:rPr>
              <a:t>львёнок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4421160" y="0"/>
            <a:ext cx="4759200" cy="68738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8317080" y="71010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1347" fill="hold"/>
                                        <p:tgtEl>
                                          <p:spTgt spid="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-108000" y="2565360"/>
            <a:ext cx="439272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00"/>
                </a:solidFill>
                <a:latin typeface="Arial"/>
              </a:rPr>
              <a:t>детёныш пумы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143240" y="0"/>
            <a:ext cx="5000760" cy="68580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8172360" y="7029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1842" fill="hold"/>
                                        <p:tgtEl>
                                          <p:spTgt spid="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1T10:32:21Z</dcterms:created>
  <dc:creator> </dc:creator>
  <dc:description/>
  <dc:language>en-US</dc:language>
  <cp:lastModifiedBy>Татьяна</cp:lastModifiedBy>
  <dcterms:modified xsi:type="dcterms:W3CDTF">2015-01-18T12:57:33Z</dcterms:modified>
  <cp:revision>58</cp:revision>
  <dc:subject/>
  <dc:title>детеныши животных 42</dc:title>
</cp:coreProperties>
</file>