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0A1B-37C5-4114-8A9E-7943B58F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7695-EC22-4007-A67E-2F65A81B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61AE-4FC0-4BB2-92CE-D69BAA3F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C0C-5A22-469F-A28A-C63A0D1A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827-3427-42EA-BFB9-0F9D2961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2F90-005F-4BA4-B058-3CA2E152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FE16-DA7B-4A9B-B01B-9D6D571C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1C48-0941-4DDE-B926-655D6DCB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45B5-FBD7-485D-88B1-6D1EE189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3E8-534E-4510-984C-93140EB7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D13B-B199-4527-9A14-48A9E44D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F57-0BC9-4376-92F7-0937C127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6598-D9BC-42AA-A37F-1FC9D9545D4E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930920"/>
            <a:ext cx="9144000" cy="18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400" spc="-1" strike="noStrike">
                <a:solidFill>
                  <a:srgbClr val="0000ff"/>
                </a:solidFill>
                <a:latin typeface="Arial"/>
              </a:rPr>
              <a:t>Детёныши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400" spc="-1" strike="noStrike">
                <a:solidFill>
                  <a:srgbClr val="0000ff"/>
                </a:solidFill>
                <a:latin typeface="Arial"/>
              </a:rPr>
              <a:t>животных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7640" y="206280"/>
            <a:ext cx="6121440" cy="4591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244000" y="7174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1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5245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зайчон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71640" y="333360"/>
          <a:ext cx="717048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33360"/>
                    <a:ext cx="71704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604360" y="7029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56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129440" cy="5346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оленён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60436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44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81000"/>
            <a:ext cx="7777080" cy="5834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5646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ежон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67564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358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560000" cy="5376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7340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белый медвежоно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53272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95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589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волчон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985080" cy="5456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885080" y="7174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30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5589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лисён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71640" y="351000"/>
            <a:ext cx="7200720" cy="5398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8360" y="724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61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0:32:21Z</dcterms:created>
  <dc:creator> </dc:creator>
  <dc:description/>
  <dc:language>en-US</dc:language>
  <cp:lastModifiedBy>Татьяна</cp:lastModifiedBy>
  <dcterms:modified xsi:type="dcterms:W3CDTF">2015-01-18T12:55:38Z</dcterms:modified>
  <cp:revision>60</cp:revision>
  <dc:subject/>
  <dc:title>детеныши животных 42</dc:title>
</cp:coreProperties>
</file>