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681-7F9E-4501-A7CF-8F30B49B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0D9-E989-4F5E-92E5-09899C0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417-8C3B-4E1A-AE56-E105F5FF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197-593D-45E4-B114-CECFE779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50A-8EF0-487F-BCA3-1251A0B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903-7164-4DDC-B916-368341D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8D1-98D7-480C-A720-0FBCED50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B65-B2E9-4D89-A835-8010E05D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6B1-1CE8-49D0-9645-3AE63D39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ED6-ECA8-47D8-96F7-DD643EB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485-FAFA-4A6E-B6A3-3F9F45D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5DE-5BE9-46B6-B97A-511A6D0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45A-D902-4B76-82CB-48E0519256E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30920"/>
            <a:ext cx="91440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детёныши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животных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0628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84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4920" y="5805360"/>
            <a:ext cx="84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безьянки-мака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1010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3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492" b="738"/>
          <a:stretch/>
        </p:blipFill>
        <p:spPr>
          <a:xfrm>
            <a:off x="611280" y="260280"/>
            <a:ext cx="7921440" cy="5268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тенец пингв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60436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2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92360" y="56754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траусёнок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3228" t="11570" r="0" b="0"/>
          <a:stretch/>
        </p:blipFill>
        <p:spPr>
          <a:xfrm>
            <a:off x="684360" y="404640"/>
            <a:ext cx="7632720" cy="508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191628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75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7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3838680" cy="581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7440" y="5851440"/>
            <a:ext cx="843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тенец степного ор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45964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27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840720" cy="569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4320" y="5759280"/>
            <a:ext cx="799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олодая антило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0436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984" t="0" r="0" b="0"/>
          <a:stretch/>
        </p:blipFill>
        <p:spPr>
          <a:xfrm>
            <a:off x="539640" y="189000"/>
            <a:ext cx="8128080" cy="54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" y="5759280"/>
            <a:ext cx="914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орова с телёнк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170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5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" y="5759280"/>
            <a:ext cx="914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овца с ягнёнк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96400" cy="540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991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126200" cy="535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73408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0000"/>
                </a:solidFill>
                <a:latin typeface="Arial"/>
              </a:rPr>
              <a:t>олениха с детёнышем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836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6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65360"/>
            <a:ext cx="4356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емур с детёныш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4724" r="0" b="0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3908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59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7480" y="5564160"/>
            <a:ext cx="18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66100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0000"/>
                </a:solidFill>
                <a:latin typeface="Arial"/>
              </a:rPr>
              <a:t>гиена с щенятами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17236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3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840720" cy="549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0" y="5589720"/>
            <a:ext cx="91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тен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4400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8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0" y="5589720"/>
            <a:ext cx="91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цыпл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832360" cy="554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3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0:32:21Z</dcterms:created>
  <dc:creator> </dc:creator>
  <dc:description/>
  <dc:language>en-US</dc:language>
  <cp:lastModifiedBy>Татьяна</cp:lastModifiedBy>
  <dcterms:modified xsi:type="dcterms:W3CDTF">2015-01-18T13:02:04Z</dcterms:modified>
  <cp:revision>57</cp:revision>
  <dc:subject/>
  <dc:title>детеныши животных 42</dc:title>
</cp:coreProperties>
</file>