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DB2B-E02A-492B-B0B0-8491F219B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A965-1AAD-463C-99E1-68B8532B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020A-7D96-41A9-959D-75603A6A6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498F-3443-4CE1-B7E1-076177DC1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5CC0-A78B-4386-8C9E-B2E0E94E3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6C20F-0A07-4BD5-A669-79227D04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A1F9-3BD9-40D9-9E2B-5B71594B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216D-5666-4ABD-9B05-76BC8E63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0E88-8828-495A-8714-8AEB00F5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14CC-7919-424D-B1EC-3E6CC58F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06395-6BA4-4A95-8FE0-A9E77AE2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DB7D-A202-4BE5-A791-334E88C2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4ED6-201B-4FF2-B8AC-DF26EB37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5AC4-570F-41EA-A475-172F365C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39E91-094D-4D14-820F-10C8BF86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C370-B3C3-4185-A102-9F588B19D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DE336-C73E-4CF7-9908-5D5A2B1AE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A9DB-2B00-4B03-BB08-0570FC59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0C41-69AD-4965-B1F2-B7850B7F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3D76-6A8C-4630-B48B-DEC3BA5A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F41B-9127-4656-A650-DA9E3580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4C91-8C04-4369-9FF1-44062F96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754C-CC53-4604-862A-5867B13E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1FD3-3DA3-4D94-90F9-B613DC2A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1388-9AC5-4C21-8843-B1D6AB67F2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CECE-8973-4C8D-A9F0-393B040D82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ru/url?sa=i&amp;rct=j&amp;q=&amp;esrc=s&amp;source=images&amp;cd=&amp;cad=rja&amp;uact=8&amp;ved=0CAcQjRw&amp;url=http%3A%2F%2Fwww.lesyadraw.ru%2Fanimals%2Fbirds%2Fkak-narisovat-sinitsu-sinichku.html&amp;ei=WN27VNHPAcGQPLKDgKAO&amp;bvm=bv.83829542,d.bGQ&amp;psig=AFQjCNH_dCGTpO9oUrUJ2Cdq0je_5gIvhA&amp;ust=1421682515369357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ru/url?sa=i&amp;rct=j&amp;q=&amp;esrc=s&amp;source=images&amp;cd=&amp;cad=rja&amp;uact=8&amp;ved=0CAcQjRw&amp;url=http%3A%2F%2Fi-sparrow.ru%2Fabout&amp;ei=4d27VOXtDYjcPbfCgPgB&amp;bvm=bv.83829542,d.bGQ&amp;psig=AFQjCNHUl-saFjb0JhzoaySQuVA5E6Zoig&amp;ust=1421684507687670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ru/url?sa=i&amp;rct=j&amp;q=&amp;esrc=s&amp;source=images&amp;cd=&amp;cad=rja&amp;uact=8&amp;ved=0CAcQjRw&amp;url=http%3A%2F%2Fnatureworld.ru%2Fgeorgiy-perovskiy%2Findex.php&amp;ei=-tG7VPn_DseCPZ-cgOgK&amp;bvm=bv.83829542,d.bGQ&amp;psig=AFQjCNHus_oKz4_GsJgwV-tH6yyI38xJ3g&amp;ust=1421681350746532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ru/url?sa=i&amp;rct=j&amp;q=&amp;esrc=s&amp;source=images&amp;cd=&amp;cad=rja&amp;uact=8&amp;ved=0CAcQjRw&amp;url=http%3A%2F%2Fwww.animalist.ru%2F%3Faction%3Dshow_pic%26n%3D01072005094233%26artist%3Dkhasay&amp;ei=zd67VMWmHoXfPeCygOAC&amp;bvm=bv.83829542,d.bGQ&amp;psig=AFQjCNHtcgALsz1hpMYcvREvySLfgV_L9g&amp;ust=1421684773230148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ru/url?sa=i&amp;rct=j&amp;q=&amp;esrc=s&amp;source=images&amp;cd=&amp;cad=rja&amp;uact=8&amp;ved=0CAcQjRw&amp;url=http%3A%2F%2Fwww.ebirds.ru%2Fbird%2F190.htm&amp;ei=RN-7VLfeI8eQPc35gIgD&amp;bvm=bv.83829542,d.bGQ&amp;psig=AFQjCNGC3gZ3VbAkeZAi3AIHWwIexyyWrg&amp;ust=1421684893067803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ru/url?sa=i&amp;rct=j&amp;q=&amp;esrc=s&amp;source=images&amp;cd=&amp;cad=rja&amp;uact=8&amp;ved=0CAcQjRw&amp;url=http%3A%2F%2Fwww.mealberry.ru%2Fgolubi&amp;ei=tN-7VIO3BcTJOb3BgaAM&amp;bvm=bv.83829542,d.bGQ&amp;psig=AFQjCNEoE45ImeJ_jlPJ8wxvhauVzi1MAQ&amp;ust=1421685013044194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otokonkurs.ru/photo/86263" TargetMode="External"/><Relationship Id="rId3" Type="http://schemas.openxmlformats.org/officeDocument/2006/relationships/hyperlink" Target="http://joinfo.ua/weather/856277_Narodnie-primeti-8-marta.html" TargetMode="External"/><Relationship Id="rId4" Type="http://schemas.openxmlformats.org/officeDocument/2006/relationships/hyperlink" Target="http://www.liveinternet.ru/users/irina_snezhko/post143662032/" TargetMode="External"/><Relationship Id="rId5" Type="http://schemas.openxmlformats.org/officeDocument/2006/relationships/hyperlink" Target="http://ru.wikipedia.org/wiki/&#1042;&#1086;&#1088;&#1086;&#1073;&#1100;&#1080;&#1085;&#1099;&#1077;" TargetMode="External"/><Relationship Id="rId6" Type="http://schemas.openxmlformats.org/officeDocument/2006/relationships/hyperlink" Target="http://www.e-reading.link/chapter.php/91950/26/Barkov_-_Azbuka_zhivoii_prirody.html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ru/url?sa=i&amp;rct=j&amp;q=&amp;esrc=s&amp;source=images&amp;cd=&amp;cad=rja&amp;uact=8&amp;ved=0CAcQjRw&amp;url=http%3A%2F%2Fsc9.ucoz.ru%2Fnews%2Fakcija_beregite_ptic_zimoj%2F2012-12-03-354&amp;ei=4NK7VJukHsXbPLDYgegK&amp;bvm=bv.83829542,d.bGQ&amp;psig=AFQjCNHus_oKz4_GsJgwV-tH6yyI38xJ3g&amp;ust=1421681350746532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ru/url?sa=i&amp;rct=j&amp;q=&amp;esrc=s&amp;source=images&amp;cd=&amp;cad=rja&amp;uact=8&amp;ved=0CAcQjRw&amp;url=http%3A%2F%2Fkursk-birds.ru%2Ftexnika-semki%2F81%2Fzimnjaja-fotoohota-na-voronov%2F&amp;ei=f9S7VMCfFYXsO_i4gfAD&amp;bvm=bv.83829542,d.bGQ&amp;psig=AFQjCNFAn7KeQberkoLd0rV3l0MvPZkthg&amp;ust=1421682032758388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800240" y="5105520"/>
            <a:ext cx="4343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УЧИТЕЛЬ НАЧАЛЬНЫХ КЛАСС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МБОУ «Мошинская средняя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общеобразовательная школа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НИЗОВАЯ ЕЛЕНА ФЁДОРОВН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14400" y="533520"/>
            <a:ext cx="7010280" cy="42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ЗНАТОК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ЗИМУЮЩИХ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 </a:t>
            </a: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ПТИЦ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3.Конкурс</a:t>
            </a:r>
            <a:br>
              <a:rPr sz="4000"/>
            </a:b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 «Веришь - не веришь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тичка оляпка может бегать в поисках пищи по дну речк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юге Америки живёт птица-хохотун. Она издаёт звуки, похожие на хохот человек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НЕТ ТАК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3.Конкурс</a:t>
            </a:r>
            <a:br>
              <a:rPr sz="4000"/>
            </a:b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 «Веришь - не веришь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лесты выводят птенцов зимо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тиц зимой можно подкармливать черным хлебом, соленым салом и мяс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Н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4. Конкурс </a:t>
            </a:r>
            <a:br>
              <a:rPr sz="4000"/>
            </a:b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"Кто здесь лишний?"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14400" y="1981080"/>
          <a:ext cx="7772040" cy="4114440"/>
        </p:xfrm>
        <a:graphic>
          <a:graphicData uri="http://schemas.openxmlformats.org/drawingml/2006/table">
            <a:tbl>
              <a:tblPr/>
              <a:tblGrid>
                <a:gridCol w="1554480"/>
                <a:gridCol w="1554480"/>
                <a:gridCol w="1554120"/>
                <a:gridCol w="1554480"/>
                <a:gridCol w="1554480"/>
              </a:tblGrid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Щ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5. Конкурс  викторина</a:t>
            </a:r>
            <a:br>
              <a:rPr sz="4000"/>
            </a:b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 “Знаешь ли ты птиц?”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ьют ли перелетные птицы гнезда на юге?   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Когда улетают от нас последние гуси и утки? 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Какая птица вылупляется из яйца, но сама яиц не несет? 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Что бывает с вороной  через 3 года?  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Назовите басни И. А. Крылова, где участвуют птицы?  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У какой птицы самый длинный язык?  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Какие птицы не летают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5. Конкурс  викторина</a:t>
            </a:r>
            <a:br>
              <a:rPr sz="4000"/>
            </a:b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 “Знаешь ли ты птиц?”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. Какая маленькая птица вскармливает птенцов рыбой? 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. Какие птицы ночуют, зарывшись ночью в снег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. Какая птица выдалбливает клювом дупло для гнезда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1. Какие птицы перекочевывают на зиму к жилищу человека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2. Кого называют пернатой кошк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3. Почему тушки мертвого клеста и в тепле не разлагаются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4. У какой нашей лесной птицы очень крепкий клюв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5. Конкурс  викторина</a:t>
            </a:r>
            <a:br>
              <a:rPr sz="4000"/>
            </a:b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 “Знаешь ли ты птиц?”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5. У какой птицы такой крепкий хвост, что он поддерживает птицу на дереве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6.      Когда температура тела воробья ниже: зимой или летом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.     Какая птица выводит своих птенцов зимой?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8.     Почему поползня называют лесным акробатом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.     Эта птица может поворачивать голову на 180 и даже на 270 градусов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.     Почему основная масса птиц  улетает с наступлением зимы в теплые края?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6.Конкурс</a:t>
            </a:r>
            <a:br>
              <a:rPr sz="4000"/>
            </a:b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 “Птичья столовая”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371600" y="1219320"/>
            <a:ext cx="6781680" cy="56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7. Конкурс </a:t>
            </a:r>
            <a:br>
              <a:rPr sz="4000"/>
            </a:b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“Живые синонимы”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Могучий как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орёл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ольный как птица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птиц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ороватый как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сорок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ажный как …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гусь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згляд хищный как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у ястреб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Зоркий как …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сокол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Болтать как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сорок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8. Конкурс </a:t>
            </a:r>
            <a:br>
              <a:rPr sz="4000"/>
            </a:b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"Узнай птицу"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НИЦАС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ИНИЦ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52720" y="3048120"/>
            <a:ext cx="6191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8. Конкурс </a:t>
            </a:r>
            <a:br>
              <a:rPr sz="4000"/>
            </a:b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"Узнай птицу"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114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БЕЙРО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РОБЕ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00400" y="2814480"/>
            <a:ext cx="5943600" cy="40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-762120" algn="ctr">
              <a:buClr>
                <a:srgbClr val="e5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Конкурс </a:t>
            </a:r>
            <a:br>
              <a:rPr sz="4000"/>
            </a:b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«Подскажи словечко»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191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лесу, под щебет, звон и свис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учит лесной телеграфист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Здорово, дрозд-приятель!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 ставит подпись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3505320" y="3581280"/>
            <a:ext cx="167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ДЯТЕ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362320" y="1257480"/>
            <a:ext cx="4419360" cy="4343400"/>
            <a:chOff x="2362320" y="1257480"/>
            <a:chExt cx="4419360" cy="4343400"/>
          </a:xfrm>
        </p:grpSpPr>
        <p:sp>
          <p:nvSpPr>
            <p:cNvPr id="89" name=""/>
            <p:cNvSpPr txBox="1"/>
            <p:nvPr/>
          </p:nvSpPr>
          <p:spPr>
            <a:xfrm>
              <a:off x="2362320" y="1257480"/>
              <a:ext cx="4419360" cy="4343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0" name="" descr="">
            <a:hlinkClick r:id="rId2"/>
          </p:cNvPr>
          <p:cNvPicPr/>
          <p:nvPr/>
        </p:nvPicPr>
        <p:blipFill>
          <a:blip r:embed="rId3"/>
          <a:srcRect l="0" t="0" r="21567" b="0"/>
          <a:stretch/>
        </p:blipFill>
        <p:spPr>
          <a:xfrm>
            <a:off x="5257800" y="1828800"/>
            <a:ext cx="3886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8. Конкурс </a:t>
            </a:r>
            <a:br>
              <a:rPr sz="4000"/>
            </a:b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"Узнай птицу"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КАРОС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РО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Сорока, рисунок"/>
          <p:cNvPicPr/>
          <p:nvPr/>
        </p:nvPicPr>
        <p:blipFill>
          <a:blip r:embed="rId2"/>
          <a:stretch/>
        </p:blipFill>
        <p:spPr>
          <a:xfrm>
            <a:off x="3429000" y="257184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8. Конкурс </a:t>
            </a:r>
            <a:br>
              <a:rPr sz="4000"/>
            </a:b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"Узнай птицу"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3886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ЛИНФ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ФИЛ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62520" y="2449440"/>
            <a:ext cx="518148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8. Конкурс </a:t>
            </a:r>
            <a:br>
              <a:rPr sz="4000"/>
            </a:b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"Узнай птицу"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114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 КАЛЯП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ЛЯП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67080" y="2021040"/>
            <a:ext cx="487692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8. Конкурс </a:t>
            </a:r>
            <a:br>
              <a:rPr sz="4000"/>
            </a:b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"Узнай птицу"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191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. ЛУБЬГ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ОЛУБ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76720" y="3048120"/>
            <a:ext cx="5867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8. Конкурс </a:t>
            </a:r>
            <a:br>
              <a:rPr sz="4000"/>
            </a:b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"Узнай птицу"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1148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. КАРОВКЕ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ЕДРОВ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Азбука живой природы"/>
          <p:cNvPicPr/>
          <p:nvPr/>
        </p:nvPicPr>
        <p:blipFill>
          <a:blip r:embed="rId2"/>
          <a:stretch/>
        </p:blipFill>
        <p:spPr>
          <a:xfrm>
            <a:off x="3619440" y="3124080"/>
            <a:ext cx="55245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8. Конкурс </a:t>
            </a:r>
            <a:br>
              <a:rPr sz="4000"/>
            </a:b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"Узнай птицу"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1148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. МОРОДОКЗ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ИМОРОД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rcRect l="0" t="0" r="0" b="19306"/>
          <a:stretch/>
        </p:blipFill>
        <p:spPr>
          <a:xfrm>
            <a:off x="3352680" y="3352680"/>
            <a:ext cx="5791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8. Конкурс </a:t>
            </a:r>
            <a:br>
              <a:rPr sz="4000"/>
            </a:b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"Узнай птицу"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1148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. . ЗЕНЬПОЛП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ПОЛЗЕН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791240" y="2209680"/>
            <a:ext cx="43527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9. Конкурс </a:t>
            </a:r>
            <a:br>
              <a:rPr sz="4000"/>
            </a:b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«Вспомни пословицу»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8390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Tahoma"/>
              </a:rPr>
              <a:t>Воробей.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ahoma"/>
              </a:rPr>
              <a:t>Слово не воробей, вылетит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1" i="1" lang="en-US" sz="4800" spc="-1" strike="noStrike">
                <a:solidFill>
                  <a:srgbClr val="ffffff"/>
                </a:solidFill>
                <a:latin typeface="Tahoma"/>
              </a:rPr>
              <a:t>не поймаешь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ahoma"/>
              </a:rPr>
              <a:t>Старого воробья на мякине не проведешь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9. Конкурс </a:t>
            </a:r>
            <a:br>
              <a:rPr sz="4000"/>
            </a:b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«Вспомни пословицу»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Tahoma"/>
              </a:rPr>
              <a:t>Синица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ahoma"/>
              </a:rPr>
              <a:t>Лучше синица в рукаве, чем журавель в небе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ahoma"/>
              </a:rPr>
              <a:t>Синичка невеличка, а птичка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5ffff"/>
                </a:solidFill>
                <a:latin typeface="Tahoma"/>
              </a:rPr>
              <a:t>Литература. </a:t>
            </a:r>
            <a:br>
              <a:rPr sz="1600"/>
            </a:br>
            <a:r>
              <a:rPr b="0" lang="en-US" sz="1600" spc="-1" strike="noStrike">
                <a:solidFill>
                  <a:srgbClr val="e5ffff"/>
                </a:solidFill>
                <a:latin typeface="Tahoma"/>
              </a:rPr>
              <a:t>  Сборник загадок: Пособие для учителя/ сост. М.Т. Карпенко - М.: Просвещение, 1988.</a:t>
            </a:r>
            <a:br>
              <a:rPr sz="1600"/>
            </a:br>
            <a:r>
              <a:rPr b="0" lang="en-US" sz="1600" spc="-1" strike="noStrike">
                <a:solidFill>
                  <a:srgbClr val="e5ffff"/>
                </a:solidFill>
                <a:latin typeface="Tahoma"/>
              </a:rPr>
              <a:t>Последний звонок. – №12, 2003 г.</a:t>
            </a:r>
            <a:br>
              <a:rPr sz="1600"/>
            </a:br>
            <a:r>
              <a:rPr b="0" lang="en-US" sz="1600" spc="-1" strike="noStrike">
                <a:solidFill>
                  <a:srgbClr val="e5ffff"/>
                </a:solidFill>
                <a:latin typeface="Tahoma"/>
              </a:rPr>
              <a:t>// Педсовет. – №6, – 2002 г. </a:t>
            </a:r>
            <a:br>
              <a:rPr sz="1600"/>
            </a:br>
            <a:r>
              <a:rPr b="0" lang="en-US" sz="1600" spc="-1" strike="noStrike">
                <a:solidFill>
                  <a:srgbClr val="e5ffff"/>
                </a:solidFill>
                <a:latin typeface="Tahoma"/>
              </a:rPr>
              <a:t>// Педсовет. – №12, – 2003 г.</a:t>
            </a:r>
            <a:br>
              <a:rPr sz="1600"/>
            </a:br>
            <a:r>
              <a:rPr b="0" lang="en-US" sz="1600" spc="-1" strike="noStrike">
                <a:solidFill>
                  <a:srgbClr val="e5ffff"/>
                </a:solidFill>
                <a:latin typeface="Tahoma"/>
              </a:rPr>
              <a:t>// Педсовет. – №12, 2006 г. </a:t>
            </a:r>
            <a:br>
              <a:rPr sz="1600"/>
            </a:br>
            <a:r>
              <a:rPr b="0" lang="en-US" sz="1600" spc="-1" strike="noStrike">
                <a:solidFill>
                  <a:srgbClr val="e5ffff"/>
                </a:solidFill>
                <a:latin typeface="Tahoma"/>
              </a:rPr>
              <a:t>// Педсовет. – №1, 2005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31240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http://www.fotokonkurs.ru/photo/86263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http://joinfo.ua/weather/856277_Narodnie-primeti-8-marta.htm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http://www.liveinternet.ru/users/irina_snezhko/post143662032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http://ru.wikipedia.org/wiki/%D0%92%D0%BE%D1%80%D0%BE%D0%B1%D1%8C%D0%B8%D0%BD%D1%8B%D0%B5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http://www.e-reading.link/chapter.php/91950/26/Barkov_-_Azbuka_zhivoii_prirody.htm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http://900igr.net/kartinki/o-zhivotnykh/CHem-pitajutsja.files/014-Ptitsa-zimorodok-tozhe-khischnik.htm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http://oscines.narod.ru/ptichi/Popolznevye/Evropejskij_popolzen.ht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http://needlewoman.ru/product/anchor-apc942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-762120" algn="ctr">
              <a:buClr>
                <a:srgbClr val="e5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Конкурс </a:t>
            </a:r>
            <a:br>
              <a:rPr sz="4000"/>
            </a:b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«Подскажи словечко»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648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имой на ветках яблоки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корей их собери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 вдруг впорхнули яблок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едь это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3276720"/>
            <a:ext cx="2362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СНЕГИР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>
            <a:hlinkClick r:id="rId2"/>
          </p:cNvPr>
          <p:cNvPicPr/>
          <p:nvPr/>
        </p:nvPicPr>
        <p:blipFill>
          <a:blip r:embed="rId3"/>
          <a:srcRect l="13670" t="7019" r="4313" b="3519"/>
          <a:stretch/>
        </p:blipFill>
        <p:spPr>
          <a:xfrm>
            <a:off x="4800600" y="2286000"/>
            <a:ext cx="4343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-762120" algn="ctr">
              <a:buClr>
                <a:srgbClr val="e5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Конкурс </a:t>
            </a:r>
            <a:br>
              <a:rPr sz="4000"/>
            </a:b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«Подскажи словечко»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572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Трещала с самого утр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«Пор-р-ра! Пор-р-ра!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 что – пор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Такая с ней морок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огда трещит…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3200400" y="342900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СОР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>
            <a:hlinkClick r:id="rId2"/>
          </p:cNvPr>
          <p:cNvPicPr/>
          <p:nvPr/>
        </p:nvPicPr>
        <p:blipFill>
          <a:blip r:embed="rId3"/>
          <a:srcRect l="43939" t="4386" r="0" b="0"/>
          <a:stretch/>
        </p:blipFill>
        <p:spPr>
          <a:xfrm>
            <a:off x="5199120" y="1905120"/>
            <a:ext cx="3944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-762120" algn="ctr">
              <a:buClr>
                <a:srgbClr val="e5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Конкурс </a:t>
            </a:r>
            <a:br>
              <a:rPr sz="4000"/>
            </a:b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«Подскажи словечко»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191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осмотрите детки,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он сидят на ветк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тички невелички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Жёлтые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2590920" y="4038480"/>
            <a:ext cx="259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СИНИЧ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776680" y="1257480"/>
            <a:ext cx="3590640" cy="4343400"/>
            <a:chOff x="2776680" y="1257480"/>
            <a:chExt cx="3590640" cy="4343400"/>
          </a:xfrm>
        </p:grpSpPr>
        <p:sp>
          <p:nvSpPr>
            <p:cNvPr id="103" name=""/>
            <p:cNvSpPr txBox="1"/>
            <p:nvPr/>
          </p:nvSpPr>
          <p:spPr>
            <a:xfrm>
              <a:off x="2776680" y="1257480"/>
              <a:ext cx="3590640" cy="4343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4" name="" descr="001 копия.jpg"/>
          <p:cNvPicPr/>
          <p:nvPr/>
        </p:nvPicPr>
        <p:blipFill>
          <a:blip r:embed="rId2"/>
          <a:stretch/>
        </p:blipFill>
        <p:spPr>
          <a:xfrm>
            <a:off x="4917960" y="1752480"/>
            <a:ext cx="42260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2. Конкурс </a:t>
            </a:r>
            <a:br>
              <a:rPr sz="4000"/>
            </a:br>
            <a:r>
              <a:rPr b="1" lang="ru-RU" sz="4000" spc="-1" strike="noStrike" u="sng">
                <a:solidFill>
                  <a:srgbClr val="e5ffff"/>
                </a:solidFill>
                <a:uFillTx/>
                <a:latin typeface="Bodoni MT Black"/>
              </a:rPr>
              <a:t>«Буква заблудилась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62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ЧАШКА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ЧАЙ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АПЛ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             </a:t>
            </a: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ЦАПЛ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ОСЁ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             </a:t>
            </a: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ОРЁ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ЛИ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             </a:t>
            </a: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АИ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2057400"/>
            <a:ext cx="44197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МОР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СОР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БОРО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ВОРО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АЗ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ФАЗ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УНИ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КУРИ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3.Конкурс</a:t>
            </a:r>
            <a:br>
              <a:rPr sz="4000"/>
            </a:b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 «Веришь - не веришь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кол-сапсан при ловле добычи может развить скорость 300 км/ч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 сов – единственных из птиц – имеются ушные раковины. Слух у них в 50 раз острее, чем у человек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3.Конкурс</a:t>
            </a:r>
            <a:br>
              <a:rPr sz="4000"/>
            </a:b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 «Веришь - не веришь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тица козодой прилетает по ночам к стадам коров или коз, чтобы полакомиться молоко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НЕТ - питается мошк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перение птиц, которые живут в клетках, становится ярч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НАОБОРО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3.Конкурс</a:t>
            </a:r>
            <a:br>
              <a:rPr sz="4000"/>
            </a:b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 «Веришь - не веришь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есной пингвины могут взлетать на высоту до двух метр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НЕ ЛЕТАЮ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ингвины могут плавать со скоростью 40 км/ч, обгоняя катер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8T15:01:54Z</dcterms:created>
  <dc:creator>МИР</dc:creator>
  <dc:description/>
  <dc:language>en-US</dc:language>
  <cp:lastModifiedBy>мир</cp:lastModifiedBy>
  <dcterms:modified xsi:type="dcterms:W3CDTF">2015-01-18T16:58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