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CFC5-0F24-42D7-8616-AD0685FC53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48D7-476E-4FE4-98FB-AC7477D68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25B-9459-48BB-B442-C8812749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C8F-5EF8-4CCF-A66A-B0AF3841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5DA-CC75-4A62-A31B-F1B4FCF7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731-2762-4FCD-AB7D-016617F9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FB16-24B1-4E3A-BEBD-F481F495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53E7-B16C-4333-85A0-F994074A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7247-D713-47BF-A9F1-8513FEB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856A-664A-4C0E-A706-5A308AC9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2DAF-1452-4C5B-9FEB-57128028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2880-50CD-4D14-8085-7BB626E1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93B2-D44A-4520-B116-C559B7FD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1C2-DEB1-4E3C-966F-23103CD2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03C2-AC26-4FEE-BBDF-20DC4465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F212-A2A5-43F6-AD4A-725C0EB6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304B-C1F2-43B1-BB51-D0084AD1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F41E-A95E-4476-936C-BA224358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7BC1-4341-49CD-925E-0912614E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A4F-037E-46D9-991C-097A690D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527-A870-436A-AC18-66996EB9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EB3-B14A-4CCF-A3F3-8B092229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720-54BE-4679-BE5B-EEE34B9B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6B8-29D8-48B7-B6AA-1602601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430-532A-4E8E-8EF7-B9A43F95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69E-766E-4DB4-92B8-BE506157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0655-14D9-4AAC-8407-CEE4A66DC5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E1FB-FB65-4067-ACBE-906B0DFB19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Отцы и дети": родительское собрание с участием детей в форме диспу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Ребёнок учится тому, что видит у себя в дому, родители – пример ему" (Себастьян Брандт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чется завершить наше собрание одним из законов родительской истины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омните, что самое большое родительское счастье – видеть состоявшихся, умных и благодарных детей!»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Documents and Settings\User\Рабочий стол\Родительское собрание\Изображение 149.jpg"/>
          <p:cNvPicPr/>
          <p:nvPr/>
        </p:nvPicPr>
        <p:blipFill>
          <a:blip r:embed="rId1"/>
          <a:stretch/>
        </p:blipFill>
        <p:spPr>
          <a:xfrm>
            <a:off x="609480" y="1600200"/>
            <a:ext cx="6980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Развивать чувство эмпатии и толерантности у всех участников образовательного процесс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подростков выслушивать мнения старших и делать собственные умозаключения по поводу услыша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умение подростков высказывать в тактичной форме свои замечания, советы в адрес родителей и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чь взрослым осознать главные проблемы взаимопонимания с детьми и сделать воспитательный процесс личностно-ориентиров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990720" y="5335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отношения с родите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ерительные-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еские, без полного доверия тайн —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ликтные —4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хожие на бокс»-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ли бывают конфли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- 4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- 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вают, но быстро находим компромисс —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конфли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 понимания —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ое поведение —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ая учеба — 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ательство и обман- 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440" y="489780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440" y="5105160"/>
            <a:ext cx="5486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хороших детей – счастливые роди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rcRect l="0" t="21875" r="0" b="2187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ная ситуация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и обсуждения родители и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Documents and Settings\User\Рабочий стол\Родительское собрание\Изображение 156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ные ситуации №2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енка «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енка «Классное собр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местная работа «Сердце класс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ведение итогов: мы не два разных полюса, а две половинки одного целог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лучше общаться с ребенком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ответы родителей –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с равным партне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доверительного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и время на общение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ай правила общения сам, а потом требуй этого от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ни, что каждый ребенок-личность. Ты не бог, не твори по своему подоб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еряй своему ребенку, а не слухам. (PS: но при этом проверя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 ребенка в каждой ситуации видеть плохое и хорошее, отстаивать свое м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йся с ребенком как с ра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ромисс- лучшее решение пробл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1</cp:lastModifiedBy>
  <dcterms:modified xsi:type="dcterms:W3CDTF">2015-01-18T17:10:16Z</dcterms:modified>
  <cp:revision>14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