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2409-85C0-494C-BDCB-21019502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1148-C128-44FF-92E5-B895E9EB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883-0072-4BB0-B415-D7E8253A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9292-FEE4-46E2-9D4E-05BB75AC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4ECA-C543-4560-8BE8-019CE981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A276-E018-4548-B8ED-8009D1D2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7B34-9B6E-42B6-BBD1-22DE9778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23ED-7BFF-4ADF-9DC0-2749F639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C3C2-30E4-4648-9709-4F314F63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DC24-E4A0-47E3-B4EB-AD772002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A352-52FA-4DC6-BC78-321D4981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9346-D28D-4833-A5EF-9B87BF70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7B43-D242-4B9A-98C9-1AFFE300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5153-BB28-410D-9F08-D02E5B59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C2B6-0E58-4C6B-99F4-847A32B3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AEE5-DC51-4FDF-830A-1E8FD28C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F854-548C-4844-9DCE-CD3C2147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84C7-4DA4-4CB6-A036-11D6195A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20DF-26EF-4643-BF8B-92EBAC0F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334-B797-43E4-8DC2-0A350E22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8F61-83B1-4F04-BEF8-305647A9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00E4-1A04-4774-B7C9-F023696F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5D44-B004-465D-8BEE-5D97E0DC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A8C7-250D-455E-A78A-48B8F122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1557-A445-498E-B319-14CB8AF07B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1785-E2F5-4733-B4EF-37B930E7E9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Артикли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S00559_" descr=""/>
          <p:cNvPicPr/>
          <p:nvPr/>
        </p:nvPicPr>
        <p:blipFill>
          <a:blip r:embed="rId1"/>
          <a:stretch/>
        </p:blipFill>
        <p:spPr>
          <a:xfrm>
            <a:off x="6248520" y="533520"/>
            <a:ext cx="23000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Неопределённый артикль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ртикль-это служебное слово,которое не имеет самостоятельного значения и не переводится на русский язы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ртикли употребляются только перед существительны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пределённый артикль происходит от слова «один»(современно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и означает «один из многих», «какой-то», «любой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ртикль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 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отребляется перед согласны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ртикль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an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отребляется перед гласны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a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a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a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ph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Определённый артикль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ённый артикль происходит от слова «тот»(современно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Th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ртикль употребляется и перед гласными и перед согласны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an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me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ple,please.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йте мне яблоко,пожалуйста.(это,определённо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A/An-Th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ы употребляем неопределённый артикль перед существительными,если говорим о них впервые,а определённый, если они упоминаются повтор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вая информация-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a/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t is black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рая информация-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9:37:26Z</dcterms:created>
  <dc:creator>папа</dc:creator>
  <dc:description/>
  <dc:language>en-US</dc:language>
  <cp:lastModifiedBy>папа</cp:lastModifiedBy>
  <dcterms:modified xsi:type="dcterms:W3CDTF">2007-02-02T08:43:06Z</dcterms:modified>
  <cp:revision>4</cp:revision>
  <dc:subject/>
  <dc:title>Артикли.</dc:title>
</cp:coreProperties>
</file>