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399-3498-4E9B-AD34-2853B5D3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DB7-09BD-44BA-9DAC-297CC6FA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427-7044-4CD9-B3CF-2FD12912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9B2-A910-4E69-8613-AA71E349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673-D0EE-42C1-AED7-8163471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7B6-F883-4AF0-A31D-5AC8528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619-F626-4B98-87A3-F5A7ACFD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07E-68F0-4FB1-BE3D-E5CFDFA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609-AAA7-4754-9927-481D072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AE8-9D4C-4D32-A7A5-9A184FCF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D23-DEEA-40A1-84F9-AFF0E04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D99-0C43-4690-8BA5-EC00543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B478-9BC2-4E8F-9C1E-FB891505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176040" y="560520"/>
            <a:ext cx="9685080" cy="4213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00080" y="407196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14200" y="357120"/>
            <a:ext cx="50007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988 год – принятие Христианства на Рус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необходимость в распространении кни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владимир.jpg"/>
          <p:cNvPicPr/>
          <p:nvPr/>
        </p:nvPicPr>
        <p:blipFill>
          <a:blip r:embed="rId1"/>
          <a:stretch/>
        </p:blipFill>
        <p:spPr>
          <a:xfrm>
            <a:off x="5500800" y="428760"/>
            <a:ext cx="3071880" cy="450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715000" y="52149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нязь киевский Владимир Свято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2214720" y="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Рукописные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9"/>
          <p:cNvPicPr/>
          <p:nvPr/>
        </p:nvPicPr>
        <p:blipFill>
          <a:blip r:embed="rId1"/>
          <a:stretch/>
        </p:blipFill>
        <p:spPr>
          <a:xfrm>
            <a:off x="4929120" y="857160"/>
            <a:ext cx="4038840" cy="2898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1785960" y="8571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Писали на перга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Делали деревянные переплеты, обтянутые ко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Книги стоили очень д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Хранились в монастыр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апостол.jpg"/>
          <p:cNvPicPr/>
          <p:nvPr/>
        </p:nvPicPr>
        <p:blipFill>
          <a:blip r:embed="rId2"/>
          <a:stretch/>
        </p:blipFill>
        <p:spPr>
          <a:xfrm>
            <a:off x="6500880" y="4071960"/>
            <a:ext cx="2346120" cy="2500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апост.jpg"/>
          <p:cNvPicPr/>
          <p:nvPr/>
        </p:nvPicPr>
        <p:blipFill>
          <a:blip r:embed="rId3"/>
          <a:stretch/>
        </p:blipFill>
        <p:spPr>
          <a:xfrm>
            <a:off x="428760" y="2571840"/>
            <a:ext cx="3500280" cy="4000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рук.jpg"/>
          <p:cNvPicPr/>
          <p:nvPr/>
        </p:nvPicPr>
        <p:blipFill>
          <a:blip r:embed="rId4"/>
          <a:stretch/>
        </p:blipFill>
        <p:spPr>
          <a:xfrm>
            <a:off x="214200" y="214200"/>
            <a:ext cx="150048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рук2.jpg"/>
          <p:cNvPicPr/>
          <p:nvPr/>
        </p:nvPicPr>
        <p:blipFill>
          <a:blip r:embed="rId5"/>
          <a:stretch/>
        </p:blipFill>
        <p:spPr>
          <a:xfrm>
            <a:off x="4143240" y="3929040"/>
            <a:ext cx="214344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хема 1" descr=""/>
          <p:cNvPicPr/>
          <p:nvPr/>
        </p:nvPicPr>
        <p:blipFill>
          <a:blip r:embed="rId1"/>
          <a:stretch/>
        </p:blipFill>
        <p:spPr>
          <a:xfrm>
            <a:off x="250920" y="-171360"/>
            <a:ext cx="8642160" cy="4157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book_1.gif"/>
          <p:cNvPicPr/>
          <p:nvPr/>
        </p:nvPicPr>
        <p:blipFill>
          <a:blip r:embed="rId2"/>
          <a:stretch/>
        </p:blipFill>
        <p:spPr>
          <a:xfrm>
            <a:off x="539640" y="3860640"/>
            <a:ext cx="361944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печ2.bmp"/>
          <p:cNvPicPr/>
          <p:nvPr/>
        </p:nvPicPr>
        <p:blipFill>
          <a:blip r:embed="rId3"/>
          <a:stretch/>
        </p:blipFill>
        <p:spPr>
          <a:xfrm>
            <a:off x="4572000" y="4000680"/>
            <a:ext cx="3929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428760"/>
            <a:ext cx="84294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Calibri"/>
              </a:rPr>
              <a:t>Жанры древнерусской литературы</a:t>
            </a: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лет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хож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по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посла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-390600"/>
            <a:ext cx="808992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14200" y="1500120"/>
            <a:ext cx="8572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середи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овествование в них велось по годам в хронологической последова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лето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обозначало не только сезон года, но и сам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В лето…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начало каждой новой записи в летопис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нестор.jpg"/>
          <p:cNvPicPr/>
          <p:nvPr/>
        </p:nvPicPr>
        <p:blipFill>
          <a:blip r:embed="rId2"/>
          <a:stretch/>
        </p:blipFill>
        <p:spPr>
          <a:xfrm>
            <a:off x="285840" y="142920"/>
            <a:ext cx="4214880" cy="5429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пвл2.jpg"/>
          <p:cNvPicPr/>
          <p:nvPr/>
        </p:nvPicPr>
        <p:blipFill>
          <a:blip r:embed="rId3"/>
          <a:stretch/>
        </p:blipFill>
        <p:spPr>
          <a:xfrm>
            <a:off x="4714920" y="2357280"/>
            <a:ext cx="4000320" cy="4214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00040" y="5643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начало </a:t>
            </a: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монах Нес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643280" y="428760"/>
            <a:ext cx="42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alibri"/>
              </a:rPr>
              <a:t>«Повесть временных л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695160" y="281160"/>
            <a:ext cx="796140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143680" y="1428840"/>
            <a:ext cx="3786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Мотивы «Повести…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дения о происхождении слав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исание территории Русской земли, о населявших её  в древности племенах и их обы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сказ об основании Киева и первых русских княз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вествование о принятии Христианства на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сказ о коварстве Святополка (сына Владимира) и о мудром княжении Ярослава Муд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57120" y="5500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«Се Повесть временных лет, откуда есть пошла Русская земля, кто в Киеве начал первый княжити, и откуда Русская земля стала ест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5f4ccebe47b4.jpg"/>
          <p:cNvPicPr/>
          <p:nvPr/>
        </p:nvPicPr>
        <p:blipFill>
          <a:blip r:embed="rId3"/>
          <a:stretch/>
        </p:blipFill>
        <p:spPr>
          <a:xfrm>
            <a:off x="785880" y="1500120"/>
            <a:ext cx="342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57120" y="285840"/>
            <a:ext cx="84297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Тес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Летописание на Руси нача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Х в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2. Первым летописцем был мон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Ни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ес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ильвес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3. Летопись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оизведение древнерусской литературы, содержащее погодную запись исторических собы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исторический док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повествование, содержащее наряду с вымышленными эпизодами сведения об исторических собы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4. В какой древней книге главной мыслью является призыв к миру между князь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«Апостол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«Повесть временных лет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«Поучение Владимира Монома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7:48:14Z</dcterms:created>
  <dc:creator>елена</dc:creator>
  <dc:description/>
  <dc:language>en-US</dc:language>
  <cp:lastModifiedBy>111</cp:lastModifiedBy>
  <dcterms:modified xsi:type="dcterms:W3CDTF">2012-11-09T19:11:03Z</dcterms:modified>
  <cp:revision>18</cp:revision>
  <dc:subject/>
  <dc:title>Слайд 1</dc:title>
</cp:coreProperties>
</file>