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A6E2-909B-4F32-BF9B-38BCAE70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C388-684C-4E20-AB02-D4D5DAC8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8E44-DE90-491E-A9F1-887CE04A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381-97FB-4F6D-949C-49EA003F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D1BC-4E81-4708-84DB-8B4CC4D4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EE34-7378-4284-AF4B-B61ECCDE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A33D-4405-4EE0-A4D8-8A881B8B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96FF-16FD-438B-B06F-416FFE31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9720-7C33-4FFF-8F81-BA443FEB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C9B5-D954-48E5-AD5E-D2570C3E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945B-0B5C-41C1-BF45-179D4B4C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D06A-EA43-4DA5-87A9-E19F95A6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3735-7F70-45E2-80A4-124E5810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133A-D1D1-4D77-BFA1-58696ECF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8706-BED2-4897-89DA-50ABAB45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BF0B-CA47-47FC-A2A4-D612ECD6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5B25-CA5F-4FC8-BB27-D8C65A48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7336-BC5E-49C6-8306-63805034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D313-9EBA-433E-BF1B-4FAC963A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4C9-DF21-4B44-A620-15B61DC5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79FA-6D5D-49FA-98C8-F179CB49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4D28-1B37-4DE9-AE70-DED9BEFE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0E3B-0263-4183-A535-DDED53C5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24FD-19CE-40EB-96F6-7F35D8D4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D06B-0360-4898-80CF-1A9B2416CB4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D45A-2AFF-4239-B25C-79CA51CAA16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Глагол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 be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 Simp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BS00559_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228600" y="228600"/>
            <a:ext cx="230040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Глагол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 be-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быть,находиться,являться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лагол 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to b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надлежит семье особых глагол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- </a:t>
            </a: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,we,they- </a:t>
            </a: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,she,it- </a:t>
            </a: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английском предложении глагол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егда ставится там,где в русском предложении он подразумевается. Я (</a:t>
            </a:r>
            <a:r>
              <a:rPr b="0" lang="ru-RU" sz="2800" spc="-1" strike="noStrike">
                <a:solidFill>
                  <a:srgbClr val="ff33cc"/>
                </a:solidFill>
                <a:latin typeface="Times New Roman"/>
              </a:rPr>
              <a:t>ес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из Англии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a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rom Engl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Употребление глагола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 be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лагол </a:t>
            </a: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to b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потребляется,когда мы говорим о т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) что это или кто это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ball.           She 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y sis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де или откуда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box.                They 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rom Engla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)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й(какая,какое,какие)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 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good sis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Утвердительная форма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a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up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sail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sing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tail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dolph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zoo keep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olicem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ar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hs teach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опросительная форма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вопросительной форме </a:t>
            </a: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am,is,ar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тавятся перед подлежащи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A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a pupi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ou a sailo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he a sing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e a tailo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 a dolphi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 zoo keepe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ou policeme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y maths teache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Отрицательная форма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отрицательной форме после </a:t>
            </a: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am,is,are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ы ставим</a:t>
            </a:r>
            <a:r>
              <a:rPr b="0" lang="ru-RU" sz="28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no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a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pupi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sail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sing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tail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dolph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ot zoo keep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ot policem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ot maths teac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9:23:39Z</dcterms:created>
  <dc:creator>папа</dc:creator>
  <dc:description/>
  <dc:language>en-US</dc:language>
  <cp:lastModifiedBy>папа</cp:lastModifiedBy>
  <dcterms:modified xsi:type="dcterms:W3CDTF">2005-11-13T17:43:24Z</dcterms:modified>
  <cp:revision>4</cp:revision>
  <dc:subject/>
  <dc:title>Глагол to be.</dc:title>
</cp:coreProperties>
</file>