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8A6-BC2D-447D-9123-D09E697F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255-2382-4EB4-92EB-99CBE98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CF9-FD6F-4047-BF8B-BAD5A937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8CF-3B4A-4E9D-A211-8AA2C34D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C9F0-F0EE-4D34-9456-785463BB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9522-FFF5-42CB-AD12-21092A67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DE77-2556-4669-B8B6-0F125EA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22C-BF2A-41CE-9529-7C22CBE0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CFC-22C4-4AFD-9B74-8BF6068E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1FD-A150-4C3C-8392-14FBC3C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BBF0-89EF-4483-AB18-E0B1817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168-FF97-462D-B197-559DAE1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A56F-4467-4EC2-BF3A-EA133D5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DF8A-9296-45F3-A6CC-4723D6E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5AD7-646C-473A-8F61-581C0A7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AD00-5436-4FA0-B0D0-D98CDFAA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AB47-98AE-4B14-BF62-CFBEF7EB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0EB-513D-4D99-A29B-1149E03A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0B8-0D80-41D4-B8F4-8D583B62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5DC-EC2F-409D-A3A5-6223EA4D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C9A-891D-4617-9434-F4329C09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B29-C71C-445F-AF2A-AA2B1DC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CEE-835A-4994-81C7-6C40C61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E07-2B36-48BA-9F96-1267E43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60B2-5F6F-40A9-A3C5-050C76149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E717-6E48-4E49-BF9C-58B80B4D75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РО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ФИНИТИ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ОДИН ИЗ СПОСОБОВ ВЫРАЖЕНИЯ БУДУЩЕ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3880" y="22096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OING T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fefde3"/>
              </a:gs>
              <a:gs pos="50000">
                <a:srgbClr val="cc6600"/>
              </a:gs>
              <a:gs pos="100000">
                <a:srgbClr val="fefde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GOING TO</a:t>
            </a: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cc00"/>
                </a:solidFill>
                <a:latin typeface="Times New Roman"/>
              </a:rPr>
              <a:t>используем, когда говорим о том, что собираемся сдел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I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m going to</a:t>
            </a: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 stay at home tomor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fefde3"/>
              </a:gs>
              <a:gs pos="50000">
                <a:srgbClr val="cc6600"/>
              </a:gs>
              <a:gs pos="100000">
                <a:srgbClr val="fefde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Время 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FUTURE SIMPLE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мы используем, когда договариваемся о чём-то, обещаем что-то или предсказываем, что что-то произойдё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will stay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at home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8d4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omorrow I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am going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to tow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o the circus to see the cl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am taking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my sister with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hat a lot of tricks ther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will be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will see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a man eating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nd a girl who walks on a w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will see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a snake that can r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are going to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have lots of f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9360">
            <a:solidFill>
              <a:srgbClr val="a1bd6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Choose the correct variant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hat do you want for lu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 think I … have chicken and some salad.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, am going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     -  John has come back from Eng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 know I … see him tonight.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, am going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     - I don’t know how to use this cam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t’s easy. I … you.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show, am showing, am going to sh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re you going shopp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es, I … something for dinner.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buy, am going to bu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    - I’ve already bought tickets. We … to London tomorrow.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fly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flying, are going to f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320" y="1752480"/>
          <a:ext cx="762012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ОРОТ </a:t>
            </a:r>
            <a:r>
              <a:rPr b="1" lang="en-US" sz="4800" spc="-1" strike="noStrike" u="sng">
                <a:solidFill>
                  <a:srgbClr val="339966"/>
                </a:solidFill>
                <a:uFillTx/>
                <a:latin typeface="Times New Roman"/>
              </a:rPr>
              <a:t>BE</a:t>
            </a:r>
            <a:r>
              <a:rPr b="1" lang="ru-RU" sz="4800" spc="-1" strike="noStrike" u="sng">
                <a:solidFill>
                  <a:srgbClr val="339966"/>
                </a:solidFill>
                <a:uFillTx/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339966"/>
                </a:solidFill>
                <a:uFillTx/>
                <a:latin typeface="Times New Roman"/>
              </a:rPr>
              <a:t>GOING TO</a:t>
            </a: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МЫ ПРИМЕНЯЕМ, КОГДА ГОВОРИМ О ТОМ, ЧТО СОБИРАЕМСЯ СДЕЛАТЬ В БУДУЩЕ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19240" y="762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MEMBER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m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visit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re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plant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is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play the d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is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swim in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is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chase a m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re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watch a cart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re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dress up as gh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ey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re going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to fly to the m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838080"/>
            <a:ext cx="320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FFIRMATIV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00600" y="83808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ТВЕРЖДЕ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4600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Am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to visit a frie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to plant a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he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to play the dr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she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to swim in the s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to chase a mo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we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to watch a cart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you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to dress up as ghos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 they </a:t>
            </a:r>
            <a:r>
              <a:rPr b="1" lang="en-US" sz="2800" spc="-1" strike="noStrike">
                <a:solidFill>
                  <a:srgbClr val="3694b6"/>
                </a:solidFill>
                <a:latin typeface="Times New Roman"/>
              </a:rPr>
              <a:t>going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to fly to the m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762120"/>
            <a:ext cx="35053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ESTIONS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52880" y="76212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ПРОСЫ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b4a7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m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visit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re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plant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is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play the d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h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is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swim in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is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chase a m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re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watch a cart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re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dress up as gh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They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re not going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to fly to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8380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EGATIVE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838080"/>
            <a:ext cx="3733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РИЦАНИЯ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PRESENT PROGRES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GOING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362320" y="83808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latin typeface="Arial"/>
              </a:rPr>
              <a:t>FU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gradFill rotWithShape="0">
            <a:gsLst>
              <a:gs pos="0">
                <a:srgbClr val="fefde3"/>
              </a:gs>
              <a:gs pos="50000">
                <a:srgbClr val="cc6600"/>
              </a:gs>
              <a:gs pos="100000">
                <a:srgbClr val="fefde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Время 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PRESENT PROGRESSIVE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мы используем, когда говорим о том, что уже точно определено и случится обязательн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am staying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at home tomorrow</a:t>
            </a: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09-05-10T14:05:32Z</dcterms:modified>
  <cp:revision>8</cp:revision>
  <dc:subject/>
  <dc:title>PowerPoint Presentation</dc:title>
</cp:coreProperties>
</file>