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1C5-0FAF-422D-9AFD-66F86007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3B8-196E-4E31-A360-74EFB30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27E-03CD-44F4-B0EF-58859E64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3AE-3ED3-4A1B-9BB3-92EAB621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9A9FD-F5A4-417D-B299-13EA2A73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CF2FD-1E75-484A-BC26-A7F5EACB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6838A-D028-4E4F-B4E4-EA30E15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A05FB-922B-42BA-A5F7-4CC10F41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E4714-7221-4458-989E-F9403F3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7035E-69BC-4ACB-93F7-74FEE0BE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76742-50BD-452D-A0FD-6719B03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9CC-6722-4073-8E3A-D9A0DB52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E7FE1-632B-47FF-B3CE-8EF2450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135F4-C3DB-4145-9422-D0ABD65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F3AA-9912-4E1B-9CCE-6DB69EC6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0A04F-5B8B-4BCF-86D7-97CB3595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CF4F2-5851-4B69-BC01-A31D3537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8D6-4689-4E9C-AAA5-0FD38234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5FE-2FA3-4E8F-A2BF-191F41B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812-BA46-44BA-8309-08B57136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260-A4C2-4069-91E2-4DDFDF8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84B-C9AB-4D4C-B90D-E2A1A92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14C-271C-4586-83A1-C179B683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E53-C4C7-43E9-8D8F-52DFA92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AB37-7CCE-45FE-8E7F-4DF096E4E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5F5C-1861-44F2-BED3-28BF5C0466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4"/>
          <p:cNvPicPr/>
          <p:nvPr/>
        </p:nvPicPr>
        <p:blipFill>
          <a:blip r:embed="rId1"/>
          <a:stretch/>
        </p:blipFill>
        <p:spPr>
          <a:xfrm>
            <a:off x="468360" y="260280"/>
            <a:ext cx="39592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История</a:t>
            </a: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вушка поднимает факел над головой и замирает. Её подруги опускают правые руки к земле, принося торжественную кля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3200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девушке подходит атлет. Юноша принимает факел и в сопровождении группы бегунов отправляется в п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763640" y="1125360"/>
            <a:ext cx="532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наслаждение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всем дорогам Греции люди спешили на празднества в Олимпию. Некоторые ехали верхом или на повозках, но большинство народа шло просто пешко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ц"/>
          <p:cNvPicPr/>
          <p:nvPr/>
        </p:nvPicPr>
        <p:blipFill>
          <a:blip r:embed="rId1"/>
          <a:stretch/>
        </p:blipFill>
        <p:spPr>
          <a:xfrm>
            <a:off x="1619280" y="1214280"/>
            <a:ext cx="56894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 спорт! Ты – зодчи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тя в празднествах принимали участие и присутствовали только мужчины, все равно число гостей измерялось многими тысячами. Олимпийский стадион, где происходил бег и другие гимнастические упражнения, вмещал 40 тысяч человек и был всегда переполнен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1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08000" y="1268280"/>
            <a:ext cx="532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О спорт! Ты – справедливость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тник, попавший в Олимпию после долгих дней пути, оглушен шумом многотысячной толпы, наполняющей священную рощу и достопримечательные места: храмы, жертвенники, стадион, ипподром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2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538280" y="1143000"/>
            <a:ext cx="60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вызов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ступает первый ден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. Он открыв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язаниями в бе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восходе солнц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даемся звук трубы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дьи и руководител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язаний в пурпуров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еяниях переходя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рез все поле на глазах у тысяч зрителей и занимают специально отведенные для них места возле старт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бег"/>
          <p:cNvPicPr/>
          <p:nvPr/>
        </p:nvPicPr>
        <p:blipFill>
          <a:blip r:embed="rId1"/>
          <a:stretch/>
        </p:blipFill>
        <p:spPr>
          <a:xfrm>
            <a:off x="179280" y="126828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благородство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бега начин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ьб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овал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сколько вид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ьбы: самый прост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них заключался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м, что противни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ходили друг проти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руга с голыми ру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20"/>
          <p:cNvPicPr/>
          <p:nvPr/>
        </p:nvPicPr>
        <p:blipFill>
          <a:blip r:embed="rId1"/>
          <a:stretch/>
        </p:blipFill>
        <p:spPr>
          <a:xfrm>
            <a:off x="53964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радость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торой день состязани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инается с пятиборья.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го входят, кроме бега 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ьбы, метание диска, копь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ыжк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21"/>
          <p:cNvPicPr/>
          <p:nvPr/>
        </p:nvPicPr>
        <p:blipFill>
          <a:blip r:embed="rId1"/>
          <a:stretch/>
        </p:blipFill>
        <p:spPr>
          <a:xfrm>
            <a:off x="539640" y="1268280"/>
            <a:ext cx="3195720" cy="521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8"/>
          <p:cNvPicPr/>
          <p:nvPr/>
        </p:nvPicPr>
        <p:blipFill>
          <a:blip r:embed="rId2"/>
          <a:stretch/>
        </p:blipFill>
        <p:spPr>
          <a:xfrm>
            <a:off x="5724360" y="2997360"/>
            <a:ext cx="31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О спорт! Ты – плодотворность</a:t>
            </a:r>
            <a:r>
              <a:rPr b="1" i="1" lang="ru-RU" sz="28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дний день игр посвящается состязаниям на ипподроме. Самым старинным и излюбленным видом этих состязании были бега колесниц, запряженных четверкой лошаде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в"/>
          <p:cNvPicPr/>
          <p:nvPr/>
        </p:nvPicPr>
        <p:blipFill>
          <a:blip r:embed="rId1"/>
          <a:stretch/>
        </p:blipFill>
        <p:spPr>
          <a:xfrm>
            <a:off x="1619280" y="1197000"/>
            <a:ext cx="568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прогресс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перь состязания окончены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нако празднество этим н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вершается, наступает оди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самых торжествен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ентов — раздача награ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шатаи снова торжестве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вляют име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бедителей в отдель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ревнова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дача наград происходит у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рама Зевс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22"/>
          <p:cNvPicPr/>
          <p:nvPr/>
        </p:nvPicPr>
        <p:blipFill>
          <a:blip r:embed="rId1"/>
          <a:stretch/>
        </p:blipFill>
        <p:spPr>
          <a:xfrm>
            <a:off x="250920" y="12682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История 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Создать у детей представления об олимпийских играх как мирного соревнования в целях физического совершенствования людей, в котором участвуют народы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знакомить дошкольников с доступными для детей этого возраста сведения из истории олимпийского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Способствовать формированию у детей интереса к занятиям физическими упражнениями через нравственный и эстетический опыт 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 спорт! Ты – 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ин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ржественное шествие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переди идут судьи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тем новы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оники в ярки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ных одеждах, 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ками на головах,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ах они держа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льмовые вет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бедитель олимпийских игр всю жизнь оставался почитаемым человек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og8"/>
          <p:cNvPicPr/>
          <p:nvPr/>
        </p:nvPicPr>
        <p:blipFill>
          <a:blip r:embed="rId1"/>
          <a:stretch/>
        </p:blipFill>
        <p:spPr>
          <a:xfrm>
            <a:off x="468360" y="1341360"/>
            <a:ext cx="4535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пятнадцать столетий Олимпия вообще как бы исчезла с лиц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же само её название было забы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всё же Олимпийские игры яркой звездой горели в памяти человечества. Свет этой звезды прошел сквозь века и вспыхнул с новой сил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15"/>
          <p:cNvPicPr/>
          <p:nvPr/>
        </p:nvPicPr>
        <p:blipFill>
          <a:blip r:embed="rId1"/>
          <a:stretch/>
        </p:blipFill>
        <p:spPr>
          <a:xfrm>
            <a:off x="1332000" y="119700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ужен был человек, котор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бы предан иде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такой человек наше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го звали Пьер де Куберт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 был совсем молоды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ловеком, когда высказа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ение о возрожден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шли столетия, и Олимпийские игры теперь благодаря ему – самый яркий праздник челове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27"/>
          <p:cNvPicPr/>
          <p:nvPr/>
        </p:nvPicPr>
        <p:blipFill>
          <a:blip r:embed="rId1"/>
          <a:stretch/>
        </p:blipFill>
        <p:spPr>
          <a:xfrm>
            <a:off x="468360" y="1125360"/>
            <a:ext cx="3598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йц"/>
          <p:cNvPicPr/>
          <p:nvPr/>
        </p:nvPicPr>
        <p:blipFill>
          <a:blip r:embed="rId1"/>
          <a:stretch/>
        </p:blipFill>
        <p:spPr>
          <a:xfrm>
            <a:off x="1403280" y="1052640"/>
            <a:ext cx="633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116000" y="1773360"/>
            <a:ext cx="67438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ланете, в нашем мире,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жилых материков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лют спортивные отряд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ризыв Олимпиа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Безимени-1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Безимени-2"/>
          <p:cNvPicPr/>
          <p:nvPr/>
        </p:nvPicPr>
        <p:blipFill>
          <a:blip r:embed="rId1"/>
          <a:stretch/>
        </p:blipFill>
        <p:spPr>
          <a:xfrm>
            <a:off x="324000" y="134136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Безимени-3-gif"/>
          <p:cNvPicPr/>
          <p:nvPr/>
        </p:nvPicPr>
        <p:blipFill>
          <a:blip r:embed="rId1"/>
          <a:stretch/>
        </p:blipFill>
        <p:spPr>
          <a:xfrm>
            <a:off x="468360" y="1413000"/>
            <a:ext cx="4680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Безимени-4"/>
          <p:cNvPicPr/>
          <p:nvPr/>
        </p:nvPicPr>
        <p:blipFill>
          <a:blip r:embed="rId1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Безимени-5"/>
          <p:cNvPicPr/>
          <p:nvPr/>
        </p:nvPicPr>
        <p:blipFill>
          <a:blip r:embed="rId1"/>
          <a:stretch/>
        </p:blipFill>
        <p:spPr>
          <a:xfrm>
            <a:off x="179280" y="1197000"/>
            <a:ext cx="46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2"/>
          <p:cNvPicPr/>
          <p:nvPr/>
        </p:nvPicPr>
        <p:blipFill>
          <a:blip r:embed="rId1"/>
          <a:stretch/>
        </p:blipFill>
        <p:spPr>
          <a:xfrm>
            <a:off x="1403280" y="1125360"/>
            <a:ext cx="6300720" cy="3167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ять колец, пять кругов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к пяти матер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к, который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, что спорт, как общий дру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народы приглаш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вой всемирный, мирный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генды разные, но во всех случая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ворится о том, что Гера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читал шестьсот стоп – расстояни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один стад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юда и пошло название стади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 Геракл принял участие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язаниях по бегу на одну стадию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в память о своей победе посади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берегу реки Алфей куст олив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тками которой награждалис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ом Олимпийские чемпи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erakl"/>
          <p:cNvPicPr/>
          <p:nvPr/>
        </p:nvPicPr>
        <p:blipFill>
          <a:blip r:embed="rId1"/>
          <a:stretch/>
        </p:blipFill>
        <p:spPr>
          <a:xfrm>
            <a:off x="395280" y="1413000"/>
            <a:ext cx="28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е игры проводились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вященном» для древних грек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руге Альтис, который называл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же Олим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достью всей Олимпии был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уя Зевса, находящаяся в храм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вса Олимпий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вестно, что маленьки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а Пелопоннеса постоя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евали друг с другом. Разорялис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ода, гибли плоды человеческог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емление людей к миру было заложено в идее олимпи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востока от Альти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ыкал стадион, южне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ложен ипподром. К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аду от Альтиса начиналис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йки, предназначенны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атлетов – жилища, 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же купальни и б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эти здания подолгу стоял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ыми. Ничто не нарушал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шины священного округ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 каждый пятый год, по мере приближения праздника Зевса, повседневная жизнь Олимпии резко менялась. Все готовились к любимейшему празднику – Олимпийским иг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олимп макет"/>
          <p:cNvPicPr/>
          <p:nvPr/>
        </p:nvPicPr>
        <p:blipFill>
          <a:blip r:embed="rId1"/>
          <a:stretch/>
        </p:blipFill>
        <p:spPr>
          <a:xfrm>
            <a:off x="324000" y="1268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всем греческим города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ъезжали специальные послы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сообщали о дне предстоящег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ликого празднества — знаменит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ах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озглашали условия священног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ра, который объявлялся на врем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здн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якие военные действия, где б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ни происходили, немедле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кращали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og1"/>
          <p:cNvPicPr/>
          <p:nvPr/>
        </p:nvPicPr>
        <p:blipFill>
          <a:blip r:embed="rId1"/>
          <a:stretch/>
        </p:blipFill>
        <p:spPr>
          <a:xfrm>
            <a:off x="539640" y="1268280"/>
            <a:ext cx="26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центрально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дионе город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толицы Олимпиад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жиг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й ог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является групп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вушек в белоснеж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ичных туниках. Од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молодых гречанок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ржит в руке факел. В сопровождении подруг она подходит к зеркальной лин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6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24000" y="1268280"/>
            <a:ext cx="46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йманные линзой солнечные лучи направляются на фак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нута и показывается лёгкий дым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щё мгновение – и вспыхивает пла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olimpia факел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258920" y="112536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Оператор</cp:lastModifiedBy>
  <dcterms:modified xsi:type="dcterms:W3CDTF">2015-01-18T12:23:26Z</dcterms:modified>
  <cp:revision>11</cp:revision>
  <dc:subject/>
  <dc:title>Слайд 1</dc:title>
</cp:coreProperties>
</file>