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F01-9E0F-44E1-A7AD-BD8F4C2E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61D-8330-4C21-BBA8-6837BF55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65C-AC29-4983-9F21-8A047530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DBA-16E9-4752-B55B-DBA448DE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9ACB-E9FF-4BC0-ADF1-1BD8DC43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7F77-BCAC-449C-A6F9-A30BF495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D94B-F00A-4708-ABF6-BDCEA148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6FC4-3AF2-4257-A0BD-72DC6158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38D-45AD-4F65-9A95-7330B4B2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6EFC-CE45-426C-9DB6-6DE68930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47FA-E3E9-4A32-8C1E-064C066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B0C-6D65-4FE7-AE05-F0BD5301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4831-6B59-4838-927D-69E40143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F920-E030-4836-85E5-59868725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3F4C-2BC2-4F8F-AAC3-07B1792D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171-8EB4-4921-A16F-5B8C9ECB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DD60-1897-413B-8550-AEE871CE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22C-AB98-476F-98F9-95561657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8FD-7A32-49C3-8043-5A00AFC1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CE0-C49A-465B-9433-F6FEA984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EA3-84E3-40EC-8072-9E6B87C3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E4A-BF60-41FA-8C7D-33D07DDB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01B-85DA-4A46-ACB6-F589ECC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D29-F239-48FE-918A-89CD59A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E29-784F-413D-977A-2BEED7B2B8BC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BA65-71E8-4BB8-91BD-7E1E4F67CC8C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785960" y="500040"/>
            <a:ext cx="5627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ксика</a:t>
            </a:r>
            <a:endParaRPr b="1" i="1" lang="en-US" sz="20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Рисунок 3" descr="Flag_of_Mexico.svg.png"/>
          <p:cNvPicPr/>
          <p:nvPr/>
        </p:nvPicPr>
        <p:blipFill>
          <a:blip r:embed="rId4"/>
          <a:stretch/>
        </p:blipFill>
        <p:spPr>
          <a:xfrm>
            <a:off x="1428840" y="2133720"/>
            <a:ext cx="60721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857160" y="0"/>
            <a:ext cx="73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праздники мексики</a:t>
            </a:r>
            <a:endParaRPr b="1" i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83778440_4000491_meksika1.jpg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>
            <a:off x="324360" y="285840"/>
            <a:ext cx="82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праздники мексики</a:t>
            </a:r>
            <a:endParaRPr b="1" i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5"/>
          <p:cNvSpPr txBox="1"/>
          <p:nvPr/>
        </p:nvSpPr>
        <p:spPr>
          <a:xfrm>
            <a:off x="3276720" y="189000"/>
            <a:ext cx="22017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люта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8" descr="10 MXP"/>
          <p:cNvPicPr/>
          <p:nvPr/>
        </p:nvPicPr>
        <p:blipFill>
          <a:blip r:embed="rId2"/>
          <a:stretch/>
        </p:blipFill>
        <p:spPr>
          <a:xfrm>
            <a:off x="250920" y="3357720"/>
            <a:ext cx="4105080" cy="1954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20 MXP"/>
          <p:cNvPicPr/>
          <p:nvPr/>
        </p:nvPicPr>
        <p:blipFill>
          <a:blip r:embed="rId3"/>
          <a:stretch/>
        </p:blipFill>
        <p:spPr>
          <a:xfrm>
            <a:off x="250920" y="1125360"/>
            <a:ext cx="4105080" cy="208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50 MXP"/>
          <p:cNvPicPr/>
          <p:nvPr/>
        </p:nvPicPr>
        <p:blipFill>
          <a:blip r:embed="rId4"/>
          <a:stretch/>
        </p:blipFill>
        <p:spPr>
          <a:xfrm>
            <a:off x="4500720" y="1125360"/>
            <a:ext cx="4319280" cy="207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100 MXP"/>
          <p:cNvPicPr/>
          <p:nvPr/>
        </p:nvPicPr>
        <p:blipFill>
          <a:blip r:embed="rId5"/>
          <a:stretch/>
        </p:blipFill>
        <p:spPr>
          <a:xfrm>
            <a:off x="4500720" y="3357720"/>
            <a:ext cx="4343400" cy="194436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7"/>
          <p:cNvSpPr/>
          <p:nvPr/>
        </p:nvSpPr>
        <p:spPr>
          <a:xfrm>
            <a:off x="571680" y="564372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ксиканская национальная валюта - песо (MXP)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ксиканское песо состоит из 100 сентаво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12"/>
          <p:cNvPicPr/>
          <p:nvPr/>
        </p:nvPicPr>
        <p:blipFill>
          <a:blip r:embed="rId2"/>
          <a:stretch/>
        </p:blipFill>
        <p:spPr>
          <a:xfrm>
            <a:off x="1143000" y="765000"/>
            <a:ext cx="7000920" cy="45212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 rot="516000">
            <a:off x="3033360" y="555120"/>
            <a:ext cx="365616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ремя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5400" y="5362920"/>
            <a:ext cx="581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Три часовых пояса. В Мехико время отстает от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московского на 9 часов,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 последнего воскресенья марта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по последнее воскресенье октября - на 10 часов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cancun-467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"/>
          <p:cNvSpPr/>
          <p:nvPr/>
        </p:nvSpPr>
        <p:spPr>
          <a:xfrm>
            <a:off x="2500200" y="214200"/>
            <a:ext cx="52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Arial"/>
              </a:rPr>
              <a:t>экономика мексики</a:t>
            </a:r>
            <a:endParaRPr b="1" i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107861_0.jpg"/>
          <p:cNvPicPr/>
          <p:nvPr/>
        </p:nvPicPr>
        <p:blipFill>
          <a:blip r:embed="rId1"/>
          <a:stretch/>
        </p:blipFill>
        <p:spPr>
          <a:xfrm>
            <a:off x="0" y="3990960"/>
            <a:ext cx="9144000" cy="28670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5282436_1f535459.jpg"/>
          <p:cNvPicPr/>
          <p:nvPr/>
        </p:nvPicPr>
        <p:blipFill>
          <a:blip r:embed="rId2"/>
          <a:stretch/>
        </p:blipFill>
        <p:spPr>
          <a:xfrm>
            <a:off x="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iguana-2.jpg"/>
          <p:cNvPicPr/>
          <p:nvPr/>
        </p:nvPicPr>
        <p:blipFill>
          <a:blip r:embed="rId3"/>
          <a:stretch/>
        </p:blipFill>
        <p:spPr>
          <a:xfrm>
            <a:off x="3071880" y="0"/>
            <a:ext cx="3809880" cy="43149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x_55f8c27e.jpg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5"/>
          <p:cNvSpPr/>
          <p:nvPr/>
        </p:nvSpPr>
        <p:spPr>
          <a:xfrm>
            <a:off x="32400" y="857160"/>
            <a:ext cx="91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Arial"/>
              </a:rPr>
              <a:t>животные мексики</a:t>
            </a:r>
            <a:endParaRPr b="1" i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4"/>
          <p:cNvPicPr/>
          <p:nvPr/>
        </p:nvPicPr>
        <p:blipFill>
          <a:blip r:embed="rId2"/>
          <a:stretch/>
        </p:blipFill>
        <p:spPr>
          <a:xfrm>
            <a:off x="1476360" y="836640"/>
            <a:ext cx="6029280" cy="37353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1258920" y="189000"/>
            <a:ext cx="646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полнительная информация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Блок-схема: процесс 4"/>
          <p:cNvSpPr/>
          <p:nvPr/>
        </p:nvSpPr>
        <p:spPr>
          <a:xfrm>
            <a:off x="142920" y="4643280"/>
            <a:ext cx="9001080" cy="2071800"/>
          </a:xfrm>
          <a:prstGeom prst="flowChartProcess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Дополнительная информация: Валюта: мексиканские. песо Язык: испанский Религия: католицизм Государственный праздник:16 сентября Административно территориальное устройство: федеративная республика ISO код страны: MEX Общепринятое сокращение: MX Гимн, Страна является членом ООН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2"/>
          <p:cNvSpPr/>
          <p:nvPr/>
        </p:nvSpPr>
        <p:spPr>
          <a:xfrm>
            <a:off x="357120" y="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Arial"/>
              </a:rPr>
              <a:t>известные люди мексики</a:t>
            </a:r>
            <a:endParaRPr b="1" i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Рисунок 3" descr="1348319991_hulio-sezaro.jpg"/>
          <p:cNvPicPr/>
          <p:nvPr/>
        </p:nvPicPr>
        <p:blipFill>
          <a:blip r:embed="rId1"/>
          <a:stretch/>
        </p:blipFill>
        <p:spPr>
          <a:xfrm>
            <a:off x="285840" y="2000160"/>
            <a:ext cx="3786120" cy="48578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0" y="58420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Гонсалес, Хулио Сезар Мексиканский боксёр-профессионал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6" descr="b4498104436e84fbffb29e58105f5e0414190.jpg"/>
          <p:cNvPicPr/>
          <p:nvPr/>
        </p:nvPicPr>
        <p:blipFill>
          <a:blip r:embed="rId2"/>
          <a:stretch/>
        </p:blipFill>
        <p:spPr>
          <a:xfrm>
            <a:off x="4143240" y="2071800"/>
            <a:ext cx="3649680" cy="4554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4429080" y="5429160"/>
            <a:ext cx="180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Гарсия, Андрес актер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9"/>
          <p:cNvSpPr txBox="1"/>
          <p:nvPr/>
        </p:nvSpPr>
        <p:spPr>
          <a:xfrm>
            <a:off x="1928880" y="285840"/>
            <a:ext cx="50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а Мексики</a:t>
            </a:r>
            <a:endParaRPr b="1" i="1" lang="en-US" sz="2000" spc="1" strike="noStrike">
              <a:ln w="25560">
                <a:solidFill>
                  <a:srgbClr val="3333cc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Рисунок 3" descr="Mexica_map.gif"/>
          <p:cNvPicPr/>
          <p:nvPr/>
        </p:nvPicPr>
        <p:blipFill>
          <a:blip r:embed="rId2"/>
          <a:stretch/>
        </p:blipFill>
        <p:spPr>
          <a:xfrm>
            <a:off x="357120" y="1185840"/>
            <a:ext cx="82868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 rot="547200">
            <a:off x="3059280" y="-171000"/>
            <a:ext cx="2655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1" i="1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6" descr="D4EEF2EEE3F0E0F4E8FF20CCE5EAF1E8EAE82E20EFEEE4E2EEE4EDEEE520EEE7E5F0EE"/>
          <p:cNvPicPr/>
          <p:nvPr/>
        </p:nvPicPr>
        <p:blipFill>
          <a:blip r:embed="rId2"/>
          <a:stretch/>
        </p:blipFill>
        <p:spPr>
          <a:xfrm>
            <a:off x="179280" y="1052640"/>
            <a:ext cx="3672000" cy="24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15390016"/>
          <p:cNvPicPr/>
          <p:nvPr/>
        </p:nvPicPr>
        <p:blipFill>
          <a:blip r:embed="rId3"/>
          <a:stretch/>
        </p:blipFill>
        <p:spPr>
          <a:xfrm>
            <a:off x="179280" y="3551400"/>
            <a:ext cx="3218040" cy="3117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7806_0.jpg"/>
          <p:cNvPicPr/>
          <p:nvPr/>
        </p:nvPicPr>
        <p:blipFill>
          <a:blip r:embed="rId4"/>
          <a:stretch/>
        </p:blipFill>
        <p:spPr>
          <a:xfrm>
            <a:off x="4572000" y="1143000"/>
            <a:ext cx="4143240" cy="54738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4214880" y="114300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убтропический на севере, тропический на юге. Чем на побережье, где температура воздуха не опускается ниже +20С даже зимой. В северной части Мексики зимой выпадает незначительный снег. На курортах температура от +22 С (зимой) до +35 С (летом).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2050920" y="0"/>
            <a:ext cx="507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latin typeface="Impact"/>
              </a:rPr>
              <a:t>Государственный строй</a:t>
            </a:r>
            <a:endParaRPr b="1" i="1" lang="en-US" sz="2000" spc="1" strike="noStrike">
              <a:ln w="31680">
                <a:solidFill>
                  <a:srgbClr val="000000"/>
                </a:solidFill>
                <a:miter/>
              </a:ln>
              <a:solidFill>
                <a:srgbClr val="7030a0"/>
              </a:solidFill>
              <a:latin typeface="Impact"/>
              <a:ea typeface="Impact"/>
            </a:endParaRPr>
          </a:p>
        </p:txBody>
      </p:sp>
      <p:pic>
        <p:nvPicPr>
          <p:cNvPr id="92" name="Picture 10" descr="11"/>
          <p:cNvPicPr/>
          <p:nvPr/>
        </p:nvPicPr>
        <p:blipFill>
          <a:blip r:embed="rId2"/>
          <a:stretch/>
        </p:blipFill>
        <p:spPr>
          <a:xfrm>
            <a:off x="5003640" y="836640"/>
            <a:ext cx="3965760" cy="4824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54570938_2.jpg"/>
          <p:cNvPicPr/>
          <p:nvPr/>
        </p:nvPicPr>
        <p:blipFill>
          <a:blip r:embed="rId3"/>
          <a:stretch/>
        </p:blipFill>
        <p:spPr>
          <a:xfrm>
            <a:off x="571680" y="928800"/>
            <a:ext cx="3843000" cy="4800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642960" y="578628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714240" y="5357880"/>
            <a:ext cx="771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едеративная республика. Глава государства – президент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конодательный орган - двухпалатный Национальный конгресс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2"/>
          <p:cNvPicPr/>
          <p:nvPr/>
        </p:nvPicPr>
        <p:blipFill>
          <a:blip r:embed="rId2"/>
          <a:stretch/>
        </p:blipFill>
        <p:spPr>
          <a:xfrm>
            <a:off x="179280" y="1125360"/>
            <a:ext cx="4321440" cy="5446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4"/>
          <p:cNvPicPr/>
          <p:nvPr/>
        </p:nvPicPr>
        <p:blipFill>
          <a:blip r:embed="rId3"/>
          <a:stretch/>
        </p:blipFill>
        <p:spPr>
          <a:xfrm>
            <a:off x="4643280" y="1125360"/>
            <a:ext cx="4311720" cy="551844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2700360" y="0"/>
            <a:ext cx="3816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 </a:t>
            </a:r>
            <a:endParaRPr b="1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2519280" y="214200"/>
            <a:ext cx="376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Arial"/>
              </a:rPr>
              <a:t>население</a:t>
            </a: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437040" y="6143760"/>
            <a:ext cx="32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коло 93,6 млн. человек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pop3"/>
          <p:cNvPicPr/>
          <p:nvPr/>
        </p:nvPicPr>
        <p:blipFill>
          <a:blip r:embed="rId2"/>
          <a:stretch/>
        </p:blipFill>
        <p:spPr>
          <a:xfrm>
            <a:off x="0" y="785880"/>
            <a:ext cx="4537080" cy="36338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"/>
          <p:cNvSpPr txBox="1"/>
          <p:nvPr/>
        </p:nvSpPr>
        <p:spPr>
          <a:xfrm>
            <a:off x="3132000" y="0"/>
            <a:ext cx="26542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c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1" i="1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ffc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Рисунок 4" descr="148032597_enl.jpg"/>
          <p:cNvPicPr/>
          <p:nvPr/>
        </p:nvPicPr>
        <p:blipFill>
          <a:blip r:embed="rId3"/>
          <a:stretch/>
        </p:blipFill>
        <p:spPr>
          <a:xfrm>
            <a:off x="4476600" y="785880"/>
            <a:ext cx="4667400" cy="37861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357120" y="36565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Государственный испанский,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но широко распространен и английский язык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В курортных зонах, в магазинах и ресторанах в ходу английский,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французский и немецкий языки, в провинции они не распространены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мимо этого местные этнические группы говорят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 своих родных языках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908000" y="189000"/>
            <a:ext cx="4743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топримечательности</a:t>
            </a:r>
            <a:endParaRPr b="1" i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Picture 6" descr="6"/>
          <p:cNvPicPr/>
          <p:nvPr/>
        </p:nvPicPr>
        <p:blipFill>
          <a:blip r:embed="rId2"/>
          <a:stretch/>
        </p:blipFill>
        <p:spPr>
          <a:xfrm>
            <a:off x="179280" y="1197000"/>
            <a:ext cx="3961080" cy="33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7"/>
          <p:cNvPicPr/>
          <p:nvPr/>
        </p:nvPicPr>
        <p:blipFill>
          <a:blip r:embed="rId3"/>
          <a:stretch/>
        </p:blipFill>
        <p:spPr>
          <a:xfrm>
            <a:off x="4427640" y="119700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9"/>
          <p:cNvPicPr/>
          <p:nvPr/>
        </p:nvPicPr>
        <p:blipFill>
          <a:blip r:embed="rId2"/>
          <a:stretch/>
        </p:blipFill>
        <p:spPr>
          <a:xfrm>
            <a:off x="214200" y="1143000"/>
            <a:ext cx="5543640" cy="50799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2714760" y="214200"/>
            <a:ext cx="34430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лигия</a:t>
            </a:r>
            <a:endParaRPr b="1" i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8" descr="10"/>
          <p:cNvPicPr/>
          <p:nvPr/>
        </p:nvPicPr>
        <p:blipFill>
          <a:blip r:embed="rId5"/>
          <a:stretch/>
        </p:blipFill>
        <p:spPr>
          <a:xfrm>
            <a:off x="5286240" y="1143000"/>
            <a:ext cx="3678480" cy="2747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007680" y="4146840"/>
            <a:ext cx="199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Господствует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Христианство,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97% - католики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3132000" y="0"/>
            <a:ext cx="2503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Impact"/>
              </a:rPr>
              <a:t>Столиц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Impact"/>
              <a:ea typeface="Impact"/>
            </a:endParaRPr>
          </a:p>
        </p:txBody>
      </p:sp>
      <p:pic>
        <p:nvPicPr>
          <p:cNvPr id="113" name="Picture 6" descr="1"/>
          <p:cNvPicPr/>
          <p:nvPr/>
        </p:nvPicPr>
        <p:blipFill>
          <a:blip r:embed="rId2"/>
          <a:stretch/>
        </p:blipFill>
        <p:spPr>
          <a:xfrm>
            <a:off x="214200" y="1643040"/>
            <a:ext cx="4897440" cy="497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3"/>
          <p:cNvPicPr/>
          <p:nvPr/>
        </p:nvPicPr>
        <p:blipFill>
          <a:blip r:embed="rId3"/>
          <a:stretch/>
        </p:blipFill>
        <p:spPr>
          <a:xfrm>
            <a:off x="5292720" y="1700280"/>
            <a:ext cx="3672000" cy="50148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2500200" y="4857840"/>
            <a:ext cx="66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00000"/>
                </a:solidFill>
                <a:latin typeface="Arial"/>
              </a:rPr>
              <a:t>мехико</a:t>
            </a:r>
            <a:endParaRPr b="1" i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6:19:47Z</dcterms:created>
  <dc:creator>Мирный</dc:creator>
  <dc:description/>
  <dc:language>en-US</dc:language>
  <cp:lastModifiedBy>Николай Малышев</cp:lastModifiedBy>
  <dcterms:modified xsi:type="dcterms:W3CDTF">2014-11-22T14:01:59Z</dcterms:modified>
  <cp:revision>21</cp:revision>
  <dc:subject/>
  <dc:title>Слайд 1</dc:title>
</cp:coreProperties>
</file>