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F2E7-13B1-48E4-9B97-4187626C5F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5EDD06-327D-4176-A316-797DF3B4D9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773D10-3F09-4D9D-8552-5F12DBAF45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AD67-BE67-4132-862E-75C202B1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0352-A3B9-4824-9DC6-18841C78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E4E2-4A52-49D4-890D-CDF943AE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B0A0-6732-4221-816B-8FB98EA4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B6A4-2794-4A5A-AACC-8432D956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B2D3-CAD4-4225-A211-4D96E67F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2A00-3B27-4706-AB6C-934F46F3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F8AD-756C-4BB3-AC9F-BBB28FB2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F66E-9257-4140-872F-6F68CCB9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69C8-3B4B-46D5-ABA4-24C49217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1262-276C-4929-BC7B-D7AE42D8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ED96-BD1F-486A-ABCF-348760E5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8858-7447-4A10-BCC0-590C29B9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4769-6420-438D-9542-26D14E79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5BC0-0545-48AC-B658-F076A7F5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4B94-E795-4FE5-8B80-BDEF9B17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A1E5-1A7E-435D-AD23-72EBBAD4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9C956-E7D8-4C07-9519-ACEA2F3F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6B180-BDD3-48DB-A4C3-478373B3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BEE62-131D-4B95-ABEB-669900F9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1BC17-2152-4CEC-BDBC-79FAF7B1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5495C-F71C-4821-A014-D7F4C132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ACD6-76D7-47B2-905F-D962D941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B08C4-5A7C-4A80-9398-C7031152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4AD98-2DD5-462A-8127-22905F40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B7397-186B-44F7-8075-923B0C74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AA011-38E8-432F-8BB0-51CA7F80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0CD86-5397-470A-874B-0E4B5579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60C93-F650-49CF-8564-5FF481F5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CB608-F352-4534-A449-4D09B9B86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D41BA-51D3-41A3-AE33-62AA4F20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9BA26-CE82-4B16-B2D1-2199195F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2B976-313D-4C13-983C-F4D8F5F3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DBA8-0453-4993-9EE5-9F03E4C0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9DB81-9603-4F54-9744-8AD6C996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D24BB-BB37-4575-81F6-C08B415A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6365F-B847-4577-87B3-2C4E1077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01E5A-3C71-4FCC-B0AE-8990EA06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7053B-D7A5-4645-B1C1-8E28E618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55C64-780E-485B-9E68-8AE4ED3E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7C906-CA7F-464C-9005-D2467DAE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1D0A9-2663-4CF9-868B-E948A948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C9A7D-237E-4F0D-9FCE-F572145A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7EBA1-7C76-4564-9F67-09D7E621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393E-F682-4C5E-9DB4-A2D20636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9B404-4579-4523-A9E4-9F660DF9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14474-28DE-4517-9670-0EEEC1DE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CF59F-E9E3-4AFB-9AC6-4DF6FFF7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FC284-30BA-474E-BF04-CE72F7BB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86B38-FFD8-42DE-B4AE-15A6D02A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86EB9-1AB9-494D-B22F-B433523B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5E717-32AB-4C46-B7A8-1D5F42B6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D22D4-1330-46F2-BF3D-B779D3F7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C1EF9-BB94-473A-BCD5-B06F6A2B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A53BC-0681-4FE7-A428-4538D471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8CEB-C906-423E-89CE-2863BD3A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A9BA6-9B23-435C-A079-3744CB17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F4574-C215-46B0-94F1-6C682298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E5674-F444-4684-88F7-690569AE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BBCEF-E060-4671-B763-794B9F21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D6309-62F1-46D5-960D-B7C20BF9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9F1ED-E10F-411E-9D98-659DC7ED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25376-793A-4EE1-B0E3-C544ED56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CF626-DC73-4AE6-8126-B7A1FD88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53E4F-F0AF-4DAF-8FBA-421E11B8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2A213-0CD8-46FF-B0C3-714BA5BB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1388-C638-4207-9EC3-8BE88CDC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04CF0-B864-422B-8921-7673F092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6585E-7CD2-4DFD-AEEA-3A943ECC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46594-8E9A-48A5-8924-A968D995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2A9B6-6393-4D07-942A-67212342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1CF6F-1E32-43D4-8EAA-D8E14B8F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13307-FA0E-4631-A7DA-1F3B9E3C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7B642-1214-4F93-A285-56F166E7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58038-53B2-4197-9C58-14D9E9CB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2DE50-B469-470F-A8E1-A33E62A4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208E2-6BBB-4CB5-8D00-3732F8AE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6A5F-85EF-4D88-969A-1B72CA0B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5E616-8045-4105-87C9-B57C66DD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A7723-6307-46F6-AA66-8A7E7E7D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05681-01DA-4429-AF38-7F680A1F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BBE03-C905-4F52-99A9-B5EA09C8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F73A4-3B2E-4459-B51F-A7F78A9E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4B92-F9A0-45AD-B55B-193D248B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7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00CD-6C16-4A6B-B308-941DFBC58F7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7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D525-5EE0-4EDF-912A-4872E6CCADC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7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17D6-E46A-4E58-972A-BFC4CD98906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7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10DF-4987-4353-A2C5-1995F90497F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7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6552-AF75-4AC7-A133-AC040BCB3E0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7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CA59-A9CD-4A53-B596-3D7EA14DAB8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7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4A70-5196-4BC3-A190-7A1CAC58F1C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одительское собрание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в 3 класс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371600" y="1999800"/>
            <a:ext cx="7058160" cy="3638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7400" spc="-1" strike="noStrike">
                <a:solidFill>
                  <a:srgbClr val="c0654c"/>
                </a:solidFill>
                <a:latin typeface="Times New Roman"/>
                <a:ea typeface="Times New Roman"/>
              </a:rPr>
              <a:t>«Мой ребёнок становится трудным…»</a:t>
            </a:r>
            <a:endParaRPr b="0" lang="en-US" sz="7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519120" y="5465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14280" y="49968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едлагаю для обсуждения следующие вопросы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857240"/>
            <a:ext cx="74995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причины трудности ребёнк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как вести себя с трудным ребёнком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способы решения проблем в общении с ребёнк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нке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нет контакта с родителями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непонимание в семье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неприятие ровесниками, одноклассниками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влияние «плохой» компании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влияние улицы, телевизор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мало занимаются детьми, не уделяют должного внимания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ребёнок рождается таким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частые скандалы в семье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ичины детской неуправляемости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Причина первая – борьба за внимание родителе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послушание – это тоже возможность привлечь к себе внимание, заявить о себе, если о тебе забыли взрослые. Внимание необходимо любому человеку для эмоционального благополучия, а тем более – ребёнк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ctr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Причина вторая – борьба за самоутверждени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бёнок объявляет войну бесконечным указаниям, замечаниям и опасениям взрослых. Он ждёт доверия к себе. Он хочет решать сам, это заложено в его природе – нельзя прожить жизнь на опыте взрослы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000080" y="-360"/>
            <a:ext cx="7934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Причина третья – жажда мщения окружающему миру, взрослым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ебёнок мстит за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еверие в его способности и возможности. Это относится и к педагогам в том числе: «Ты не мог решить эту задачу! Ты списал!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равнение не в его пользу со старшими или младшими братьями и сёстрам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 унижение друг друга в кругу семь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 потерю одного из родителей в результате развод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 появление в доме нового члена семьи, который становится более значимым, чем сам ребёнок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 несправедливость по отношению к себе и невыполненные взрослыми обеща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 родительскую ложь и хамелеонство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 чрезмерное проявление взрослыми любви друг к друг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ичины детской неуправляемости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85520" y="1214280"/>
            <a:ext cx="814860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Причина четвёртая – неверие в свой успе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чинами неверия в свой успех могут стать: низкие школьные результаты вне зависимости от приложенных ребёнком усилий, низкая самооценка, поощряемая педагогами и семьёй, плохие взаимоотношения в классе со сверстниками, откровенная изоляция ребёнка, отсутствие возможности проявить себя, свои способности и ум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28480" y="4284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Как себя вести с трудным ребёнком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спокойно выслушивать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разговаривать, опираясь на доверительные отноше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найти контакт;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заинтересовать его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уделять больше внимания, любв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28480" y="571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Меры воспитательного воздействия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1928520"/>
            <a:ext cx="7499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«Авторитет необходим в семье. Он основывается на вашей гражданской деятельности, на вашем гражданском чувстве, на вашем знании жизни ребёнка, на вашей помощи ему и на вашей ответственности за его воспитание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А.С. Макаренко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«Родительское требование к себе, родительское уважение к своей семье, родительский контроль над каждым своим шагом – вот первый и самый главный метод воспитания»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А.С. Макаренк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итч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52480" y="1752480"/>
            <a:ext cx="82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одной общине жили разные люди. Их объединяло стремление к самосовершенствованию. Общиной руководил Мудрый Наставник. Однажды ему необходимо было уехать на длительный срок. Вместо себя он оставил руководить общиной своего заместителя – милую и симпатичную женщину. Уезжая, он собрал всю общину и при всех вручил женщине тетрадь, в которую он попросил записывать все проступки членов общины, независимо от их значимости. Пока его не было, главным нарушителем спокойствия общины был один-единственный живший в ней мальчик. Меньше всего нарушений было у заместителя.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500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b0f0"/>
                </a:solidFill>
                <a:latin typeface="Corbel"/>
              </a:rPr>
              <a:t>        </a:t>
            </a:r>
            <a:r>
              <a:rPr b="0" lang="ru-RU" sz="4300" spc="-1" strike="noStrike">
                <a:solidFill>
                  <a:srgbClr val="c0654c"/>
                </a:solidFill>
                <a:latin typeface="Corbel"/>
              </a:rPr>
              <a:t>Задачи собрания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TextBox 9"/>
          <p:cNvSpPr/>
          <p:nvPr/>
        </p:nvSpPr>
        <p:spPr>
          <a:xfrm>
            <a:off x="1928880" y="1428840"/>
            <a:ext cx="7000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ознакомить родителей с причинами, которые стимулируют плохое поведение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Формировать у родителей культуру принятия трудностей, связанных с проблемами в воспитании их ребё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Развивать умения поиска выхода в трудных ситуациях общения с такими дет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142640" y="285480"/>
            <a:ext cx="779148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сле возвращения из путешествия руководитель общины собрал собрание. На собрании он объявил, что хочет раздать вознаграждение за поведение членам общины во время его отсутствия. Первым он подозвал к себе мальчика и вручил ему такую пачку денег, что все оторопели. Другим он тоже выдал премии ,но они были гораздо меньше, чем та, которую получил мальчик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еньше всех получила его заместитель. На этом собрание закончилось, и все, недоумевая, разошлись. Лишь только мальчик никак не хотел мириться с таким положением вещей. Ему не терпелось узнать, почему именно ему достались незаслуженные деньг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6786720" y="5256360"/>
            <a:ext cx="214308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28800" y="214200"/>
            <a:ext cx="8005680" cy="60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 этим вопросом он пришёл к наставнику.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«Деньги твои. Ты их заработал. Без конфликтов, друг мой, невозможно никакое внутренне развитие. Конфликты, причиной которых ты становился чаще всех, нельзя организовать нарочно. В отличие от других, ты вёл себя естественно, не оглядываясь на тетрадь, которую я дал своему заместителю. А это дорогого стоит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», - сказал ему наставник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альчик повернулся и ушёл, немногое поняв. Уже вдогонку ему, но как бы для себя, Учитель сказал: « Эта история – не индульгенция для хулигана. Она для тех, кто за любым поступком видит необходимость осуждения и кары.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Она для всех нас, стоящих друг к другу. В первую очередь она важна не тем, кого воспитывают. А тем, кто воспитывает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».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7215120" y="5429160"/>
            <a:ext cx="16574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тоги собра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Задача родителей – проанализировать свои подходы к воспитанию, посмотреть на себя, приступая к воспитанию собственного ребён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7" name="Содержимое 3" descr="222.gif"/>
          <p:cNvPicPr/>
          <p:nvPr/>
        </p:nvPicPr>
        <p:blipFill>
          <a:blip r:embed="rId1"/>
          <a:stretch/>
        </p:blipFill>
        <p:spPr>
          <a:xfrm>
            <a:off x="3071880" y="4286160"/>
            <a:ext cx="4357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1744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200" spc="-1" strike="noStrike">
                <a:solidFill>
                  <a:srgbClr val="572314"/>
                </a:solidFill>
                <a:latin typeface="Monotype Corsiva"/>
              </a:rPr>
              <a:t>5 СОВЕТОВ РОДИТЕЛЯМ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06160"/>
            <a:ext cx="468648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1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 унижайте и не оскорбляйте ребенка!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1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 навешивайте ярлыки типа: “растяпа”, лодырь”, “неряха” и т. д. - это подрывает самоуважение и снижает самооценк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збегайте постоянных одергиваний и неоправданных запрет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тделяйте поступок ребенка от его личности: “Я люблю тебя, но то, как ты поступил, не одобряю”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бъясните, как можно сгладить последствия плохого поступк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тличайте все позитивные изменения в поведении ребен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0" name="Picture 5" descr=""/>
          <p:cNvPicPr/>
          <p:nvPr/>
        </p:nvPicPr>
        <p:blipFill>
          <a:blip r:embed="rId1"/>
          <a:stretch/>
        </p:blipFill>
        <p:spPr>
          <a:xfrm>
            <a:off x="5715000" y="4000680"/>
            <a:ext cx="2978280" cy="22381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2133720"/>
            <a:ext cx="81532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6" descr=""/>
          <p:cNvPicPr/>
          <p:nvPr/>
        </p:nvPicPr>
        <p:blipFill>
          <a:blip r:embed="rId2"/>
          <a:stretch/>
        </p:blipFill>
        <p:spPr>
          <a:xfrm>
            <a:off x="5500800" y="428760"/>
            <a:ext cx="3324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дачи и терпения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4" name="Содержимое 3" descr="222.gif"/>
          <p:cNvPicPr/>
          <p:nvPr/>
        </p:nvPicPr>
        <p:blipFill>
          <a:blip r:embed="rId1"/>
          <a:stretch/>
        </p:blipFill>
        <p:spPr>
          <a:xfrm>
            <a:off x="2327400" y="2319480"/>
            <a:ext cx="57150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6"/>
          <p:cNvSpPr/>
          <p:nvPr/>
        </p:nvSpPr>
        <p:spPr>
          <a:xfrm>
            <a:off x="4071960" y="38577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28480" y="4284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Трудный ребёнок – это ребёнок, который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1" i="1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не идёт на контакт с родителями, необщителен, замкнут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нарушает распорядок дн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портит домашнее имущество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издевается над младшими и стариками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дерётся, хамит, грубит, не слушается взрослых, делает всё по-своему, не обращая внимания на окружающих его людей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мешает проводить уроки, ничем не интересуется, делает пакости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не может найти общий язык с окружающими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2" descr="http://im6-tub-ru.yandex.net/i?id=531154313-07-72"/>
          <p:cNvPicPr/>
          <p:nvPr/>
        </p:nvPicPr>
        <p:blipFill>
          <a:blip r:embed="rId1"/>
          <a:srcRect l="0" t="0" r="0" b="5215"/>
          <a:stretch/>
        </p:blipFill>
        <p:spPr>
          <a:xfrm>
            <a:off x="7358040" y="928800"/>
            <a:ext cx="1785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Трудный ребёнок – это ребёнок, который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портит домашнее и школьное имущество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издевается над младшими и стариками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выходит за рамки приличи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мешает проведению уроков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не выполняет школьные требовани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прогуливает учебные занятия, не хочет учитьс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постоянно обманывает, ворует, ругается матом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испорчен улицей, связан с плохой компанией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2" descr="http://im6-tub-ru.yandex.net/i?id=531154313-07-72"/>
          <p:cNvPicPr/>
          <p:nvPr/>
        </p:nvPicPr>
        <p:blipFill>
          <a:blip r:embed="rId1"/>
          <a:srcRect l="0" t="0" r="0" b="5215"/>
          <a:stretch/>
        </p:blipFill>
        <p:spPr>
          <a:xfrm>
            <a:off x="7358040" y="5000760"/>
            <a:ext cx="1467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нкетирование дете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Если ты задержался после школы, то: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Если ты получишь плохую оценку, т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Диаграмма 3" descr=""/>
          <p:cNvPicPr/>
          <p:nvPr/>
        </p:nvPicPr>
        <p:blipFill>
          <a:blip r:embed="rId1"/>
          <a:stretch/>
        </p:blipFill>
        <p:spPr>
          <a:xfrm>
            <a:off x="1214280" y="3000240"/>
            <a:ext cx="3429000" cy="349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2" name="Диаграмма 5"/>
          <p:cNvGraphicFramePr/>
          <p:nvPr/>
        </p:nvGraphicFramePr>
        <p:xfrm>
          <a:off x="5429160" y="2646360"/>
          <a:ext cx="3143520" cy="3238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43" name="Диаграмма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9160" y="2646360"/>
                    <a:ext cx="314352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356760"/>
            <a:ext cx="365760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3. За плохую отметку тебя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276880" y="356760"/>
            <a:ext cx="365760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4. Если тебя родители ругают, то ты будешь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Диаграмма 5" descr=""/>
          <p:cNvPicPr/>
          <p:nvPr/>
        </p:nvPicPr>
        <p:blipFill>
          <a:blip r:embed="rId1"/>
          <a:stretch/>
        </p:blipFill>
        <p:spPr>
          <a:xfrm>
            <a:off x="1523880" y="1857240"/>
            <a:ext cx="3691080" cy="4429440"/>
          </a:xfrm>
          <a:prstGeom prst="rect">
            <a:avLst/>
          </a:prstGeom>
          <a:ln w="0">
            <a:noFill/>
          </a:ln>
        </p:spPr>
      </p:pic>
      <p:pic>
        <p:nvPicPr>
          <p:cNvPr id="348" name="Диаграмма 6" descr=""/>
          <p:cNvPicPr/>
          <p:nvPr/>
        </p:nvPicPr>
        <p:blipFill>
          <a:blip r:embed="rId2"/>
          <a:stretch/>
        </p:blipFill>
        <p:spPr>
          <a:xfrm>
            <a:off x="5572080" y="2357280"/>
            <a:ext cx="35719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434960" y="428760"/>
            <a:ext cx="3657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5. Если тебя накажут несправедливо ,ты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276880" y="428760"/>
            <a:ext cx="3657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6. Если тебя обидели. ты своих обидчиков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Диаграмма 10" descr=""/>
          <p:cNvPicPr/>
          <p:nvPr/>
        </p:nvPicPr>
        <p:blipFill>
          <a:blip r:embed="rId1"/>
          <a:stretch/>
        </p:blipFill>
        <p:spPr>
          <a:xfrm>
            <a:off x="5572080" y="1857240"/>
            <a:ext cx="3119400" cy="4675320"/>
          </a:xfrm>
          <a:prstGeom prst="rect">
            <a:avLst/>
          </a:prstGeom>
          <a:ln w="0">
            <a:noFill/>
          </a:ln>
        </p:spPr>
      </p:pic>
      <p:pic>
        <p:nvPicPr>
          <p:cNvPr id="352" name="Диаграмма 11" descr=""/>
          <p:cNvPicPr/>
          <p:nvPr/>
        </p:nvPicPr>
        <p:blipFill>
          <a:blip r:embed="rId2"/>
          <a:stretch/>
        </p:blipFill>
        <p:spPr>
          <a:xfrm>
            <a:off x="1214280" y="1857240"/>
            <a:ext cx="39052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434960" y="285480"/>
            <a:ext cx="3657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7. Если у тебя на душе плохо, ты обратишься к 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276880" y="285480"/>
            <a:ext cx="3657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8. Если в доме гост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Диаграмма 4" descr=""/>
          <p:cNvPicPr/>
          <p:nvPr/>
        </p:nvPicPr>
        <p:blipFill>
          <a:blip r:embed="rId1"/>
          <a:stretch/>
        </p:blipFill>
        <p:spPr>
          <a:xfrm>
            <a:off x="1357200" y="1857240"/>
            <a:ext cx="3714840" cy="4500720"/>
          </a:xfrm>
          <a:prstGeom prst="rect">
            <a:avLst/>
          </a:prstGeom>
          <a:ln w="0">
            <a:noFill/>
          </a:ln>
        </p:spPr>
      </p:pic>
      <p:pic>
        <p:nvPicPr>
          <p:cNvPr id="356" name="Диаграмма 5" descr=""/>
          <p:cNvPicPr/>
          <p:nvPr/>
        </p:nvPicPr>
        <p:blipFill>
          <a:blip r:embed="rId2"/>
          <a:stretch/>
        </p:blipFill>
        <p:spPr>
          <a:xfrm>
            <a:off x="5357880" y="1357200"/>
            <a:ext cx="3476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434960" y="285480"/>
            <a:ext cx="3657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9. Если о тебя говорят плохо, то твои родител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276880" y="285480"/>
            <a:ext cx="3657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10. Ты себя лучше чувствуешь, когда ты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Диаграмма 4" descr=""/>
          <p:cNvPicPr/>
          <p:nvPr/>
        </p:nvPicPr>
        <p:blipFill>
          <a:blip r:embed="rId1"/>
          <a:stretch/>
        </p:blipFill>
        <p:spPr>
          <a:xfrm>
            <a:off x="1523880" y="1785960"/>
            <a:ext cx="73342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ша</dc:creator>
  <dc:description/>
  <dc:language>en-US</dc:language>
  <cp:lastModifiedBy>Admin</cp:lastModifiedBy>
  <dcterms:modified xsi:type="dcterms:W3CDTF">2015-01-19T19:08:20Z</dcterms:modified>
  <cp:revision>17</cp:revision>
  <dc:subject/>
  <dc:title>Родительское собрание</dc:title>
</cp:coreProperties>
</file>