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8AE-9F9D-4D05-B748-15468689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679-2245-435C-915B-E991FE27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BAA-7F6D-46BB-A73C-BB6CD4E0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708-D5CF-4CFD-B720-EAC672C4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C97-EC96-42BE-BA65-2CFFA202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302-1676-4EF8-9AEC-615FFB8A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EE7-11C4-460C-B51B-E6110635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B19-8771-4354-B4AE-E2CB0DD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078-3C7C-4F96-ACBB-22A87D1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1F8-D114-4B34-A39B-168B88C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DB3-25FA-40BD-8967-12E76EA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30D-F32A-4A3C-A5F5-D5C76AF2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6DF8-055A-4C01-8251-625614F1B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МЫ ГОВОРИМ ПОЖАРУ – НЕТ!!!</a:t>
            </a:r>
            <a:br>
              <a:rPr sz="7200"/>
            </a:br>
            <a:br>
              <a:rPr sz="7200"/>
            </a:b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4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540036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в двери выйти можно, так и сделаем-уйдё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838 Расширенная коллекция картинок от tkemot (Показать 1 до 81) - ClipartLogo.com"/>
          <p:cNvPicPr/>
          <p:nvPr/>
        </p:nvPicPr>
        <p:blipFill>
          <a:blip r:embed="rId1"/>
          <a:stretch/>
        </p:blipFill>
        <p:spPr>
          <a:xfrm>
            <a:off x="2131920" y="1484280"/>
            <a:ext cx="5005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квартиры всех животны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 собою увед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Спасение животных &quot; Приколы на XA-XA.ORG: Тысячи фото, картинки, анекдоты, видео, флеш и других приколов!"/>
          <p:cNvPicPr/>
          <p:nvPr/>
        </p:nvPicPr>
        <p:blipFill>
          <a:blip r:embed="rId1"/>
          <a:stretch/>
        </p:blipFill>
        <p:spPr>
          <a:xfrm>
            <a:off x="4284720" y="3213000"/>
            <a:ext cx="4680000" cy="3022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Рисунки на тему безопасность гдз по алгебре алимов 10-11, сдадим домашку без проблем"/>
          <p:cNvPicPr/>
          <p:nvPr/>
        </p:nvPicPr>
        <p:blipFill>
          <a:blip r:embed="rId2"/>
          <a:stretch/>
        </p:blipFill>
        <p:spPr>
          <a:xfrm>
            <a:off x="206280" y="1052640"/>
            <a:ext cx="40737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Пожарная безопасность в школе - Пожарная безопасность - Картинки по ОБЖ"/>
          <p:cNvPicPr/>
          <p:nvPr/>
        </p:nvPicPr>
        <p:blipFill>
          <a:blip r:embed="rId1"/>
          <a:stretch/>
        </p:blipFill>
        <p:spPr>
          <a:xfrm>
            <a:off x="0" y="135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рь прикроем поплотнее, о пожаре сообщим и попросим всех соседей позвонить по 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Действия при пожаре"/>
          <p:cNvPicPr/>
          <p:nvPr/>
        </p:nvPicPr>
        <p:blipFill>
          <a:blip r:embed="rId1"/>
          <a:stretch/>
        </p:blipFill>
        <p:spPr>
          <a:xfrm>
            <a:off x="179280" y="2997360"/>
            <a:ext cx="3783240" cy="354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Задача каждого суметь грамотно сообщить о пожаре - Картинка 1443/54"/>
          <p:cNvPicPr/>
          <p:nvPr/>
        </p:nvPicPr>
        <p:blipFill>
          <a:blip r:embed="rId2"/>
          <a:stretch/>
        </p:blipFill>
        <p:spPr>
          <a:xfrm>
            <a:off x="5823000" y="2421000"/>
            <a:ext cx="3321000" cy="3321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День пожарной охраны"/>
          <p:cNvPicPr/>
          <p:nvPr/>
        </p:nvPicPr>
        <p:blipFill>
          <a:blip r:embed="rId3"/>
          <a:stretch/>
        </p:blipFill>
        <p:spPr>
          <a:xfrm>
            <a:off x="2916360" y="170028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С Днем работника пожарной охраны! :: Открытки. Листівки. UAinter.net = Поздравлялки"/>
          <p:cNvPicPr/>
          <p:nvPr/>
        </p:nvPicPr>
        <p:blipFill>
          <a:blip r:embed="rId1"/>
          <a:stretch/>
        </p:blipFill>
        <p:spPr>
          <a:xfrm>
            <a:off x="684360" y="3500280"/>
            <a:ext cx="5715000" cy="3019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онёк всегда  такой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хороший, и плохой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и светит, он и гре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оказничать умеет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жал, как ручеё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тарой травке огонё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е скажет кто – нибуд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он свой закончит путь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бы не было беды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знь свою ты берег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AMD и Autodesk продемонстрировали API OpenCL и плагин Bullet Physics для Maya 2012 14.08.11 :: Megatorrents.org"/>
          <p:cNvPicPr/>
          <p:nvPr/>
        </p:nvPicPr>
        <p:blipFill>
          <a:blip r:embed="rId1"/>
          <a:stretch/>
        </p:blipFill>
        <p:spPr>
          <a:xfrm>
            <a:off x="468360" y="3105000"/>
            <a:ext cx="4248000" cy="325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4249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ли-тили, тили-бом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горелся кошкин д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Рисунки на сказки самуила маршака - рисунки за линолеум"/>
          <p:cNvPicPr/>
          <p:nvPr/>
        </p:nvPicPr>
        <p:blipFill>
          <a:blip r:embed="rId1"/>
          <a:srcRect l="0" t="9448" r="0" b="11337"/>
          <a:stretch/>
        </p:blipFill>
        <p:spPr>
          <a:xfrm>
            <a:off x="108000" y="1628640"/>
            <a:ext cx="4678200" cy="495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Сказки для детей. Рассказы и сказки с картинками"/>
          <p:cNvPicPr/>
          <p:nvPr/>
        </p:nvPicPr>
        <p:blipFill>
          <a:blip r:embed="rId2"/>
          <a:stretch/>
        </p:blipFill>
        <p:spPr>
          <a:xfrm>
            <a:off x="4284720" y="2492280"/>
            <a:ext cx="4762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92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, два, три, четыр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и, четыре, раз, два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шагает дружно в ряд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НЫХ ПОЖАРНЫХ ВЕСЕЛЫЙ ОТ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В Ростове-на-Дону начались соревнования юных пожарных ФОТО Информационный портал Юга России krestianin.ru"/>
          <p:cNvPicPr/>
          <p:nvPr/>
        </p:nvPicPr>
        <p:blipFill>
          <a:blip r:embed="rId1"/>
          <a:stretch/>
        </p:blipFill>
        <p:spPr>
          <a:xfrm>
            <a:off x="395280" y="836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В Первоуральске пройдет I Всероссийский полевой лагерь &quot;Юный пожарный&quot;"/>
          <p:cNvPicPr/>
          <p:nvPr/>
        </p:nvPicPr>
        <p:blipFill>
          <a:blip r:embed="rId2"/>
          <a:stretch/>
        </p:blipFill>
        <p:spPr>
          <a:xfrm>
            <a:off x="4500720" y="549360"/>
            <a:ext cx="4457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5281560" cy="316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02040" cy="3902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жарный ном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ты ремонт затеял с газорезкой или сваркой, т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вь баллоны рядом, где ты работаешь с огнем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Вспышка газа привела к пожару в частном секторе Бердска"/>
          <p:cNvPicPr/>
          <p:nvPr/>
        </p:nvPicPr>
        <p:blipFill>
          <a:blip r:embed="rId1"/>
          <a:stretch/>
        </p:blipFill>
        <p:spPr>
          <a:xfrm>
            <a:off x="1332000" y="1413000"/>
            <a:ext cx="3816360" cy="253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Список пострадавших при взрыве газового баллона - Frant.me (Франтоб.ру)"/>
          <p:cNvPicPr/>
          <p:nvPr/>
        </p:nvPicPr>
        <p:blipFill>
          <a:blip r:embed="rId2"/>
          <a:stretch/>
        </p:blipFill>
        <p:spPr>
          <a:xfrm>
            <a:off x="4584600" y="2349360"/>
            <a:ext cx="4559400" cy="381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Рубрика: станция Смолино информационное агентство &quot;Мега-Урал&quot;"/>
          <p:cNvPicPr/>
          <p:nvPr/>
        </p:nvPicPr>
        <p:blipFill>
          <a:blip r:embed="rId3"/>
          <a:stretch/>
        </p:blipFill>
        <p:spPr>
          <a:xfrm>
            <a:off x="324000" y="3573360"/>
            <a:ext cx="48258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дь осторожен н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вогоднем праздник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Новогодние праздники без пожаров. - Новолукомль. Городской и…"/>
          <p:cNvPicPr/>
          <p:nvPr/>
        </p:nvPicPr>
        <p:blipFill>
          <a:blip r:embed="rId1"/>
          <a:stretch/>
        </p:blipFill>
        <p:spPr>
          <a:xfrm>
            <a:off x="395280" y="1582560"/>
            <a:ext cx="799308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Праздники и памятные даты.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ыстро и правильно реагируй на первые признаки пожара! Срочно звони   0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Услуги - Сигнализация пожарная, огнезащита в Ростовской области предложение и поиск услуг на AVITO.ru"/>
          <p:cNvPicPr/>
          <p:nvPr/>
        </p:nvPicPr>
        <p:blipFill>
          <a:blip r:embed="rId1"/>
          <a:stretch/>
        </p:blipFill>
        <p:spPr>
          <a:xfrm>
            <a:off x="5364000" y="2637000"/>
            <a:ext cx="3591000" cy="3552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В Кургане опять произошло ЧП в торговом центре. Всех посетителей эвакуировали, а магазин закрыли - новость на URA.ru"/>
          <p:cNvPicPr/>
          <p:nvPr/>
        </p:nvPicPr>
        <p:blipFill>
          <a:blip r:embed="rId2"/>
          <a:stretch/>
        </p:blipFill>
        <p:spPr>
          <a:xfrm>
            <a:off x="179280" y="2852640"/>
            <a:ext cx="4989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пожар случиться может, пусть не наша в том вин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т случай знаем тоже, как должны вести с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Скачать скачать презентацию на - Как написать реферат на 5?"/>
          <p:cNvPicPr/>
          <p:nvPr/>
        </p:nvPicPr>
        <p:blipFill>
          <a:blip r:embed="rId1"/>
          <a:stretch/>
        </p:blipFill>
        <p:spPr>
          <a:xfrm>
            <a:off x="1116000" y="333360"/>
            <a:ext cx="6477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1:50:02Z</dcterms:created>
  <dc:creator>Libraary</dc:creator>
  <dc:description/>
  <dc:language>en-US</dc:language>
  <cp:lastModifiedBy>klass3_comp8</cp:lastModifiedBy>
  <dcterms:modified xsi:type="dcterms:W3CDTF">2014-12-30T09:14:41Z</dcterms:modified>
  <cp:revision>4</cp:revision>
  <dc:subject/>
  <dc:title>МЫ ГОВОРИМ ПОЖАРУ – НЕТ!!!  01</dc:title>
</cp:coreProperties>
</file>