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36.jpeg" ContentType="image/jpeg"/>
  <Override PartName="/ppt/media/image4.jpeg" ContentType="image/jpeg"/>
  <Override PartName="/ppt/media/image40.png" ContentType="image/png"/>
  <Override PartName="/ppt/media/image37.jpeg" ContentType="image/jpeg"/>
  <Override PartName="/ppt/media/image12.jpeg" ContentType="image/jpeg"/>
  <Override PartName="/ppt/media/image34.jpeg" ContentType="image/jpeg"/>
  <Override PartName="/ppt/media/image7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3.png" ContentType="image/png"/>
  <Override PartName="/ppt/media/image17.jpeg" ContentType="image/jpeg"/>
  <Override PartName="/ppt/media/image6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6162-7398-4B8B-A92A-0FC469E5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44F-9550-400E-BB66-A7FC0D64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0430-52C8-4D2F-B7EC-94A48B9A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6064-3E55-4876-8021-DE367061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AEC7-7812-4BD0-B6CC-D0366883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D8EF-DE8E-4370-B9AE-3DC319AF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E347-151F-4AE8-9FB6-51FEDB29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7137-4064-4D1D-96A3-413A75AA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4E02-8C11-4D6F-B579-F90ED6C7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29C5-85FE-4F5F-9B85-BD6E2BC0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A1CA-3130-463A-ADF9-A0DE5F02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2566-291A-4707-A519-A9AB48B7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BD96-3133-479D-8771-09845AEE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305A-4A3A-4951-8173-B16C86CD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0DF5-E053-4837-8DD1-858D63B1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F8C4-D60B-4AA0-9E37-88E5F5F3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67EA-1917-410C-BEA1-DEC54A96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6706-1BA8-43E1-B066-63CDECC9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82FE-37A9-44AB-BFD7-43F4E641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742A-7281-47F5-8BE8-A2656DF1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F254-31BA-4E05-8CEE-A68CD40F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DF41-6A0A-4823-9C39-338016D5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7A1-3F95-4C29-BA14-7A165EFD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77C-B196-4147-A676-0452E7EE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C7B4-4DF3-444C-8967-D043B4FE4A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DFD4-3EAD-4CB7-ABAB-0626134EFD7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s005.radikal.ru/i210/1006/ab/e33d7bc644b7.jpg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hyperlink" Target="http://i.allday.ru/uploads/posts/2010-02/1265354229_img014.jpg" TargetMode="External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www.planetaskazok.ru/images/stories/nosov/zateiniki/img_5.jpg" TargetMode="External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hyperlink" Target="http://www.xrest.ru/images/collection/00046/114/original.jpg" TargetMode="Externa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oldbooks.ru/e-store/books/index.php?SECTION_ID=10&amp;ELEMENT_ID=145026853" TargetMode="External"/><Relationship Id="rId3" Type="http://schemas.openxmlformats.org/officeDocument/2006/relationships/image" Target="../media/image34.jpeg"/><Relationship Id="rId4" Type="http://schemas.openxmlformats.org/officeDocument/2006/relationships/hyperlink" Target="http://img11.nnm.ru/d/1/8/9/e/483a1f5ebde5ea648e692040f3e.jpg" TargetMode="External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oldbooks.ru/e-store/books/index.php?SECTION_ID=10&amp;ELEMENT_ID=144828957" TargetMode="External"/><Relationship Id="rId2" Type="http://schemas.openxmlformats.org/officeDocument/2006/relationships/image" Target="../media/image36.jpeg"/><Relationship Id="rId3" Type="http://schemas.openxmlformats.org/officeDocument/2006/relationships/hyperlink" Target="http://www.oldbooks.ru/e-store/books/index.php?SECTION_ID=10&amp;ELEMENT_ID=145068075" TargetMode="External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5/51/Nosov_N_N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ermvelikaya.ru/?p=5867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planetaskazok.ru/nnosovskz/zatejnikinosov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www.xrest/ru/overviom/635078/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www.oldbooks/ru/e-store/books/authors/detie.php?AUTHOR=144827514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100-mp3.ru/audioknigi/34841-nikolai-nosov-rebyata-snashego-dvora-audiokniga.html" TargetMode="External"/><Relationship Id="rId11" Type="http://schemas.openxmlformats.org/officeDocument/2006/relationships/image" Target="../media/image1.png"/><Relationship Id="rId12" Type="http://schemas.openxmlformats.org/officeDocument/2006/relationships/hyperlink" Target="http://vespig.wordpress.com/2010/1/22/&#1085;&#1080;&#1082;&#1086;&#1083;&#1072;&#1081;-&#1085;&#1080;&#1082;&#1086;&#1083;&#1072;&#1077;&#1074;&#1080;&#1095;-&#1085;&#1086;&#1089;&#1086;&#1074;-&#1089;&#1073;&#1086;&#1088;&#1085;&#1080;&#1082;-&#1087;&#1088;&#1086;/" TargetMode="External"/><Relationship Id="rId13" Type="http://schemas.openxmlformats.org/officeDocument/2006/relationships/image" Target="../media/image1.png"/><Relationship Id="rId14" Type="http://schemas.openxmlformats.org/officeDocument/2006/relationships/hyperlink" Target="http://www.lgz.ru/article/7123/" TargetMode="External"/><Relationship Id="rId15" Type="http://schemas.openxmlformats.org/officeDocument/2006/relationships/image" Target="../media/image1.png"/><Relationship Id="rId16" Type="http://schemas.openxmlformats.org/officeDocument/2006/relationships/hyperlink" Target="http://blogs.privet.ru/community/Skazkoved/47481354" TargetMode="External"/><Relationship Id="rId17" Type="http://schemas.openxmlformats.org/officeDocument/2006/relationships/image" Target="../media/image40.png"/><Relationship Id="rId18" Type="http://schemas.openxmlformats.org/officeDocument/2006/relationships/image" Target="../media/image40.png"/><Relationship Id="rId1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upload.wikimedia.org/wikipedia/commons/thumb/8/80/ZV0053764.jpg/600px-ZV0053764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oldbooks.ru/e-store/books/index.php?SECTION_ID=10&amp;ELEMENT_ID=145068196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oldbooks.ru/e-store/books/index.php?SECTION_ID=10&amp;ELEMENT_ID=1451468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oldbooks.ru/e-store/books/index.php?SECTION_ID=10&amp;ELEMENT_ID=145057140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arapuz.at.ua/_ld/7/747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Писатель из Солнечного города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4800600"/>
            <a:ext cx="4190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4343400" y="2138400"/>
            <a:ext cx="4114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5800" y="456840"/>
            <a:ext cx="77724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ои рассказы «Затейники», «Живая шляпа», «Огурцы», «Мишкина каша» … начал публиковать в 1938 году в журнале «Мурзил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0" descr="e33d7bc644b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2362320"/>
            <a:ext cx="2539800" cy="3352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Mu1001O1"/>
          <p:cNvPicPr/>
          <p:nvPr/>
        </p:nvPicPr>
        <p:blipFill>
          <a:blip r:embed="rId4"/>
          <a:stretch/>
        </p:blipFill>
        <p:spPr>
          <a:xfrm>
            <a:off x="6172200" y="1981080"/>
            <a:ext cx="2631960" cy="3581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Mu5304O1"/>
          <p:cNvPicPr/>
          <p:nvPr/>
        </p:nvPicPr>
        <p:blipFill>
          <a:blip r:embed="rId5"/>
          <a:stretch/>
        </p:blipFill>
        <p:spPr>
          <a:xfrm>
            <a:off x="3124080" y="2209680"/>
            <a:ext cx="30592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724280" y="533160"/>
            <a:ext cx="4114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чень многие сюжеты Николай Носов не выдумывал, а брал из жизни, общаясь с сыном и его приятелями, подсматривая и находя повсюду: на улице, в гостях, в школах, куда его приглашали на творческие встречи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85800" y="456840"/>
            <a:ext cx="77724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олай Носов с сыном Игор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2"/>
          <a:stretch/>
        </p:blipFill>
        <p:spPr>
          <a:xfrm>
            <a:off x="2666880" y="380880"/>
            <a:ext cx="35816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3809880" cy="51814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изведения Носова всегда добрые и весёлые, автор очень нежно и чутко относится к душевному строю маленького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85800" y="456840"/>
            <a:ext cx="77724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сов ввёл в детскую литературу нового героя – наивного и здравомыслящего, озорного и любознательного непоседу, одержимого жаждой деятельности и постоянно попадающего в необычные, зачастую комические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4" descr="39_CHizhikov_Vitya-Maleev-v-shkole-i-doma_3"/>
          <p:cNvPicPr/>
          <p:nvPr/>
        </p:nvPicPr>
        <p:blipFill>
          <a:blip r:embed="rId2"/>
          <a:stretch/>
        </p:blipFill>
        <p:spPr>
          <a:xfrm>
            <a:off x="5943600" y="3124080"/>
            <a:ext cx="2935440" cy="3048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2570-2"/>
          <p:cNvPicPr/>
          <p:nvPr/>
        </p:nvPicPr>
        <p:blipFill>
          <a:blip r:embed="rId3"/>
          <a:stretch/>
        </p:blipFill>
        <p:spPr>
          <a:xfrm>
            <a:off x="3200400" y="3276720"/>
            <a:ext cx="2206800" cy="3314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Герман Иванович Огородников. Иллюстрации к рассказу Н. Носова &quot;Телефон&quot;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" y="3124080"/>
            <a:ext cx="2201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886200" y="304920"/>
            <a:ext cx="50292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бавные приключения, уморительные проделки гер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в его рассказов вряд ли к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тавят равнодушным, одн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ременно ненавязчиво воспитывают в нём та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ужные представления о дружбе, добре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аведлив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Картинка 48 из 16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3581280"/>
            <a:ext cx="2552760" cy="3048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Витя Малеев друзья и мыши"/>
          <p:cNvPicPr/>
          <p:nvPr/>
        </p:nvPicPr>
        <p:blipFill>
          <a:blip r:embed="rId4"/>
          <a:stretch/>
        </p:blipFill>
        <p:spPr>
          <a:xfrm>
            <a:off x="4419720" y="3733920"/>
            <a:ext cx="41148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800" y="456840"/>
            <a:ext cx="77724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ьшую известность и любовь читателей получили его сказочные произведения о Незнай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Книга Николай Носов Незнайка в Солнечном городе"/>
          <p:cNvPicPr/>
          <p:nvPr/>
        </p:nvPicPr>
        <p:blipFill>
          <a:blip r:embed="rId2"/>
          <a:stretch/>
        </p:blipFill>
        <p:spPr>
          <a:xfrm>
            <a:off x="457200" y="2057400"/>
            <a:ext cx="2903400" cy="4114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Книга Н. Н. Носов Приключения Незнайки и его друзей"/>
          <p:cNvPicPr/>
          <p:nvPr/>
        </p:nvPicPr>
        <p:blipFill>
          <a:blip r:embed="rId3"/>
          <a:stretch/>
        </p:blipFill>
        <p:spPr>
          <a:xfrm>
            <a:off x="5715000" y="1752480"/>
            <a:ext cx="2959200" cy="4191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Картинка 24 из 250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2209680"/>
            <a:ext cx="273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5800" y="456840"/>
            <a:ext cx="77724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рокую популярность завоевали и его повести для подростков «Весёлая семейка», «Дневник Коли Синицына», «Витя Малеев в школе и дом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635120" y="628560"/>
            <a:ext cx="43052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761400" bIns="-76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635120" y="628560"/>
            <a:ext cx="43052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761400" bIns="-76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1714680" y="463680"/>
            <a:ext cx="43052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761400" bIns="-76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1714680" y="463680"/>
            <a:ext cx="43052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761400" bIns="-76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12" descr="01219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52880" y="2590920"/>
            <a:ext cx="2560680" cy="3352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Картинка 13 из 12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00200" y="2514600"/>
            <a:ext cx="2521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овесть «Витя Малеев в школе и дома» называют одной из самых удачных в творчестве Н.Носова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1" name="Picture 3" descr="0111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057400"/>
            <a:ext cx="2557440" cy="3886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01556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1905120"/>
            <a:ext cx="2692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233960" cy="4572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1640" y="10666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олай Носов умер в Москве 26 июля 1976 года. Похоронен на Кунцевском кладбище в Моск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257800" y="1371240"/>
            <a:ext cx="3200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колай Носов родился 10(23) ноября 1908 года в Киеве в семье актёра эстра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6" descr="Файл:Nosov N 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685800"/>
            <a:ext cx="4015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В 2008 году к 100-летию со дня рождения Н.Носова Центральный Банк РФ выпустил серебряную монету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943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98d43"/>
                </a:solidFill>
                <a:uFillTx/>
                <a:latin typeface="Arial"/>
                <a:hlinkClick r:id="rId2"/>
              </a:rPr>
              <a:t>http://www.permvelikaya.ru/?p=58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98d43"/>
                </a:solidFill>
                <a:uFillTx/>
                <a:latin typeface="Arial"/>
                <a:hlinkClick r:id="rId4"/>
              </a:rPr>
              <a:t>http://www.planetaskazok.ru/nnosovskz/zatejnikinos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http://www.xrest/ru/overviom/635078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98d43"/>
                </a:solidFill>
                <a:uFillTx/>
                <a:latin typeface="Arial"/>
                <a:hlinkClick r:id="rId8"/>
              </a:rPr>
              <a:t>http://www.oldbooks/ru/e-store/books/authors/detie.php?AUTHOR=1448275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98d43"/>
                </a:solidFill>
                <a:uFillTx/>
                <a:latin typeface="Arial"/>
                <a:hlinkClick r:id="rId10"/>
              </a:rPr>
              <a:t>http://100-mp3.ru/audioknigi/34841-nikolai-nosov-rebyata-snashego-dvora-audiokniga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98d43"/>
                </a:solidFill>
                <a:uFillTx/>
                <a:latin typeface="Arial"/>
                <a:hlinkClick r:id="rId12"/>
              </a:rPr>
              <a:t>http://vespig.wordpress.com/2010/1/22/николай-николаевич-носов-сборник-про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98d43"/>
                </a:solidFill>
                <a:uFillTx/>
                <a:latin typeface="Arial"/>
                <a:hlinkClick r:id="rId14"/>
              </a:rPr>
              <a:t>http://www.lgz.ru/article/7123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98d43"/>
                </a:solidFill>
                <a:uFillTx/>
                <a:latin typeface="Arial"/>
                <a:hlinkClick r:id="rId16"/>
              </a:rPr>
              <a:t>http://blogs.privet.ru/community/Skazkoved/474813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happywedding.ru/books-ozon/1090989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ikt.at/ua/publ/pamiat/literatory/25-2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publ.lib/ru/ARCHIVES/M/&amp;#x27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rzilk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_&amp;#x27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rzilk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2torrents.org/good2/2509151/del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improvisus.com/ua/skaski/19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anastgal.livejoumal.com/544413/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allday.ru/engine/print.php?newsid=2638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cccp.kg/page/4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92088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Родители Николая Носов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ец-Николай Петр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ть-Варвара Пет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2933640" cy="411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2"/>
          <a:stretch/>
        </p:blipFill>
        <p:spPr>
          <a:xfrm>
            <a:off x="5486400" y="1371600"/>
            <a:ext cx="2711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4572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ство Носова прошло в посёлке Ирпень, недалеко от Кие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м семьи Носовых в посёлке Ирп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2590920" cy="2151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1828800" y="1600200"/>
            <a:ext cx="50576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47960" y="456840"/>
            <a:ext cx="3809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носторонне одаренный мальчик, Носов с гимназических лет увлекался музыкой, театром, сочинительством- наряду с шахматами, фотографией, радиолюбительств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375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647960" y="456840"/>
            <a:ext cx="380988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кончив школу в 1924 году, Носов работал чернорабочим на заводе. В 1927-1929 годах учился в Киевском художественном институте, откуда перевелся в Московский институт кинематограф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38005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343400" y="456840"/>
            <a:ext cx="41148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932-1951 годах-режиссёр-постановщик мультипликационных, научно-популярных и учебных фильм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создание научно-популярных и учебных фильмов для военных награждён орденом Красной Звезды в 1943 го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3303720" cy="472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Картинка 5 из 806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52480" y="4114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464760"/>
            <a:ext cx="77724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словам самого Носова, в литературу он пришёл случайно: родился сын, и нужно было рассказывать всё новые и новые сказки, забавные рассказы для него и его приятелей-дошколь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286000" y="566640"/>
            <a:ext cx="43052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761400" bIns="-76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286000" y="566640"/>
            <a:ext cx="43052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761400" bIns="-76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7" descr="0157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895480"/>
            <a:ext cx="2184120" cy="28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008812-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2438280"/>
            <a:ext cx="2340000" cy="3581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01496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0400" y="2743200"/>
            <a:ext cx="23893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8368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Самый первый рассказ Николая Носова «Затейники»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8" name="Picture 3" descr="Картинка 17 из 16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447920"/>
            <a:ext cx="26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Мы с Валей держим дверь"/>
          <p:cNvPicPr/>
          <p:nvPr/>
        </p:nvPicPr>
        <p:blipFill>
          <a:blip r:embed="rId3"/>
          <a:stretch/>
        </p:blipFill>
        <p:spPr>
          <a:xfrm>
            <a:off x="304920" y="2971800"/>
            <a:ext cx="2525760" cy="3429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Мы с Валей  держим дверь в которую рвется волк"/>
          <p:cNvPicPr/>
          <p:nvPr/>
        </p:nvPicPr>
        <p:blipFill>
          <a:blip r:embed="rId4"/>
          <a:stretch/>
        </p:blipFill>
        <p:spPr>
          <a:xfrm>
            <a:off x="6248520" y="2971800"/>
            <a:ext cx="2608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6:06:36Z</dcterms:created>
  <dc:creator>рик</dc:creator>
  <dc:description/>
  <dc:language>en-US</dc:language>
  <cp:lastModifiedBy>SamLab.ws</cp:lastModifiedBy>
  <dcterms:modified xsi:type="dcterms:W3CDTF">2015-01-19T16:07:52Z</dcterms:modified>
  <cp:revision>9</cp:revision>
  <dc:subject/>
  <dc:title>Писатель из Солнечного города.</dc:title>
</cp:coreProperties>
</file>