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24A2-5A0A-4797-9506-3248A9C79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38A1-789A-4709-988D-B0A15635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53E4-7196-471A-B65E-5D30866E4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C183-39A1-4260-AD7E-84CEDA8C0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9467-72B5-4D16-8C6E-2FEA8B9A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CCA1-D185-4E7F-84E0-E6BF87F7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5A9E-43B8-444A-8A7F-42B4EEEF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7BC5-0C78-4A05-A2D6-262EB7D8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03A7-8D49-4020-B04E-CEB54EF2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2C53-C80B-473D-899A-B25B2B2C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2F67-FB51-427A-835C-60512B19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BDFF-D5DE-4EAA-8C80-4EB55183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043B-81E0-4434-8E1F-19FA4C89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C5A4-861B-41A1-AB70-55687988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3703-716E-4356-A41F-04206290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2A14-C490-4B57-9FA1-90947389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1D8F-DEEF-4767-8263-3838D8452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DDC9-01C6-4A63-A2BC-09290471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C18F-3F26-440C-ACBD-4C598429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BB67-2ABA-4566-A421-1CD7F826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2478-7CEF-4DC0-A79C-F65607D9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719B-A675-43AE-A84D-02FE1DB4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A4C4-0AD2-4070-B3B2-BB872DFD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4BA2-281A-412D-A67E-D990095E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9793-B5D4-4C8C-A925-33AD5C08127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5DA6-A1E1-4B28-981F-8903A2882616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390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Использование метода проекта в работе с детьми по нравственно-патриотическому воспитанию </a:t>
            </a:r>
            <a:r>
              <a:rPr b="0" i="1" lang="ru-RU" sz="3600" spc="-1" strike="noStrike">
                <a:solidFill>
                  <a:srgbClr val="333399"/>
                </a:solidFill>
                <a:latin typeface="Tahoma"/>
              </a:rPr>
              <a:t>(из опыта работы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4495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Выполнил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воспитатель подготовительной группы ОН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Вольнова Ольга Юрьевн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Самара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214200"/>
            <a:ext cx="818172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Мы построим крепкий дом, жить все вместе будем в нём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Picture 4" descr="C:\Documents and Settings\Admin\Рабочий стол\палатка.jpg"/>
          <p:cNvPicPr/>
          <p:nvPr/>
        </p:nvPicPr>
        <p:blipFill>
          <a:blip r:embed="rId1"/>
          <a:stretch/>
        </p:blipFill>
        <p:spPr>
          <a:xfrm>
            <a:off x="1054080" y="2133720"/>
            <a:ext cx="64897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аши папы молодцы с ними голодными не останешься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9" name="Picture 7" descr="C:\Documents and Settings\Admin\Рабочий стол\папа1.jpg"/>
          <p:cNvPicPr/>
          <p:nvPr/>
        </p:nvPicPr>
        <p:blipFill>
          <a:blip r:embed="rId1"/>
          <a:stretch/>
        </p:blipFill>
        <p:spPr>
          <a:xfrm>
            <a:off x="228600" y="2246400"/>
            <a:ext cx="3849840" cy="3392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:\Documents and Settings\Admin\Рабочий стол\папа 2.jpg"/>
          <p:cNvPicPr/>
          <p:nvPr/>
        </p:nvPicPr>
        <p:blipFill>
          <a:blip r:embed="rId2"/>
          <a:stretch/>
        </p:blipFill>
        <p:spPr>
          <a:xfrm>
            <a:off x="4648320" y="2895480"/>
            <a:ext cx="3886200" cy="36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роект «Наши любимые сказки»</a:t>
            </a:r>
            <a:br>
              <a:rPr sz="2800"/>
            </a:b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Экскурсия в музей</a:t>
            </a:r>
            <a:br>
              <a:rPr sz="2800"/>
            </a:b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А.Толстого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2" name="Picture 5" descr="C:\Documents and Settings\Admin\Рабочий стол\музей1.jpg"/>
          <p:cNvPicPr/>
          <p:nvPr/>
        </p:nvPicPr>
        <p:blipFill>
          <a:blip r:embed="rId1"/>
          <a:stretch/>
        </p:blipFill>
        <p:spPr>
          <a:xfrm>
            <a:off x="380880" y="2209680"/>
            <a:ext cx="3810240" cy="3275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C:\Documents and Settings\Admin\Рабочий стол\музей2.jpg"/>
          <p:cNvPicPr/>
          <p:nvPr/>
        </p:nvPicPr>
        <p:blipFill>
          <a:blip r:embed="rId2"/>
          <a:stretch/>
        </p:blipFill>
        <p:spPr>
          <a:xfrm>
            <a:off x="4572000" y="2743200"/>
            <a:ext cx="388620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213840"/>
            <a:ext cx="818172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оект «Наша Армия»</a:t>
            </a:r>
            <a:br>
              <a:rPr sz="4000"/>
            </a:br>
            <a:r>
              <a:rPr b="0" i="1" lang="ru-RU" sz="4000" spc="-1" strike="noStrike">
                <a:solidFill>
                  <a:srgbClr val="333399"/>
                </a:solidFill>
                <a:latin typeface="Tahoma"/>
              </a:rPr>
              <a:t>Экскурсия в воинскую часть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5" name="Picture 4" descr="C:\Documents and Settings\Admin\Рабочий стол\воинская часть.jpg"/>
          <p:cNvPicPr/>
          <p:nvPr/>
        </p:nvPicPr>
        <p:blipFill>
          <a:blip r:embed="rId1"/>
          <a:stretch/>
        </p:blipFill>
        <p:spPr>
          <a:xfrm>
            <a:off x="609480" y="2546280"/>
            <a:ext cx="4724640" cy="3062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C:\Documents and Settings\Admin\Рабочий стол\самолет.jpg"/>
          <p:cNvPicPr/>
          <p:nvPr/>
        </p:nvPicPr>
        <p:blipFill>
          <a:blip r:embed="rId2"/>
          <a:stretch/>
        </p:blipFill>
        <p:spPr>
          <a:xfrm>
            <a:off x="5638680" y="2743200"/>
            <a:ext cx="296892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30556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Tahoma"/>
              </a:rPr>
              <a:t>Фото на память.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Picture 4" descr="C:\Documents and Settings\Admin\Рабочий стол\общее фото.jpg"/>
          <p:cNvPicPr/>
          <p:nvPr/>
        </p:nvPicPr>
        <p:blipFill>
          <a:blip r:embed="rId1"/>
          <a:stretch/>
        </p:blipFill>
        <p:spPr>
          <a:xfrm>
            <a:off x="1676520" y="1981080"/>
            <a:ext cx="5638680" cy="42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214200"/>
            <a:ext cx="8410320" cy="374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3399"/>
                </a:solidFill>
                <a:latin typeface="Tahoma"/>
              </a:rPr>
              <a:t>Спасибо за внимание.</a:t>
            </a:r>
            <a:endParaRPr b="0" lang="en-US" sz="8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79246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оект «Герои войны».</a:t>
            </a:r>
            <a:br>
              <a:rPr sz="4000"/>
            </a:b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Экскурсия в библиотеку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30081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Tahoma"/>
              </a:rPr>
              <a:t>Встреча с ветеранами Великой Отечественной Войны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Picture 6" descr="C:\Documents and Settings\Admin\Рабочий стол\библиотека.jpg"/>
          <p:cNvPicPr/>
          <p:nvPr/>
        </p:nvPicPr>
        <p:blipFill>
          <a:blip r:embed="rId1"/>
          <a:stretch/>
        </p:blipFill>
        <p:spPr>
          <a:xfrm>
            <a:off x="5029200" y="1866960"/>
            <a:ext cx="38098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2320" y="228240"/>
            <a:ext cx="779328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Маленькие герои войны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5" name="Picture 6" descr="F:\РАБОТА\Ромашка 1 Библиотека\Фото006.jpg"/>
          <p:cNvPicPr/>
          <p:nvPr/>
        </p:nvPicPr>
        <p:blipFill>
          <a:blip r:embed="rId1"/>
          <a:stretch/>
        </p:blipFill>
        <p:spPr>
          <a:xfrm>
            <a:off x="3657600" y="3160800"/>
            <a:ext cx="1825560" cy="2281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C:\Documents and Settings\Admin\Рабочий стол\Фото003.jpg"/>
          <p:cNvPicPr/>
          <p:nvPr/>
        </p:nvPicPr>
        <p:blipFill>
          <a:blip r:embed="rId2"/>
          <a:stretch/>
        </p:blipFill>
        <p:spPr>
          <a:xfrm>
            <a:off x="76320" y="2438280"/>
            <a:ext cx="3429000" cy="4286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C:\Documents and Settings\Admin\Рабочий стол\Фото004.jpg"/>
          <p:cNvPicPr/>
          <p:nvPr/>
        </p:nvPicPr>
        <p:blipFill>
          <a:blip r:embed="rId3"/>
          <a:stretch/>
        </p:blipFill>
        <p:spPr>
          <a:xfrm>
            <a:off x="5638680" y="1778040"/>
            <a:ext cx="332928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C:\Documents and Settings\Admin\Рабочий стол\Изображение 073.jpg"/>
          <p:cNvPicPr/>
          <p:nvPr/>
        </p:nvPicPr>
        <p:blipFill>
          <a:blip r:embed="rId1"/>
          <a:stretch/>
        </p:blipFill>
        <p:spPr>
          <a:xfrm>
            <a:off x="304920" y="2209680"/>
            <a:ext cx="4471920" cy="33530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4866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Мы поздравляем ветеранов войны с днем победы 9 мая.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Для них мы танцуем и поем.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Picture 6" descr="C:\Documents and Settings\Admin\Рабочий стол\Изображение 067.jpg"/>
          <p:cNvPicPr/>
          <p:nvPr/>
        </p:nvPicPr>
        <p:blipFill>
          <a:blip r:embed="rId2"/>
          <a:stretch/>
        </p:blipFill>
        <p:spPr>
          <a:xfrm>
            <a:off x="4064040" y="2895480"/>
            <a:ext cx="4573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оект «Космос глазами детей»</a:t>
            </a:r>
            <a:br>
              <a:rPr sz="4000"/>
            </a:br>
            <a:r>
              <a:rPr b="0" i="1" lang="ru-RU" sz="3600" spc="-1" strike="noStrike">
                <a:solidFill>
                  <a:srgbClr val="333399"/>
                </a:solidFill>
                <a:latin typeface="Tahoma"/>
              </a:rPr>
              <a:t>Экскурсия в СГАУ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Picture 4" descr="C:\Documents and Settings\Admin\Рабочий стол\P1000199.JPG"/>
          <p:cNvPicPr/>
          <p:nvPr/>
        </p:nvPicPr>
        <p:blipFill>
          <a:blip r:embed="rId1"/>
          <a:stretch/>
        </p:blipFill>
        <p:spPr>
          <a:xfrm>
            <a:off x="1523880" y="2095560"/>
            <a:ext cx="563904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Когда мы вырастим мы тоже полетим к звёздам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Picture 6" descr="C:\Documents and Settings\Admin\Рабочий стол\P1000213.JPG"/>
          <p:cNvPicPr/>
          <p:nvPr/>
        </p:nvPicPr>
        <p:blipFill>
          <a:blip r:embed="rId1"/>
          <a:stretch/>
        </p:blipFill>
        <p:spPr>
          <a:xfrm>
            <a:off x="0" y="1876320"/>
            <a:ext cx="3124080" cy="3152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C:\Documents and Settings\Admin\Рабочий стол\P1000229.JPG"/>
          <p:cNvPicPr/>
          <p:nvPr/>
        </p:nvPicPr>
        <p:blipFill>
          <a:blip r:embed="rId2"/>
          <a:stretch/>
        </p:blipFill>
        <p:spPr>
          <a:xfrm>
            <a:off x="3200400" y="2438280"/>
            <a:ext cx="2678040" cy="3571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C:\Documents and Settings\Admin\Рабочий стол\P1000210.JPG"/>
          <p:cNvPicPr/>
          <p:nvPr/>
        </p:nvPicPr>
        <p:blipFill>
          <a:blip r:embed="rId3"/>
          <a:srcRect l="20310" t="0" r="0" b="0"/>
          <a:stretch/>
        </p:blipFill>
        <p:spPr>
          <a:xfrm>
            <a:off x="6019920" y="3809880"/>
            <a:ext cx="296856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ект «Дары осени»</a:t>
            </a:r>
            <a:br>
              <a:rPr sz="4400"/>
            </a:br>
            <a:r>
              <a:rPr b="0" i="1" lang="ru-RU" sz="3600" spc="-1" strike="noStrike">
                <a:solidFill>
                  <a:srgbClr val="333399"/>
                </a:solidFill>
                <a:latin typeface="Tahoma"/>
              </a:rPr>
              <a:t>Ярмарка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Picture 5" descr="DSCF3316"/>
          <p:cNvPicPr/>
          <p:nvPr/>
        </p:nvPicPr>
        <p:blipFill>
          <a:blip r:embed="rId1"/>
          <a:stretch/>
        </p:blipFill>
        <p:spPr>
          <a:xfrm>
            <a:off x="228600" y="2286000"/>
            <a:ext cx="4114800" cy="3486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9" name="Picture 6" descr="DSCF3267"/>
          <p:cNvPicPr/>
          <p:nvPr/>
        </p:nvPicPr>
        <p:blipFill>
          <a:blip r:embed="rId2"/>
          <a:stretch/>
        </p:blipFill>
        <p:spPr>
          <a:xfrm>
            <a:off x="4800600" y="2819520"/>
            <a:ext cx="4191120" cy="3349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ект «Проводы зимы»</a:t>
            </a:r>
            <a:br>
              <a:rPr sz="4400"/>
            </a:br>
            <a:r>
              <a:rPr b="0" i="1" lang="ru-RU" sz="3600" spc="-1" strike="noStrike">
                <a:solidFill>
                  <a:srgbClr val="333399"/>
                </a:solidFill>
                <a:latin typeface="Tahoma"/>
              </a:rPr>
              <a:t>Маслениц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Picture 7" descr="PICT0020"/>
          <p:cNvPicPr/>
          <p:nvPr/>
        </p:nvPicPr>
        <p:blipFill>
          <a:blip r:embed="rId1"/>
          <a:stretch/>
        </p:blipFill>
        <p:spPr>
          <a:xfrm>
            <a:off x="4813200" y="2057400"/>
            <a:ext cx="4089600" cy="3067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PICT0023"/>
          <p:cNvPicPr/>
          <p:nvPr/>
        </p:nvPicPr>
        <p:blipFill>
          <a:blip r:embed="rId2"/>
          <a:stretch/>
        </p:blipFill>
        <p:spPr>
          <a:xfrm>
            <a:off x="304920" y="3048120"/>
            <a:ext cx="427968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ект «Наш город»</a:t>
            </a:r>
            <a:br>
              <a:rPr sz="4400"/>
            </a:br>
            <a:r>
              <a:rPr b="0" i="1" lang="ru-RU" sz="3600" spc="-1" strike="noStrike">
                <a:solidFill>
                  <a:srgbClr val="333399"/>
                </a:solidFill>
                <a:latin typeface="Tahoma"/>
              </a:rPr>
              <a:t>Туристический похо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Picture 5" descr="C:\Documents and Settings\Admin\Рабочий стол\PICT0005.JPG"/>
          <p:cNvPicPr/>
          <p:nvPr/>
        </p:nvPicPr>
        <p:blipFill>
          <a:blip r:embed="rId1"/>
          <a:stretch/>
        </p:blipFill>
        <p:spPr>
          <a:xfrm>
            <a:off x="304920" y="213372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C:\Documents and Settings\Admin\Рабочий стол\PICT0022.JPG"/>
          <p:cNvPicPr/>
          <p:nvPr/>
        </p:nvPicPr>
        <p:blipFill>
          <a:blip r:embed="rId2"/>
          <a:stretch/>
        </p:blipFill>
        <p:spPr>
          <a:xfrm>
            <a:off x="4572000" y="322272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wner</cp:lastModifiedBy>
  <dcterms:modified xsi:type="dcterms:W3CDTF">2015-01-19T10:21:26Z</dcterms:modified>
  <cp:revision>1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