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712A-F693-493F-B71A-A9060EB7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40F2-9F2C-4012-AFD5-10E3D0D6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8B7F-981B-46E3-8953-B4D9093E1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D514-40BC-4D2E-9CB2-60704F518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42B6-E8DE-43D7-85CF-52BC911F9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7DA6-A15C-4B88-ABED-EDFC1EE8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D5B6-FE8C-4A56-B160-026DC3AF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5CC5-F52A-40CF-AC24-7C5F7B7F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0878-D611-49B3-90F8-7F150646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9B48-0CC8-46E3-BBBE-0CC7AC04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04BF-8E08-4342-8CCA-620FE4A7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7208-AF4B-4773-8556-D7F19855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5557-6323-4F88-9486-62A38E14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2E14-56FE-432A-AACF-29D98ED7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525A-F499-49F1-955B-BB6C430A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C015-8F5B-440B-A1A7-4CE0D9D3C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C190-3263-4D4A-A8A8-40CEFE4C9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CE04-DB53-4EDD-B85D-6F18A19F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8B0C-09FD-4401-B630-142BA51D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8C67-2577-4CFE-AB51-47AA2D5F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64CB-FA74-4EDA-BA6A-933AF881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793B-337C-499B-A282-F223E83F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1033-3779-404C-826A-30480E22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C06A-59A6-4293-9BF0-7C02A5AB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2181-4AEF-44C1-89A4-5E18B411415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6188-DB73-48FE-AB01-826409ABF23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атриотическое воспитание учащихся через оформление кабинета истор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00360" y="3068640"/>
            <a:ext cx="49798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АВТОР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ПОЛЯКОВА</a:t>
            </a:r>
            <a:br>
              <a:rPr sz="2800"/>
            </a:b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Владислава Валентиновн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2338560" y="115920"/>
            <a:ext cx="4321080" cy="692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БОУ средняя школа №15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773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УГОЛОК БОЕВОЙ СЛАВ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Picture 3" descr="IMG_2022"/>
          <p:cNvPicPr/>
          <p:nvPr/>
        </p:nvPicPr>
        <p:blipFill>
          <a:blip r:embed="rId1"/>
          <a:stretch/>
        </p:blipFill>
        <p:spPr>
          <a:xfrm>
            <a:off x="1187280" y="2471760"/>
            <a:ext cx="640908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55640" y="2635200"/>
            <a:ext cx="651672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тема урока: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«Холодная война»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4120" y="773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УГОЛОК БОЕВОЙ СЛАВ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755640" y="3716280"/>
            <a:ext cx="8209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дтема: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частие воинов-интернационалистов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в региональных конфликта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фганская война 1979 – 1989 г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40"/>
                            </p:stCondLst>
                            <p:childTnLst>
                              <p:par>
                                <p:cTn id="165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773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УГОЛОК БОЕВОЙ СЛАВ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55640" y="3592080"/>
            <a:ext cx="7693200" cy="27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основание тем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стория Афганской войн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частие воинов-интернационалист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удьба отдельных герое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755640" y="2708280"/>
            <a:ext cx="6516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ценарий урок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6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6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60"/>
                            </p:stCondLst>
                            <p:childTnLst>
                              <p:par>
                                <p:cTn id="1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60"/>
                            </p:stCondLst>
                            <p:childTnLst>
                              <p:par>
                                <p:cTn id="1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773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УГОЛОК БОЕВОЙ СЛАВ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7" name="Picture 3" descr="IMG_2029"/>
          <p:cNvPicPr/>
          <p:nvPr/>
        </p:nvPicPr>
        <p:blipFill>
          <a:blip r:embed="rId1"/>
          <a:stretch/>
        </p:blipFill>
        <p:spPr>
          <a:xfrm>
            <a:off x="1042920" y="2373480"/>
            <a:ext cx="6481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9280" y="2728800"/>
            <a:ext cx="896472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3366"/>
                </a:solidFill>
                <a:latin typeface="Arial"/>
              </a:rPr>
              <a:t>Наглядность Уголка Боевой Славы</a:t>
            </a:r>
            <a:endParaRPr b="0" lang="en-US" sz="37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3366"/>
                </a:solidFill>
                <a:latin typeface="Arial"/>
              </a:rPr>
              <a:t>вызывает бурный эмоциональный интерес учащихся, что приводит к высоким показателям успеваемости по данной теме</a:t>
            </a:r>
            <a:endParaRPr b="0" lang="en-US" sz="3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4120" y="773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УГОЛОК БОЕВОЙ СЛАВ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6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773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атриотическое воспитание молодежи на уроках истории и во внеурочное врем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468360" y="3573360"/>
            <a:ext cx="835164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679320" y="3213000"/>
            <a:ext cx="792504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Ч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826920" y="4292640"/>
            <a:ext cx="76932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спользование оформления кабинета (уголка Боевой Славы) для формирования познавательной деятельности учащихс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влечение учащихся к углубленному изучению предмета в рамках уро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75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215"/>
                            </p:stCondLst>
                            <p:childTnLst>
                              <p:par>
                                <p:cTn id="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715"/>
                            </p:stCondLst>
                            <p:childTnLst>
                              <p:par>
                                <p:cTn id="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34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79280" y="2361960"/>
            <a:ext cx="8964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Уголок Боевой Славы</a:t>
            </a:r>
            <a:br>
              <a:rPr sz="3600"/>
            </a:b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отдельного парашютно-десантного</a:t>
            </a:r>
            <a:br>
              <a:rPr sz="3600"/>
            </a:b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345 полка им. 70-летия</a:t>
            </a:r>
            <a:br>
              <a:rPr sz="3600"/>
            </a:b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Ленинского комсомол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826920" y="5013360"/>
            <a:ext cx="792504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оздан в сентябре 2011 год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4120" y="773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УГОЛОК БОЕВОЙ СЛАВ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80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360"/>
                            </p:stCondLst>
                            <p:childTnLst>
                              <p:par>
                                <p:cTn id="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773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УГОЛОК БОЕВОЙ СЛАВ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Picture 6" descr="IMG_2027"/>
          <p:cNvPicPr/>
          <p:nvPr/>
        </p:nvPicPr>
        <p:blipFill>
          <a:blip r:embed="rId1"/>
          <a:stretch/>
        </p:blipFill>
        <p:spPr>
          <a:xfrm>
            <a:off x="1187280" y="2397240"/>
            <a:ext cx="640908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9280" y="2491920"/>
            <a:ext cx="8964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Активное участие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в создании Уголка принял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ветераны Афганской войны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1979 – 1989 гг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4120" y="773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УГОЛОК БОЕВОЙ СЛАВ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4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60"/>
                            </p:stCondLst>
                            <p:childTnLst>
                              <p:par>
                                <p:cTn id="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48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773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УГОЛОК БОЕВОЙ СЛАВ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Picture 4" descr="IMG_1539"/>
          <p:cNvPicPr/>
          <p:nvPr/>
        </p:nvPicPr>
        <p:blipFill>
          <a:blip r:embed="rId1"/>
          <a:stretch/>
        </p:blipFill>
        <p:spPr>
          <a:xfrm>
            <a:off x="900000" y="2376360"/>
            <a:ext cx="6624720" cy="44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9280" y="2728800"/>
            <a:ext cx="896472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3366"/>
                </a:solidFill>
                <a:latin typeface="Arial"/>
              </a:rPr>
              <a:t>С момента открытия  в Уголке</a:t>
            </a:r>
            <a:endParaRPr b="0" lang="en-US" sz="37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3366"/>
                </a:solidFill>
                <a:latin typeface="Arial"/>
              </a:rPr>
              <a:t>уже проведен ряд мероприятий</a:t>
            </a:r>
            <a:endParaRPr b="0" lang="en-US" sz="37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3700" spc="-1" strike="noStrike">
                <a:solidFill>
                  <a:srgbClr val="003366"/>
                </a:solidFill>
                <a:latin typeface="Arial"/>
              </a:rPr>
              <a:t>(встреча с ветеранами, лекции)</a:t>
            </a:r>
            <a:endParaRPr b="0" lang="en-US" sz="3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34120" y="773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УГОЛОК БОЕВОЙ СЛАВ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96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773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УГОЛОК БОЕВОЙ СЛАВ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Picture 3" descr="IMG_1528"/>
          <p:cNvPicPr/>
          <p:nvPr/>
        </p:nvPicPr>
        <p:blipFill>
          <a:blip r:embed="rId1"/>
          <a:stretch/>
        </p:blipFill>
        <p:spPr>
          <a:xfrm>
            <a:off x="1116000" y="2441520"/>
            <a:ext cx="6480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2707920"/>
            <a:ext cx="8964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наибольший интерес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у учащихся вызвал урок, посвященный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366"/>
                </a:solidFill>
                <a:latin typeface="Arial"/>
              </a:rPr>
              <a:t>выводу Советских войск из Афганистана </a:t>
            </a:r>
            <a:endParaRPr b="0" lang="en-US" sz="3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4120" y="773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УГОЛОК БОЕВОЙ СЛАВ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20"/>
                            </p:stCondLst>
                            <p:childTnLst>
                              <p:par>
                                <p:cTn id="1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5:16:02Z</dcterms:created>
  <dc:creator>Poliakov</dc:creator>
  <dc:description/>
  <dc:language>en-US</dc:language>
  <cp:lastModifiedBy>admin</cp:lastModifiedBy>
  <dcterms:modified xsi:type="dcterms:W3CDTF">2015-01-19T14:53:50Z</dcterms:modified>
  <cp:revision>25</cp:revision>
  <dc:subject/>
  <dc:title>Патриотическое воспитание учащихся через оформление кабинета истории</dc:title>
</cp:coreProperties>
</file>