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025-BCA1-4C54-8B96-622A55FC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1EF-2986-4DCB-A92E-6329F7B6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502-DB66-4ED9-A127-EC719C07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46F-D40A-43FE-9C34-BE8FCBBD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48DC-7356-4627-ACB2-4FF05B4E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6C6-15D4-49B5-A72D-459AD6FE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C4F3-5959-4348-BEB8-2F4B848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CC4-D6DF-49DA-9635-58938E7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BE71-4B18-4BB9-9D54-A104A9C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A184-99F7-4562-810B-0A3F47DF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10D-363E-461C-8914-2D71C93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E42-1C5C-4359-8E4A-E9776FB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8A4-9A45-42AE-9DC6-FCC2274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05AC-55AF-4FFC-98E4-BA74EAA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6523-5FF0-4859-A15A-C75E548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1D5A-F20B-487F-B661-A2D2709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F598-4B13-4431-AEC7-570D7BBA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542-879D-42A9-9433-7E835121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3D6-B378-474F-A886-0210F09C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202-760F-4E77-823A-967CBA6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EB5-D46A-4DE8-9E9A-014BB099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9CB-DB93-4875-A1C9-CA3D482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E9E-5AC2-49B9-92C3-B3C6516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ACA-47D4-42AC-92C6-AE6D16A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B9C1-C7E3-40E3-BFAC-7879F8764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1D4-EEF4-4405-B7B1-9276A74FC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PRESENT PROGRESSIV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ем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PROGRESSIV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используем тогда, когда говорим о чем-нибудь, присходящим сейчас, в данный момен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ем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PROGRESSIV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используем тогда, когда говорим о чем-нибудь, что случится в конкретный момент в будущ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Во времени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RESENT PROGRESSIVE 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мы прибавляем к неопределенной форме глагола окончание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at – eat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clean – clean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pend – spend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read - read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429000" y="6858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Если глагол оканчивается на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–е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, то в форме с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 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отсутствует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–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have – hav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drive – driv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hide – hid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make – mak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hine - shin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Если глагол оканчивается на согласный, перед которым стоит один гласный, то в форме с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–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согласный удваи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it – sitt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ut – putt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wim – swimm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run - runn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eter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 EAT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c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Susan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 DRAW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sn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Johnn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 THROW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b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obb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 FIGHT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with PA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Alex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 HAV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m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wo boys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RE LEARN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r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ll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really good fun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he children from naughty grade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09680" y="3808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Ron is in naughty grade 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During this week Ron and his friends are planning to do rather unusual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Monday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y’RE CLEAN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th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Tuesday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y’RE PAINT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the p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Wednesday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y’RE SPEND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a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352680" y="6858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Thursday the boys from Ron’s class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RE SING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some psalms at a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Friday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y’RE READ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a book on pirates and bad captain H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Saturday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y’RE SHOWING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a play. There’s The Snow Queen, Gerda and K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On Sunday Ron’S FLYING to Rome. For a month he IS LEAVING his h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В состав времени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RESENT PROGRESSIVE 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входят формы особого глагола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 BE (AM, IS, ARE)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+ 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форма с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–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Её мы образуем, прибавляя к неопределённой форме глагола окончание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8120" y="6094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MEMBE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m do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my home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w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talk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S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scr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her kn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feed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he pup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draw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f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listen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mus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he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lift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he b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00200" y="6094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FFIRMATIV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257800" y="76212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ТВЕРДИТЕЛЬНАЯ ФОРМ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m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oing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my home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you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w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V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alk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moth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s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r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her kne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i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feeding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he puppi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raw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f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listen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music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he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lifting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a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19320" y="91440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0" y="762120"/>
            <a:ext cx="421956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ОПРОСИТЕЛЬНАЯ ФОРМ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m not do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my home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not w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not talk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S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not scr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her kn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not feed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he pup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not draw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f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not listen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o mus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he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not lift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a b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19320" y="68580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GATIV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685800"/>
            <a:ext cx="373356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ТРИЦАТЕЛЬНАЯ ФОРМ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В вопросительной форме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M, IS, ARE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«перепрыгивают» на место перед подлежащи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 watch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you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watching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V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В отрицательной форме после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M, IS,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мы ставим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not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feed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he pup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not/isn’t feeding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the pup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95480" y="609480"/>
            <a:ext cx="4496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MEMBE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38:47Z</dcterms:created>
  <dc:creator>папа</dc:creator>
  <dc:description/>
  <dc:language>en-US</dc:language>
  <cp:lastModifiedBy>папа</cp:lastModifiedBy>
  <dcterms:modified xsi:type="dcterms:W3CDTF">2009-04-13T14:54:51Z</dcterms:modified>
  <cp:revision>6</cp:revision>
  <dc:subject/>
  <dc:title>PRESENT PROGRESSIVE</dc:title>
</cp:coreProperties>
</file>