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669-9763-4C43-9EBD-F73787EA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3C9-EF83-4192-A5C4-4AEAE68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97C-FF51-4F61-BFBA-6F30DE3D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9CB-F09B-4B96-9816-96173105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70D1-B67F-4F1F-B947-C498CE3E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6264-099D-4943-8D35-14E235A0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E778-D9A5-4C1F-8066-10FC3C37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D3F9-48B9-47D5-9438-0F0B4F3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CFF0-F1F7-4F83-88CF-738F98F4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ABED-919A-4641-BE7D-7C060271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8E10-D6F7-4DF8-80DD-0CEB6236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F63-E85E-4426-B3AC-C7A82071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ADAB-CEAA-49A8-9789-E83255C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29C2-5046-4BB3-AE67-51B4CFE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628F-F557-43C7-B966-4E1E3932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986A-723B-4BC8-8E47-204D4E41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1447-2BD8-4D54-826C-DD59A0EB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363-E081-415D-85B6-8C595483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126-E7F7-43B2-BD43-CF5BE878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D07-E282-4ED1-BCDF-D1FECF9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72B-F180-4103-9827-13D98F13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94C-B83F-41EB-BFAC-0C99F382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4B9-1C2D-45DF-96E1-BF6FE2A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744-0AC4-422E-ABC7-CB45C301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4AE5-8D63-4029-854A-2E5FBE678819}" type="slidenum"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FB07-3BEB-471E-868F-6ED19BAC006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14400"/>
            <a:ext cx="83818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ESENT SIMPLE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g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schoo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st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t ho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work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Pragu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e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liv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Ro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play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ll da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riv</a:t>
            </a: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ast trai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read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ench book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fly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et pl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76520" y="9144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AFFIRMATIVE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g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schoo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stay</a:t>
            </a: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 hom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e</a:t>
            </a: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wor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Pragu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he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li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Rom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t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ll da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e</a:t>
            </a: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rive</a:t>
            </a: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st train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rea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rench book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fl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jet plan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81080" y="914400"/>
            <a:ext cx="5181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QUESTIONS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o not g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schoo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o not st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t ho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oes not wor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Pragu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e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oes not li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Ro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oes not pl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ll da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o not dri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ast trai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o not rea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rench book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do not fl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jet pl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057400" y="7621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NEGATIVE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s, I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s, you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s, h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s, sh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s, it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s, w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s, you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s, they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, I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n’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, you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n’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, h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esn’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, sh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esn’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, it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esn’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, w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n’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, you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n’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, they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19320" y="838080"/>
            <a:ext cx="6476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SHORT ANSWERS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Эти слова часто сопровождают глаголы в </a:t>
            </a:r>
            <a:r>
              <a:rPr b="0" lang="en-US" sz="4000" spc="-1" strike="noStrike">
                <a:solidFill>
                  <a:srgbClr val="99ccff"/>
                </a:solidFill>
                <a:latin typeface="Times New Roman"/>
              </a:rPr>
              <a:t>PRESENT SIMPLE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ccff"/>
                </a:solidFill>
                <a:uFillTx/>
                <a:latin typeface="Times New Roman"/>
              </a:rPr>
              <a:t>Always, usually, often, sometimes, seldom, rarely, neve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905120" y="45720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REMEMBER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alway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like to smile at you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nev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let boys bully you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often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think that I love you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sometime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dream I”ll marry you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457200"/>
            <a:ext cx="91440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ТОЯЩЕЕ ПРОСТОЕ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ВРЕМЯ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Время </a:t>
            </a: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PRESENT SIMPL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ы используем тогда, когда говорим о происходящем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обычно, часто, каждый</a:t>
            </a:r>
            <a:r>
              <a:rPr b="0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день</a:t>
            </a:r>
            <a:r>
              <a:rPr b="0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 и т. д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28800" y="685800"/>
            <a:ext cx="5334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REMEMBER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get 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every morning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dres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comb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hair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pack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y old green schoolba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tak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y teddy bea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Время </a:t>
            </a: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PRESENT SIMPL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ы используем тогда, когда говорим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об очевидных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вещах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, например, что медведи спят зимой, а верблюды живут в пустыне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3720" y="762120"/>
            <a:ext cx="4876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REMEMBER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mels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liv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n the desert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gers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run</a:t>
            </a: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y fast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ue whales </a:t>
            </a:r>
            <a:r>
              <a:rPr b="0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swim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n the ocean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nosaurs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come</a:t>
            </a: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om the pas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третьем лице единственного числа мы прибавляем к глаголу </a:t>
            </a:r>
            <a:r>
              <a:rPr b="1" lang="ru-RU" sz="3200" spc="-1" strike="noStrike" u="sng">
                <a:solidFill>
                  <a:srgbClr val="99ccff"/>
                </a:solidFill>
                <a:uFillTx/>
                <a:latin typeface="Times New Roman"/>
              </a:rPr>
              <a:t>–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пример,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he,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she, it play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сли глагол оканчивается на шипящий или свистящий – прибавляем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–es</a:t>
            </a:r>
            <a:r>
              <a:rPr b="1" lang="ru-RU" sz="3200" spc="-1" strike="noStrike" u="sng">
                <a:solidFill>
                  <a:srgbClr val="99ccff"/>
                </a:solidFill>
                <a:uFillTx/>
                <a:latin typeface="Times New Roman"/>
              </a:rPr>
              <a:t>,</a:t>
            </a:r>
            <a:r>
              <a:rPr b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пример,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he, she, it pushes, dres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сли глагол оканчивается на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–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сле согласного, то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–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 меняем на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–i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добавляем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–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пример,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cry, fly – he,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she, it cries, fl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00200" y="83808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REMEMBER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Вопросы мы задаем при помощи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и </a:t>
            </a: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DO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DO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относится к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e, she, it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ccff"/>
                </a:solidFill>
                <a:uFillTx/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к остальным лицам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53352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ВОПРОСЫ В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PRESENT SIMPLE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рицания образуются при помощи </a:t>
            </a: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DO NOT/ DON’T, DOES NOT/ DOESN’T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DOES NOT/ DOESN’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носится к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he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he, 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ccff"/>
                </a:solidFill>
                <a:uFillTx/>
                <a:latin typeface="Times New Roman"/>
              </a:rPr>
              <a:t>DO NOT/ DON’T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 остальным лица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вопросах и отрицаниях глагол выступает в неопределенной форм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676520" y="914400"/>
            <a:ext cx="6019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ОТРИЦАНИЯ В 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RESENT SIMPLE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09-05-17T05:29:09Z</dcterms:modified>
  <cp:revision>1</cp:revision>
  <dc:subject/>
  <dc:title>PowerPoint Presentation</dc:title>
</cp:coreProperties>
</file>